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CCA-18FA-4A80-9AA1-304909A6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1E0-A55B-4763-9C48-736D8A09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A98-B133-4279-A299-CC79C44B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B93-B4BD-49D2-9DB9-88DC6D49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3A8-1234-4262-B5E0-586137C7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757-74B7-47DE-93C2-D557B8DB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1A2-1097-4978-B316-6300AEB3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3CC-1CCD-4028-A642-1B79F7A2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C0A-22FB-430E-84B8-C70E8F4A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286-EE1D-47D7-B34A-991CCC6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6F7-942C-47F1-AE75-17F5BD9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E5A-4C1A-49C2-B95F-9186909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B1D2-26B5-447E-B49F-E0F24AE45A65}" type="datetime3">
              <a:rPr b="0" lang="en-US" sz="1400" spc="-1" strike="noStrike">
                <a:solidFill>
                  <a:srgbClr val="c0c0c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74B7-E19D-46AD-B4F0-619B0767DEE3}" type="slidenum">
              <a:rPr b="0" lang="en-US" sz="14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19640" y="2421000"/>
            <a:ext cx="5508360" cy="338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008000" cy="932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4360" y="11592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1CS3: ICT in the Pre-School and Primar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leston.cheshire.sch.uk/projects/projects.htm" TargetMode="External"/><Relationship Id="rId2" Type="http://schemas.openxmlformats.org/officeDocument/2006/relationships/hyperlink" Target="http://ambleweb.digitalbrain.com/ambleweb/ambleweb/ambleweb/barnstory/intro.htm" TargetMode="External"/><Relationship Id="rId3" Type="http://schemas.openxmlformats.org/officeDocument/2006/relationships/hyperlink" Target="http://www.edleston.cheshire.sch.uk/projects/projects.htm" TargetMode="External"/><Relationship Id="rId4" Type="http://schemas.openxmlformats.org/officeDocument/2006/relationships/hyperlink" Target="http://www.edleston.cheshire.sch.uk/projects/Mystery/mystery.htm" TargetMode="External"/><Relationship Id="rId5" Type="http://schemas.openxmlformats.org/officeDocument/2006/relationships/hyperlink" Target="http://www.edleston.cheshire.sch.uk/projects/IntStory/moon.htm" TargetMode="External"/><Relationship Id="rId6" Type="http://schemas.openxmlformats.org/officeDocument/2006/relationships/hyperlink" Target="http://www.edleston.cheshire.sch.uk/projects/theme/page1.htm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itc.education.ed.ac.uk/Case_Studies/whitfield/pages/pr.htm" TargetMode="External"/><Relationship Id="rId2" Type="http://schemas.openxmlformats.org/officeDocument/2006/relationships/hyperlink" Target="http://www.edleston.cheshire.sch.uk/projects/poetry/poetry.htm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mbleweb.digitalbrain.com/ambleweb/ambleweb/ambleweb/digitalarts.htm" TargetMode="External"/><Relationship Id="rId2" Type="http://schemas.openxmlformats.org/officeDocument/2006/relationships/hyperlink" Target="http://www.edleston.cheshire.sch.uk/projects/Project/Description.htm" TargetMode="External"/><Relationship Id="rId3" Type="http://schemas.openxmlformats.org/officeDocument/2006/relationships/hyperlink" Target="http://www.edleston.cheshire.sch.uk/projects/flashworkshop/workshop.htm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ented.org.uk/ngfl/ssheet/index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osegrovenursery.freeserve.co.uk/Page1.html" TargetMode="External"/><Relationship Id="rId2" Type="http://schemas.openxmlformats.org/officeDocument/2006/relationships/hyperlink" Target="http://www.rosegrovenursery.freeserve.co.uk/Page1.html" TargetMode="External"/><Relationship Id="rId3" Type="http://schemas.openxmlformats.org/officeDocument/2006/relationships/hyperlink" Target="http://www.threetofiveyears.co.uk/" TargetMode="External"/><Relationship Id="rId4" Type="http://schemas.openxmlformats.org/officeDocument/2006/relationships/hyperlink" Target="http://www.bbc.co.uk/cbeebies/teletubbies/" TargetMode="External"/><Relationship Id="rId5" Type="http://schemas.openxmlformats.org/officeDocument/2006/relationships/hyperlink" Target="http://www.hitentertainment.com/bobthebuilder/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S3: An Introduction to the Pre-School and Primary Curriculu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424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ICT and the Pre-School and Primary Sch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How can ICT enhance Teaching &amp;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Derek P Robert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14C-CA9E-41E0-AC83-A6457B3BCB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3A8F8-7E75-4B51-862A-0D40EB30C6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T 5-14: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reating and Presen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 Language 5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Imaginative Writing - Story writing: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inear stor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tructure support with resources like Clicker4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inear stor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yan in Trou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oky Stor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arry Potter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ranching Stor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aturn Detective Stor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on Rock Adventur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me Park Adventur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463-3ACF-4231-9CE8-AC15AF3697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D9460-D234-499D-8634-C503F0CF38F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T 5-14: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reating and Presen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 Language 5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Imaginative Writing - Poetry: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undee Limeric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active Poetr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aiku Poetr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184-B5BC-40A3-885A-F980047F4C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1CD37-8FEC-43AC-9903-D1EC252C01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T 5-14: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reating and Presen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ve Arts 5-14: Art &amp;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Using materials, techniques skills &amp; media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xpressing feelings, ideas, thoughts &amp; solution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valuating &amp; Appreciat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clectic mixture of exam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grating English Language, ICT &amp; Ar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arnessing Multimedi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reating Fire Digitall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C1C-2538-4604-A8EA-6468BC361E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37DFD-66AC-455A-93A3-F344B38E5B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T 5-14: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llecting and Analy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ly related to Maths 5-14 Outcome-Information Hand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integrated with Environment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How much water do we us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ing spreadsheets in the middle and upper schoo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DE8-D871-437C-9DA7-05D834DBAA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05866-2EE0-437A-8086-40FEB34A5A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T 5-14: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trolling and Model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ed to Maths and Environmental Studies 5-1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heppey Pigs and Roamer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Logo Lesson Plan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Data Logg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CEC-97E4-4174-9F73-5EE900FD7B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E5894-F23C-476D-9337-460A46344F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oday’s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in to Black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Browse through Week 3 learning uni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Consider and reflect on: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hich strand and level of ICT 5-14 is being develop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hich other curricular area is being develop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s the learning enhanced by the use of I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value of Creativity and Innovation in the learning proc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5BD-8282-47DB-9B0A-034F569E76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A4919-D6A4-45CA-9A01-AA19B361816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CS3 ICT Formative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700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700280"/>
            <a:ext cx="86407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bmission Date: Friday 31 Octo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CT is no longer considered as incidental to the curriculum or as an optional classroom activity. It has an increasingly important presence within the overall learning and teaching strategies.”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D, 2000, 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view of this statement, discuss how a creative and innovative application of ICT can permeate and qualitatively enhance the curriculum (5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 to Blackboard for recommended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E6D-E74B-4D39-9F44-9A9FD6E7EF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C45C4-041C-40BB-863D-33F3E5D7F3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stablishing an ethos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enslave dynamic intuitive resources to traditional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xamples you will see embrace and celebrate how ICT can: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Enhance the learning proc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oster and encourage an ethos of 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Creativity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Innov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1D6-750C-420B-9270-88440DE6B3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90D1C-2C70-40B0-8F68-A9E1EDC6E4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this means for yo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we must aspi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gradually build our skills, confidence and appreciation of how to use ICT effectivel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Believe in yourself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May be in the position of the learner who ‘doesn’t understand’. This is positive!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upportive environment; we want you to SUCCEED!!!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45E-8FA9-4FB0-B0A6-F8E9769464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34147-0CFA-47D4-9F1F-43A9598934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is ICT taugh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CT 5-14 is a discrete subject with its own Guide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t usually taught as a discrete subjec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Most commonly developed by integration with other curricular area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Develop ICT capability in contex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Enhance the development of skills, knowledge, understanding and attitudes in other curricular area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9DA-0FA2-4A7E-A7ED-42AA0D1156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B5F39-A37D-4348-BE67-3FC57160BE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ucturing Understanding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a variety of examples of good ICT practice and consider how these are rela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ICT 5-14 Guidelin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tran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ICT 5-14 Guide for teachers and manag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Exemplific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Other appropriate 5-14 Guidelin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E.g. Mathematics, English Language etc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780-B572-4DFE-9834-4AD9109EBE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7D63E-62C7-43AA-9EB0-773D8C8BD9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ucturing Understanding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a variety of examples of good ICT practice and consider how these are rela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he MIICE Projec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earner Refle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kills Developmen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Managing and Manipulating Digital Inform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hared Planning/Organis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nvestigatory Learn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hared Learn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61C-01A1-494B-A094-3A4C02189A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F0001-88F2-47CA-B6F0-1563A1B1AAF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flecting on the exam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3510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related to these ICT 5-14 str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Creating &amp; Present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Collecting &amp; Analys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Controlling and Modell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xamples of ICT in the Pre-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27D-9FC8-4F2F-BDCA-4F5C113ECD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743A6-1A48-431C-A74D-D8B2B27BE1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41400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T and the Pre-School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example of how ICT can be sensitively integrated into the Pre-School con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segrove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Nurser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cellent resources aimed at this ag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ree to Five Years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eletubbie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b the Builder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016-9932-4503-8565-D003DD35BD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ED931-4830-473F-AC20-C599F911B31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CT 5-14: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reating and Presen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ing ICT capability and curricular development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nglish Language 5-14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maginative Writing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Punctuation, Structure &amp; Spelling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ading for enjoymen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o reflect on the writer’s craf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Awareness of genr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rek P Ro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056-9B31-447C-8EBA-F5BDDA5C1B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32B92-AA82-4B69-8F4D-77B24BD11D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2:24:12Z</dcterms:created>
  <dc:creator> </dc:creator>
  <dc:description/>
  <dc:language>en-US</dc:language>
  <cp:lastModifiedBy>Roddy Stuart</cp:lastModifiedBy>
  <dcterms:modified xsi:type="dcterms:W3CDTF">2004-07-02T17:40:24Z</dcterms:modified>
  <cp:revision>73</cp:revision>
  <dc:subject/>
  <dc:title>Slide 1</dc:title>
</cp:coreProperties>
</file>