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92F-A1B0-4CEE-933A-D8E96065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B65-9DE2-4EB3-B888-5894CC3B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957-2CB2-4249-93C2-63030488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A08-DF88-40D3-B8D3-1147A7B5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BBEB-2C30-4D5C-BB06-A6CB940A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3487-BBCE-469A-A9F3-FFBA0391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56E8-EB33-4C88-B7FE-9F887B4F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ECDB-EF3B-4ADB-846C-6E4734E1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DBEB-A64F-4C7F-8CFC-8D444F29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0490-489D-4AD0-8C15-C6DDA2A1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ED0F-B818-44A6-B361-227FAC9A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B98-F37E-435B-B9EB-06B0DA02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5326-683E-41F2-9B97-75812207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A682-652B-43B2-9726-01C46854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2A92-4687-48CC-9A0D-E10336BA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130A-683D-4871-9C2F-8305B2C2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C947-01A5-4933-98C1-B9DBA0CE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EF9-3BB2-4D2D-B52A-6AE4C36C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AF5-F1EE-40C0-AECF-05EB17E8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677-86B7-4FC0-A6FB-0884E119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8A5-A8CE-43D4-872F-E5D6540F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17E-E278-4887-BAA5-353ADBB1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864-2D07-483F-AB41-359CD5ED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003-8CDC-4E78-95F1-2780C92A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8F5C-C077-4C26-B6CD-A87172F57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95280" y="44136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10AC-B0F0-4B2E-BD1B-A52BA09F3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5280" y="441360"/>
            <a:ext cx="8209080" cy="615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5280" y="2349000"/>
            <a:ext cx="5155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lligraphy"/>
              </a:rPr>
              <a:t>Electric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95640" y="4941360"/>
            <a:ext cx="266364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ul Barrow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vironment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vel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-0.00382 -0.05434 L -0.01406 0.11329 E">
                                      <p:cBhvr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Calligraphy"/>
              </a:rPr>
              <a:t>What is Electric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icity is a form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the most controllable type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icity can be produced in a variety of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eneration of electricity for the home is done by power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Calligraphy"/>
              </a:rPr>
              <a:t>Power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many types of power stations that generate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ydro 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Calligraphy"/>
              </a:rPr>
              <a:t>Power Statio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alligraphy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776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esentation will focus on Hydro electric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ydro electric power is generated using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is dropped from a dam that is positioned above the powers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istance can vary from a few hundred feet to a few thous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87280" y="3068640"/>
            <a:ext cx="179640" cy="2160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260280"/>
            <a:ext cx="8280360" cy="6264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3500280"/>
            <a:ext cx="1440000" cy="3024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421000"/>
            <a:ext cx="14400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429000"/>
            <a:ext cx="1368360" cy="0"/>
          </a:xfrm>
          <a:prstGeom prst="line">
            <a:avLst/>
          </a:prstGeom>
          <a:ln w="254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763640" y="2349000"/>
            <a:ext cx="0" cy="1079640"/>
          </a:xfrm>
          <a:prstGeom prst="line">
            <a:avLst/>
          </a:prstGeom>
          <a:ln w="254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3500280"/>
            <a:ext cx="1368360" cy="2665440"/>
          </a:xfrm>
          <a:prstGeom prst="rtTriangl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6165720"/>
            <a:ext cx="6912000" cy="358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3500280"/>
            <a:ext cx="1368360" cy="2665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404640"/>
            <a:ext cx="1368360" cy="1295640"/>
          </a:xfrm>
          <a:prstGeom prst="sun">
            <a:avLst>
              <a:gd name="adj" fmla="val 26652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5877000"/>
            <a:ext cx="129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8920" y="2997360"/>
            <a:ext cx="216000" cy="287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4365720"/>
            <a:ext cx="1657440" cy="18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997360"/>
            <a:ext cx="216000" cy="287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2997360"/>
            <a:ext cx="216000" cy="287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2997360"/>
            <a:ext cx="216000" cy="287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2997360"/>
            <a:ext cx="215640" cy="287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8109000"/>
            <a:ext cx="216000" cy="287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8325000"/>
            <a:ext cx="215640" cy="287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4581360"/>
            <a:ext cx="136656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5587920"/>
            <a:ext cx="576360" cy="649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572000" y="4867200"/>
            <a:ext cx="1224000" cy="1225440"/>
            <a:chOff x="4572000" y="4867200"/>
            <a:chExt cx="1224000" cy="1225440"/>
          </a:xfrm>
        </p:grpSpPr>
        <p:sp>
          <p:nvSpPr>
            <p:cNvPr id="114" name=""/>
            <p:cNvSpPr/>
            <p:nvPr/>
          </p:nvSpPr>
          <p:spPr>
            <a:xfrm>
              <a:off x="4572000" y="4867200"/>
              <a:ext cx="1224000" cy="122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43280" y="4938480"/>
              <a:ext cx="1081080" cy="1079640"/>
            </a:xfrm>
            <a:custGeom>
              <a:avLst/>
              <a:gdLst>
                <a:gd name="textAreaLeft" fmla="*/ 246600 w 1081080"/>
                <a:gd name="textAreaRight" fmla="*/ 834480 w 1081080"/>
                <a:gd name="textAreaTop" fmla="*/ 246240 h 1079640"/>
                <a:gd name="textAreaBottom" fmla="*/ 8334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bcbc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00720" y="5950080"/>
            <a:ext cx="1366560" cy="287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56360" y="4797360"/>
            <a:ext cx="911160" cy="1440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164360" y="5157720"/>
            <a:ext cx="669960" cy="1006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rot="14400000">
            <a:off x="6595920" y="4732200"/>
            <a:ext cx="1131840" cy="11574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-3852720" y="692280"/>
            <a:ext cx="3744720" cy="1121760"/>
            <a:chOff x="-3852720" y="692280"/>
            <a:chExt cx="3744720" cy="112176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-3132000" y="692280"/>
              <a:ext cx="1944360" cy="10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-3852720" y="734760"/>
              <a:ext cx="1728360" cy="93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-1836720" y="879120"/>
              <a:ext cx="172872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8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2.22222E-006 C 0.06475 0.0132 0.12951 0.02639 0.17916 0.02778 C 0.22881 0.02917 0.25833 0.00833 0.29791 0.00833 C 0.33749 0.00833 0.37812 0.02824 0.41666 0.02778 C 0.45503 0.02732 0.50312 0.00741 0.52916 0.00556 C 0.5552 0.0037 0.55242 0.01528 0.57291 0.01667 C 0.5934 0.01806 0.62604 0.0162 0.65208 0.01389 C 0.67812 0.01158 0.70763 0.00232 0.72916 0.00278 C 0.75069 0.00324 0.75381 0.01574 0.78124 0.01667 C 0.80867 0.01759 0.8651 0.01482 0.89374 0.00833 C 0.92222 0.00185 0.93541 -0.02361 0.9519 -0.02222 C 0.96874 -0.02083 0.98159 0.01158 0.99374 0.01667 C 1.0059 0.02176 1.01492 0.01158 1.02499 0.00833 C 1.03506 0.00509 1.04513 -0.00463 1.05416 -0.00278 C 1.06319 -0.00092 1.01874 0.03056 1.07916 0.01945 C 1.13958 0.00833 1.36041 -0.05509 1.41666 -0.06944 E">
                                      <p:cBhvr>
                                        <p:cTn id="182" dur="20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4624E-006 L 5.55556E-007 -0.0733 E">
                                      <p:cBhvr>
                                        <p:cTn id="18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2139E-006 C 0.01562 -0.003 0.02795 0.00301 0.04288 0.00625 C 0.04444 0.00833 0.04618 0.01041 0.04757 0.01272 C 0.04982 0.01665 0.05399 0.02521 0.05399 0.02521 C 0.05677 0.03677 0.05451 0.05041 0.05868 0.06128 C 0.05937 0.06313 0.06111 0.06382 0.06197 0.06544 C 0.06822 0.07654 0.06736 0.07492 0.06979 0.0844 C 0.071 0.10266 0.06892 0.11815 0.0809 0.12879 C 0.08507 0.13688 0.08958 0.14405 0.09357 0.15214 C 0.09635 0.16625 0.09583 0.1718 0.10468 0.17966 C 0.10729 0.18867 0.1059 0.19792 0.11111 0.20509 C 0.11163 0.20717 0.11163 0.20948 0.11267 0.21133 C 0.11493 0.21526 0.12066 0.22197 0.12066 0.22197 C 0.12465 0.23839 0.12743 0.25156 0.13645 0.26428 C 0.13854 0.27261 0.13958 0.28093 0.14132 0.28948 C 0.14218 0.29388 0.14132 0.30081 0.14444 0.3022 C 0.146 0.30289 0.14757 0.30359 0.14913 0.30428 C 0.14965 0.30636 0.14982 0.30891 0.15086 0.31076 C 0.15208 0.31261 0.15451 0.31284 0.15555 0.31492 C 0.15816 0.32047 0.15868 0.32763 0.16024 0.33388 C 0.16076 0.33573 0.16267 0.33665 0.16354 0.33827 C 0.16579 0.3422 0.16979 0.35076 0.16979 0.35076 C 0.17257 0.36255 0.17257 0.37133 0.17934 0.38035 C 0.18211 0.39145 0.18454 0.40185 0.19357 0.40578 C 0.19913 0.40347 0.19722 0.40209 0.2 0.40578 E">
                                      <p:cBhvr>
                                        <p:cTn id="18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02 0.00763 C 0.05469 0.01226 0.06771 0.01087 0.08021 0.00555 C 0.09827 0.01364 0.09219 0.03075 0.09914 0.04578 C 0.1033 0.0548 0.11164 0.06058 0.11667 0.06913 C 0.12205 0.07838 0.12136 0.08578 0.12778 0.09434 C 0.13004 0.10937 0.12848 0.1015 0.13247 0.11769 C 0.13421 0.12486 0.14046 0.12832 0.14358 0.13457 C 0.1441 0.14728 0.14393 0.16 0.14532 0.17272 C 0.14566 0.17665 0.15174 0.18289 0.15313 0.1852 C 0.15556 0.18913 0.15643 0.19491 0.15955 0.19792 C 0.16528 0.20324 0.16806 0.2074 0.17223 0.2148 C 0.17396 0.22174 0.17726 0.22682 0.17865 0.23399 C 0.17952 0.23861 0.18108 0.25387 0.18334 0.25711 C 0.18803 0.26382 0.18577 0.25965 0.18976 0.26983 C 0.19289 0.28717 0.19723 0.29642 0.20869 0.3059 C 0.21094 0.31491 0.21789 0.32439 0.22309 0.3311 C 0.22674 0.34636 0.22448 0.34012 0.22934 0.35029 C 0.23282 0.36925 0.23872 0.37734 0.24844 0.39029 E">
                                      <p:cBhvr>
                                        <p:cTn id="19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3 0.01202 C 0.03664 0.0185 0.02778 0.01665 0.04844 0.01411 C 0.05486 0.0148 0.06129 0.01411 0.06754 0.01619 C 0.0717 0.01757 0.07466 0.02266 0.07865 0.02474 C 0.0816 0.03653 0.08542 0.04069 0.09445 0.0437 C 0.10434 0.05688 0.10157 0.05688 0.10886 0.07121 C 0.1099 0.09179 0.10677 0.10844 0.11997 0.11977 C 0.12049 0.12185 0.12066 0.12416 0.12153 0.12601 C 0.12223 0.12786 0.12431 0.12856 0.12466 0.13041 C 0.12587 0.13595 0.125 0.14174 0.12622 0.14728 C 0.12743 0.1526 0.1375 0.16763 0.14063 0.17041 C 0.14445 0.18567 0.14809 0.19075 0.15643 0.20231 C 0.16025 0.21734 0.15677 0.23491 0.16754 0.24439 C 0.17483 0.25873 0.17136 0.25341 0.17709 0.2615 C 0.17952 0.28786 0.17778 0.31538 0.19618 0.3311 C 0.19931 0.34382 0.20313 0.34335 0.20886 0.35237 C 0.21493 0.36208 0.22205 0.37804 0.23108 0.38197 C 0.23455 0.38659 0.23889 0.38983 0.24219 0.39468 E">
                                      <p:cBhvr>
                                        <p:cTn id="19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56 0.00763 C 0.03871 0.02474 0.05434 0.01919 0.07257 0.02035 C 0.07361 0.02174 0.07448 0.02358 0.07569 0.02474 C 0.07726 0.02636 0.07916 0.02705 0.08055 0.0289 C 0.08541 0.03515 0.08837 0.0437 0.09323 0.04994 C 0.09705 0.0659 0.09375 0.08578 0.09791 0.10081 C 0.10017 0.10867 0.10712 0.11283 0.11059 0.11977 C 0.11232 0.14127 0.11302 0.1459 0.125 0.15792 C 0.12882 0.16809 0.13073 0.17226 0.13767 0.17896 C 0.14271 0.19931 0.1342 0.16324 0.1408 0.21711 C 0.14149 0.22312 0.14791 0.22752 0.15035 0.23191 C 0.15677 0.24347 0.15573 0.24093 0.15833 0.25087 C 0.16007 0.26705 0.16215 0.27538 0.17101 0.28671 C 0.17326 0.30197 0.17916 0.31306 0.18368 0.32694 C 0.18732 0.33827 0.18837 0.34937 0.19635 0.35653 C 0.19739 0.35861 0.19826 0.36093 0.19948 0.36278 C 0.20191 0.36648 0.20746 0.37341 0.20746 0.37341 C 0.21007 0.38405 0.21423 0.38405 0.2217 0.38405 E">
                                      <p:cBhvr>
                                        <p:cTn id="198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7 0.00139 C -0.01528 0.00948 -0.02014 0.00671 -0.00834 0.01202 C -0.00678 0.01272 -0.00348 0.01411 -0.00348 0.01411 C 0.00173 0.01341 0.00711 0.01318 0.01232 0.01202 C 0.01406 0.01179 0.01545 0.00948 0.01718 0.00994 C 0.02274 0.01156 0.02743 0.01642 0.03298 0.01827 C 0.03993 0.02428 0.04218 0.0333 0.04895 0.03954 C 0.05138 0.04902 0.05729 0.05457 0.06163 0.06266 C 0.06441 0.07445 0.07274 0.08 0.07586 0.09226 C 0.07638 0.10497 0.07604 0.11769 0.07743 0.13041 C 0.07777 0.13411 0.08958 0.15075 0.09166 0.15353 C 0.09427 0.16324 0.10052 0.17179 0.10607 0.17896 C 0.11406 0.20069 0.10937 0.2296 0.12673 0.24439 C 0.12899 0.25364 0.13263 0.26104 0.13784 0.26775 C 0.14531 0.2978 0.12864 0.32648 0.15364 0.33757 C 0.15625 0.34104 0.15902 0.34451 0.16163 0.34798 C 0.16302 0.34983 0.16319 0.35283 0.16475 0.35445 C 0.16597 0.35584 0.16788 0.35584 0.16944 0.35653 C 0.17552 0.36416 0.1717 0.35931 0.18055 0.37133 C 0.18368 0.37572 0.18923 0.37503 0.1934 0.37757 E">
                                      <p:cBhvr>
                                        <p:cTn id="20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6829 L -1.94444E-006 0.00509 E">
                                      <p:cBhvr>
                                        <p:cTn id="20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0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Calligraphy"/>
              </a:rPr>
              <a:t>Energ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evious slide showed the various energy conversions that can occur in the production of electri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– Kinetic – Mechanical –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 electricity reaches homes and businesses other energy conversions will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Calligraphy"/>
              </a:rPr>
              <a:t>In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icity is the most controllable form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energy conversions occur in the production of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different sources are able to produce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important to everything we do in our every day liv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Lucida Calligraphy"/>
              </a:rPr>
              <a:t>Thank-You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Lucida Calligraphy"/>
              </a:rPr>
              <a:t>Paul Barrowman (BEd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4T05:06:52Z</dcterms:created>
  <dc:creator>Paul Barrowman</dc:creator>
  <dc:description/>
  <dc:language>en-US</dc:language>
  <cp:lastModifiedBy>ESW Lab PC</cp:lastModifiedBy>
  <dcterms:modified xsi:type="dcterms:W3CDTF">2004-03-17T10:57:29Z</dcterms:modified>
  <cp:revision>14</cp:revision>
  <dc:subject/>
  <dc:title>Electricity</dc:title>
</cp:coreProperties>
</file>