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689-636F-41C7-9ED4-EDBE4DFF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0DA-C20A-4755-8C7E-435964C5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B20-4752-43A9-A910-14D46B85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A51-9CCA-4584-A08F-D95ABC1D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8E32-7A11-4EC3-B33B-EFADD838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B6CC-CE84-444A-BBB9-F0085750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6C39-18E0-4EBA-8BC1-7B4BB089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05F9-0602-4C10-A4F2-C96E5F85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672C-B9A2-4EEF-AC71-7675BC0D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8DCD-D5BC-421B-A7A9-61431103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B0CE-9E5C-4158-B995-07519095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05B-C400-44C8-8AB0-07DF57A1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A9CF-577B-4F5E-A7C2-7FBA0B30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CFAC-F348-4DBB-9E9A-F8F2C4B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C8A9-8F7D-4EB7-8DD1-4ECB639B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9F31-A938-47E6-A67F-7184141E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58B9-32C0-4AA1-999D-1AFD2B4F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F9E-8453-4768-A03F-030E9F33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08B-EC68-4FA3-A1FB-67A74858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D9B-22C2-44F9-A5BD-14FAFD9C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24C-9FC0-4509-9FFF-F90A8D82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1E7-7DDF-4C1A-AD3F-F9D85B95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7F5-67AE-46D6-9CBC-EA6565A4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C85-7EEF-4070-8F87-E2FF80BF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C068-D843-41D7-BA81-8614C4F54B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364C-3213-4EFF-8E8F-4210C348CC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eeze.wa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badi MT Condensed Light"/>
              </a:rPr>
              <a:t>FORCES AND THEIR EFF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badi MT Condensed Light"/>
              </a:rPr>
              <a:t>Streamlin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badi MT Condensed Light"/>
              </a:rPr>
              <a:t>How This Lowers Resistanc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4" name=""/>
          <p:cNvCxnSpPr/>
          <p:nvPr/>
        </p:nvCxnSpPr>
        <p:spPr>
          <a:xfrm>
            <a:off x="6948000" y="6048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flipH="1">
            <a:off x="971640" y="1773360"/>
            <a:ext cx="4464000" cy="3457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10637400">
            <a:off x="8028000" y="198900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637400">
            <a:off x="8101080" y="4868640"/>
            <a:ext cx="792000" cy="215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0637400">
            <a:off x="8352000" y="314172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637400">
            <a:off x="8352000" y="4292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0637400">
            <a:off x="8352000" y="256536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high sided, box shaped vehicles have higher air resistance due to the air pushing against the vehicles surface area. This means the movement of the vehicle is sl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4 -0.00278 C -0.0967 0.00532 -0.06337 0.00347 -0.13542 2.96296E-006 C -0.14653 -0.00394 -0.15799 -0.00486 -0.16944 -0.00834 C -0.17951 -0.01158 -0.18924 -0.01968 -0.1993 -0.02199 C -0.20538 -0.02338 -0.21146 -0.02385 -0.21736 -0.02477 C -0.25382 -0.04167 -0.29271 -0.04283 -0.32934 -0.05787 C -0.35868 -0.06968 -0.38802 -0.07986 -0.41736 -0.09098 C -0.4276 -0.09468 -0.43767 -0.0963 -0.4474 -0.10185 C -0.46615 -0.11227 -0.48142 -0.13125 -0.50139 -0.13773 C -0.50729 -0.13959 -0.51354 -0.13959 -0.51944 -0.14051 C -0.5743 -0.15185 -0.59514 -0.15556 -0.64549 -0.17338 C -0.66701 -0.18102 -0.68819 -0.19005 -0.70955 -0.19815 C -0.71615 -0.2007 -0.72344 -0.20209 -0.72951 -0.20648 C -0.74271 -0.21551 -0.72812 -0.2081 -0.74149 -0.22014 C -0.74722 -0.22547 -0.75538 -0.22431 -0.76163 -0.22848 C -0.77031 -0.23449 -0.7651 -0.23473 -0.77552 -0.23959 C -0.7868 -0.24468 -0.79983 -0.24491 -0.81163 -0.24769 C -0.82187 -0.25741 -0.83125 -0.2544 -0.84149 -0.26158 C -0.8533 -0.26945 -0.84149 -0.26505 -0.85555 -0.27246 C -0.86632 -0.27801 -0.87743 -0.28195 -0.8875 -0.28889 E">
                                      <p:cBhvr>
                                        <p:cTn id="28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00162 C -0.0533 0.00533 -0.08038 0.00487 -0.1066 0.00672 C -0.18316 0.00417 -0.25747 -0.00462 -0.33368 -0.00717 C -0.37049 -0.01527 -0.38386 -0.01643 -0.41702 -0.02939 C -0.43525 -0.03657 -0.45139 -0.0493 -0.4691 -0.05717 C -0.47934 -0.0618 -0.49184 -0.06365 -0.50243 -0.0655 C -0.50868 -0.06828 -0.51511 -0.07037 -0.52118 -0.07384 C -0.5283 -0.07777 -0.53472 -0.08402 -0.54202 -0.08773 C -0.56823 -0.10138 -0.54931 -0.08449 -0.57327 -0.10162 C -0.58716 -0.11157 -0.6 -0.12824 -0.61702 -0.12939 C -0.71563 -0.13587 -0.67257 -0.13148 -0.74618 -0.1405 C -0.76632 -0.14722 -0.78316 -0.15416 -0.80243 -0.16273 C -0.83507 -0.1618 -0.86771 -0.16111 -0.90035 -0.15995 C -0.9191 -0.15925 -0.9566 -0.15717 -0.9566 -0.15694 E">
                                      <p:cBhvr>
                                        <p:cTn id="32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8.88889E-006 C -0.02275 0.01019 -0.04827 0.00672 -0.07084 0.01667 C -0.14844 0.05116 -0.24445 0.04028 -0.32084 0.04167 C -0.38994 0.05024 -0.45817 0.06667 -0.52726 0.07501 C -0.59445 0.09491 -0.66285 0.09769 -0.73126 0.10278 C -0.76077 0.11251 -0.73577 0.10556 -0.77501 0.11112 C -0.80001 0.11459 -0.82483 0.1213 -0.85001 0.12501 C -0.86303 0.1294 -0.8764 0.13079 -0.88959 0.13334 C -0.89706 0.13658 -0.90469 0.14167 -0.91251 0.14167 L -0.89167 0.13889 E">
                                      <p:cBhvr>
                                        <p:cTn id="36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6 L -0.23628 7.40741E-006 E">
                                      <p:cBhvr>
                                        <p:cTn id="40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-0.18108 0.01042 E">
                                      <p:cBhvr>
                                        <p:cTn id="44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L 0.4724 -0.0419 E">
                                      <p:cBhvr>
                                        <p:cTn id="48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flipH="1">
            <a:off x="2411280" y="2276640"/>
            <a:ext cx="3276720" cy="2520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rot="10637400">
            <a:off x="8352000" y="2133360"/>
            <a:ext cx="792000" cy="215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637400">
            <a:off x="8352000" y="2923920"/>
            <a:ext cx="792000" cy="215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637400">
            <a:off x="8352000" y="3573000"/>
            <a:ext cx="792000" cy="289080"/>
          </a:xfrm>
          <a:custGeom>
            <a:avLst/>
            <a:gdLst>
              <a:gd name="textAreaLeft" fmla="*/ 123480 w 792000"/>
              <a:gd name="textAreaRight" fmla="*/ 693000 w 792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er more rounded vehicles, have a slightly lower air resistance due to the air being able to move more freely around the vehicles surface area. The roundness of the vehicle allows it to move more quick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637400">
            <a:off x="8352000" y="4076280"/>
            <a:ext cx="792000" cy="289080"/>
          </a:xfrm>
          <a:custGeom>
            <a:avLst/>
            <a:gdLst>
              <a:gd name="textAreaLeft" fmla="*/ 123480 w 792000"/>
              <a:gd name="textAreaRight" fmla="*/ 693000 w 792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637400">
            <a:off x="8352000" y="4581000"/>
            <a:ext cx="792000" cy="289080"/>
          </a:xfrm>
          <a:custGeom>
            <a:avLst/>
            <a:gdLst>
              <a:gd name="textAreaLeft" fmla="*/ 123480 w 792000"/>
              <a:gd name="textAreaRight" fmla="*/ 693000 w 792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07407E-006 L -0.97656 -0.01042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0.00532 L -0.4724 -0.00509 E">
                                      <p:cBhvr>
                                        <p:cTn id="58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3.33333E-006 L -0.30712 0.01041 E">
                                      <p:cBhvr>
                                        <p:cTn id="6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74028 0.11551 E">
                                      <p:cBhvr>
                                        <p:cTn id="6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95278 0.22037 E">
                                      <p:cBhvr>
                                        <p:cTn id="7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6 0.0368 L 0.60816 0.0368 E">
                                      <p:cBhvr>
                                        <p:cTn id="74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 flipH="1" rot="17773200">
            <a:off x="4172400" y="1644840"/>
            <a:ext cx="2344680" cy="5870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2176200">
            <a:off x="900000" y="314136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772400">
            <a:off x="684000" y="4005360"/>
            <a:ext cx="792000" cy="215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413800">
            <a:off x="468360" y="1844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332600">
            <a:off x="4211640" y="1915920"/>
            <a:ext cx="792000" cy="215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streamlined a vehicle  allows for lower air resistance as the surface area is reduced. The low smooth curves of a streamlined vehicle allows it to slip through the air and movement is achieved more easi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830600">
            <a:off x="2124000" y="155736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0.01597 L 0.5474 0.26782 E">
                                      <p:cBhvr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3658 L 0.80729 0.44607 E">
                                      <p:cBhvr>
                                        <p:cTn id="84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3681 L 0.95678 0.67732 E">
                                      <p:cBhvr>
                                        <p:cTn id="88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0.03658 L 0.79149 0.56158 E">
                                      <p:cBhvr>
                                        <p:cTn id="92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02616 L 0.69687 0.49861 E">
                                      <p:cBhvr>
                                        <p:cTn id="96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87 -0.13658 L -0.57882 -0.43056 E">
                                      <p:cBhvr>
                                        <p:cTn id="100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23:39Z</dcterms:created>
  <dc:creator>Eric Mcintosh</dc:creator>
  <dc:description/>
  <dc:language>en-US</dc:language>
  <cp:lastModifiedBy>Eric Mcintosh</cp:lastModifiedBy>
  <dcterms:modified xsi:type="dcterms:W3CDTF">2004-03-14T16:59:15Z</dcterms:modified>
  <cp:revision>5</cp:revision>
  <dc:subject/>
  <dc:title>Slide 1</dc:title>
</cp:coreProperties>
</file>