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3AE-2C44-45D0-AF19-1704A1F8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B25-E52F-4C2D-A13D-F302F08D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EA2-8C78-432E-91DE-D1A96F34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64A-7569-4ACE-939C-CDAD2F93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940-01B3-4597-9650-DC94797C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55E-24DF-4928-A6A4-4575BA0E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CC2-CA4B-4A63-B556-343BFCB0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AE6-6EA1-4E1D-AC51-646BE503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C07-491C-47FE-B3C8-AEDFD1D8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925-8912-4BD1-925A-776F2329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81E-E924-4B07-B93C-B4EEAC05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16F-3E07-4DA7-9D45-F8F43735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F45D-5101-418F-B7AD-8DB313173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itc.education.ed.ac.uk/Case_Studies/whitfield/pages/whitfield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ICS3initiallecture.ppt#18. What are the benefits of ICT?" TargetMode="External"/><Relationship Id="rId3" Type="http://schemas.openxmlformats.org/officeDocument/2006/relationships/hyperlink" Target="file:///ICS3secondlecture2003.ppt#6. Structuring Understanding2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ims%20of%20this%20Unit.h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ancing_bee.ppt#1. Living things and their environment" TargetMode="External"/><Relationship Id="rId3" Type="http://schemas.openxmlformats.org/officeDocument/2006/relationships/hyperlink" Target="file:///ICTESbees.pdf" TargetMode="External"/><Relationship Id="rId4" Type="http://schemas.openxmlformats.org/officeDocument/2006/relationships/hyperlink" Target="file:///ICTESbees.pdf" TargetMode="External"/><Relationship Id="rId5" Type="http://schemas.openxmlformats.org/officeDocument/2006/relationships/hyperlink" Target="file:///fox_colour_change.ppt#1. Living things and their environment" TargetMode="External"/><Relationship Id="rId6" Type="http://schemas.openxmlformats.org/officeDocument/2006/relationships/hyperlink" Target="file:///ICTESfox.pdf" TargetMode="External"/><Relationship Id="rId7" Type="http://schemas.openxmlformats.org/officeDocument/2006/relationships/hyperlink" Target="file:///ICTESfox.pdf" TargetMode="External"/><Relationship Id="rId8" Type="http://schemas.openxmlformats.org/officeDocument/2006/relationships/hyperlink" Target="file:///catherine_fleming.ppt#1. Castle Defence" TargetMode="External"/><Relationship Id="rId9" Type="http://schemas.openxmlformats.org/officeDocument/2006/relationships/hyperlink" Target="file:///catherine_fleming.doc" TargetMode="External"/><Relationship Id="rId10" Type="http://schemas.openxmlformats.org/officeDocument/2006/relationships/hyperlink" Target="file:///catherine_fleming.doc" TargetMode="External"/><Relationship Id="rId11" Type="http://schemas.openxmlformats.org/officeDocument/2006/relationships/hyperlink" Target="file:///fiona_mcintosh.ppt#1. FORCES AND THEIR EFFECTS" TargetMode="External"/><Relationship Id="rId1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 u="sng">
                <a:solidFill>
                  <a:srgbClr val="333399"/>
                </a:solidFill>
                <a:uFillTx/>
                <a:latin typeface="Arial"/>
              </a:rPr>
              <a:t>Using MIICE in Initial Teacher Education</a:t>
            </a:r>
            <a:endParaRPr b="1" i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8136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cc"/>
                </a:solidFill>
                <a:latin typeface="Arial"/>
              </a:rPr>
              <a:t>Derek P. Robertson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00cc"/>
                </a:solidFill>
                <a:latin typeface="Arial"/>
              </a:rPr>
              <a:t>d.p.robertson@dundee.ac.uk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5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"/>
              </a:rPr>
              <a:t>Assessing ICT with MIICE</a:t>
            </a: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341360"/>
            <a:ext cx="82789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ICT now summatively ass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The teaching Maths and English Language module is assessed by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Students choose one of two ICT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Arial"/>
              </a:rPr>
              <a:t>ICT &amp;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Arial"/>
              </a:rPr>
              <a:t>ICT &amp; English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Reference to and consideration of MIICE Outcomes is stated in the exam ques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30180"/>
                </a:solidFill>
                <a:latin typeface="Arial"/>
              </a:rPr>
              <a:t>Example of exam question o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1268280"/>
            <a:ext cx="7993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6600cc"/>
                </a:solidFill>
                <a:latin typeface="Arial"/>
              </a:rPr>
              <a:t>English Language &amp; 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6600cc"/>
                </a:solidFill>
                <a:latin typeface="Arial"/>
              </a:rPr>
              <a:t>Multimedia applications allow learners to incorporate text, images, animations and sounds into their work. This allows learners to create interactive books, interactive presentations and mystery games that are multimedia r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6600cc"/>
                </a:solidFill>
                <a:latin typeface="Arial"/>
              </a:rPr>
              <a:t>Give an example of how you could use such a multimedia application as the medium through which you will offer an activity that will develop children’s imaginative 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6600cc"/>
                </a:solidFill>
                <a:latin typeface="Arial"/>
              </a:rPr>
              <a:t>Give consideration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cc"/>
                </a:solidFill>
                <a:latin typeface="Arial"/>
              </a:rPr>
              <a:t>The stage of the lear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cc"/>
                </a:solidFill>
                <a:latin typeface="Arial"/>
              </a:rPr>
              <a:t>ICT &amp; English Language 5-14 Stands and Attainment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cc"/>
                </a:solidFill>
                <a:latin typeface="Arial"/>
              </a:rPr>
              <a:t>The range of ICT skills that can be developed in such a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cc"/>
                </a:solidFill>
                <a:latin typeface="Arial"/>
              </a:rPr>
              <a:t>How such a context can enhance learning about wr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cc"/>
                </a:solidFill>
                <a:latin typeface="Arial"/>
              </a:rPr>
              <a:t>You may also wish to reflect on the added value that ICT can bring to learning in this context. Issues you may wish to discuss in detail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cc"/>
                </a:solidFill>
                <a:latin typeface="Arial"/>
              </a:rPr>
              <a:t>Group 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cc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cc"/>
                </a:solidFill>
                <a:latin typeface="Arial"/>
              </a:rPr>
              <a:t>Shared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"/>
              </a:rPr>
              <a:t>B.Ed1 ICT exam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"/>
              </a:rPr>
              <a:t>Taking it forward</a:t>
            </a: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Similar use of MIICE is embedded in the B.Ed2 and forthcoming B.Ed3 module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Integral part of the B.Ed2 ICT Elective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Used to articulate how enhanced learning outcomes can be identified in these topics: 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Digital movie making in the classroom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Making websites work in the classroom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Exploiting learning in computer game culture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Flash animation in the classroom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"/>
              </a:rPr>
              <a:t>How is MIICE helping?</a:t>
            </a: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ICT programme offers continuity &amp; progression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MIICE helps establish a qualitative perspective about teaching and learning with IC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Not just about achieving attainment targets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Not just about technical skills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It’s about better learning with ICT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"/>
              </a:rPr>
              <a:t>Long, long ago…</a:t>
            </a: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Working at Whitfield PS in Dundee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Middle to upper school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1998/9 met Tony Van der Kuyl 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Looking for examples of good ICT practice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Web-based resource to share and explore good practice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ITC Case Studies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"/>
              </a:rPr>
              <a:t>Raising my own awareness</a:t>
            </a: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Achieving success with ICT: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In developing ICT capability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Facilitating learning and achievement in other curricular areas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Ethos and approach to learning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I was more concerned with learners attaining 5-14 targets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Developed explicit awareness of qualitative aspects of learning such as: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learner reflection, shared learning, investigatory learning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333399"/>
                </a:solidFill>
                <a:latin typeface="Arial"/>
              </a:rPr>
              <a:t>Becoming involved with MIIC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Appointed Staff Tutor ICT in Dundee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Part of the team who: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Collected the initial data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Refined the outcomes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Started to consider how I could use it in my practice to inform and support others developing ICT practice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"/>
              </a:rPr>
              <a:t>Initial Teacher Education</a:t>
            </a: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2001 University of Dundee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Writing fresh content for the Newly validated B.Ed (P) course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ICT course already established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Developing emphasis on pedagogy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Only area not summatively assessed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Semester 1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1CS3 An introduction to the Pre-school and Primary Curriculum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Lecture 1 The Current State of Play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IICE introduced 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Lecture 2 Creative application of ICT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IICE discussed in more detail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Students use VLE (Blackboard) discussion groups to respond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"/>
              </a:rPr>
              <a:t>What role for MIICE?</a:t>
            </a: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"/>
              </a:rPr>
              <a:t>What role for MIICE ?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i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Arial"/>
              </a:rPr>
              <a:t>Semester 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30180"/>
                </a:solidFill>
                <a:latin typeface="Arial"/>
              </a:rPr>
              <a:t>Two modules with focussed workshops</a:t>
            </a:r>
            <a:endParaRPr b="0" lang="en-US" sz="2400" spc="-1" strike="noStrike">
              <a:solidFill>
                <a:srgbClr val="8301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30180"/>
                </a:solidFill>
                <a:latin typeface="Arial"/>
              </a:rPr>
              <a:t>Use of MIICE integral to students developing understanding</a:t>
            </a:r>
            <a:endParaRPr b="0" lang="en-US" sz="2400" spc="-1" strike="noStrike">
              <a:solidFill>
                <a:srgbClr val="8301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Arial"/>
              </a:rPr>
              <a:t>1CS4 Teaching and learning across the curriculum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cc"/>
                </a:solidFill>
                <a:latin typeface="Arial"/>
              </a:rPr>
              <a:t>ICT in Art &amp; Design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cc"/>
                </a:solidFill>
                <a:latin typeface="Arial"/>
              </a:rPr>
              <a:t>Making multimedia work-PowerPoint XP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cc"/>
                </a:solidFill>
                <a:latin typeface="Arial"/>
              </a:rPr>
              <a:t>Making Multimedia work- Textease Studio+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30180"/>
                </a:solidFill>
                <a:latin typeface="Arial"/>
              </a:rPr>
              <a:t>Making Multimedia work-PowerPoint XP</a:t>
            </a:r>
            <a:endParaRPr b="0" lang="en-US" sz="2400" spc="-1" strike="noStrike">
              <a:solidFill>
                <a:srgbClr val="8301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Arial"/>
              </a:rPr>
              <a:t>MIICE in relation to their productivity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Arial"/>
              </a:rPr>
              <a:t>Using MIICE to develop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dagogical understanding 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333399"/>
                </a:solidFill>
                <a:latin typeface="Arial"/>
              </a:rPr>
              <a:t>Students working with MIIC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Arial"/>
              </a:rPr>
              <a:t>Tutor examples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30180"/>
                </a:solidFill>
                <a:latin typeface="Arial"/>
              </a:rPr>
              <a:t>Dancing bee</a:t>
            </a:r>
            <a:endParaRPr b="0" lang="en-US" sz="2400" spc="-1" strike="noStrike">
              <a:solidFill>
                <a:srgbClr val="8301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 presentation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esson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proforma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30180"/>
                </a:solidFill>
                <a:latin typeface="Arial"/>
              </a:rPr>
              <a:t>Changing fox colour</a:t>
            </a:r>
            <a:endParaRPr b="0" lang="en-US" sz="2400" spc="-1" strike="noStrike">
              <a:solidFill>
                <a:srgbClr val="8301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 presentation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esson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proforma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Arial"/>
              </a:rPr>
              <a:t>Student examples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30180"/>
                </a:solidFill>
                <a:latin typeface="Arial"/>
              </a:rPr>
              <a:t>Catherine</a:t>
            </a:r>
            <a:endParaRPr b="0" lang="en-US" sz="2400" spc="-1" strike="noStrike">
              <a:solidFill>
                <a:srgbClr val="8301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astles PPT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astles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proforma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30180"/>
                </a:solidFill>
                <a:latin typeface="Arial"/>
              </a:rPr>
              <a:t>Fiona</a:t>
            </a:r>
            <a:endParaRPr b="0" lang="en-US" sz="2400" spc="-1" strike="noStrike">
              <a:solidFill>
                <a:srgbClr val="8301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treamlining PPT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Arial"/>
              </a:rPr>
              <a:t>Streamlining proforma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30180"/>
                </a:solidFill>
                <a:latin typeface="Arial"/>
              </a:rPr>
              <a:t>Daniel</a:t>
            </a:r>
            <a:endParaRPr b="0" lang="en-US" sz="2400" spc="-1" strike="noStrike">
              <a:solidFill>
                <a:srgbClr val="8301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Arial"/>
              </a:rPr>
              <a:t>Water cycle PPT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Arial"/>
              </a:rPr>
              <a:t>Water cycle proforma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01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"/>
              </a:rPr>
              <a:t>Building on this work</a:t>
            </a: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789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cc"/>
                </a:solidFill>
                <a:latin typeface="Arial"/>
              </a:rPr>
              <a:t>1CS5 Teaching Language and Math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Work collaboratively and use developing ICT skills to create a wed-based branching story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Emphasise associated MIICE issues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Learner reflection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Shared planning/organisation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Managing &amp; manipulating digital information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8301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0180"/>
                </a:solidFill>
                <a:latin typeface="Arial"/>
              </a:rPr>
              <a:t>Examples of Student work</a:t>
            </a:r>
            <a:endParaRPr b="0" lang="en-US" sz="2800" spc="-1" strike="noStrike">
              <a:solidFill>
                <a:srgbClr val="8301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Finding Drek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The Wozard of Iz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The Quest</a:t>
            </a:r>
            <a:endParaRPr b="0" lang="en-US" sz="2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2:29:38Z</dcterms:created>
  <dc:creator>Derek P Robertson</dc:creator>
  <dc:description/>
  <dc:language>en-US</dc:language>
  <cp:lastModifiedBy>Roddy Stuart</cp:lastModifiedBy>
  <dcterms:modified xsi:type="dcterms:W3CDTF">2004-07-02T16:42:19Z</dcterms:modified>
  <cp:revision>53</cp:revision>
  <dc:subject/>
  <dc:title>Groupwise Web Access Training</dc:title>
</cp:coreProperties>
</file>