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055-28FB-48A3-91FB-10D693BD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9F98-6F3A-4DD2-A69A-72210296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FCFE-206D-4AE4-BA71-E1B931BD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3AD4-7F39-41DE-8BFF-65DE22B2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3849-5185-4217-9D69-1C620F65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88B3-DD3F-4457-A963-F7716A4C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8D2-1FF3-411A-876E-709445D2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5AF9-A52E-41C9-B6B3-34B30126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6085-0AB5-4870-9CA3-0FAA8A75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D15C-9178-4DAF-97FD-325D929A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98C-3AE3-41D6-85CD-CC21BDC4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AB9-73A4-4431-AF98-6014F50C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B222-9CE4-4E86-B57D-10E309A89A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Comic Sans MS"/>
              </a:rPr>
              <a:t>The Hydrologic cyc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aniel Tudor BE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115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67640" y="333360"/>
            <a:ext cx="900000" cy="934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-185760" y="3924360"/>
            <a:ext cx="9434520" cy="3224160"/>
            <a:chOff x="-185760" y="3924360"/>
            <a:chExt cx="9434520" cy="3224160"/>
          </a:xfrm>
        </p:grpSpPr>
        <p:sp>
          <p:nvSpPr>
            <p:cNvPr id="46" name=""/>
            <p:cNvSpPr/>
            <p:nvPr/>
          </p:nvSpPr>
          <p:spPr>
            <a:xfrm>
              <a:off x="-185760" y="3924360"/>
              <a:ext cx="3164040" cy="3093840"/>
            </a:xfrm>
            <a:custGeom>
              <a:avLst/>
              <a:gdLst/>
              <a:ahLst/>
              <a:rect l="l" t="t" r="r" b="b"/>
              <a:pathLst>
                <a:path w="1993" h="1949">
                  <a:moveTo>
                    <a:pt x="108" y="851"/>
                  </a:moveTo>
                  <a:cubicBezTo>
                    <a:pt x="134" y="838"/>
                    <a:pt x="153" y="833"/>
                    <a:pt x="170" y="807"/>
                  </a:cubicBezTo>
                  <a:cubicBezTo>
                    <a:pt x="194" y="770"/>
                    <a:pt x="207" y="707"/>
                    <a:pt x="241" y="674"/>
                  </a:cubicBezTo>
                  <a:cubicBezTo>
                    <a:pt x="249" y="666"/>
                    <a:pt x="259" y="662"/>
                    <a:pt x="268" y="656"/>
                  </a:cubicBezTo>
                  <a:cubicBezTo>
                    <a:pt x="280" y="648"/>
                    <a:pt x="293" y="640"/>
                    <a:pt x="303" y="630"/>
                  </a:cubicBezTo>
                  <a:cubicBezTo>
                    <a:pt x="321" y="612"/>
                    <a:pt x="338" y="594"/>
                    <a:pt x="356" y="576"/>
                  </a:cubicBezTo>
                  <a:cubicBezTo>
                    <a:pt x="389" y="543"/>
                    <a:pt x="395" y="513"/>
                    <a:pt x="418" y="470"/>
                  </a:cubicBezTo>
                  <a:cubicBezTo>
                    <a:pt x="437" y="435"/>
                    <a:pt x="465" y="405"/>
                    <a:pt x="489" y="373"/>
                  </a:cubicBezTo>
                  <a:cubicBezTo>
                    <a:pt x="514" y="340"/>
                    <a:pt x="547" y="319"/>
                    <a:pt x="569" y="284"/>
                  </a:cubicBezTo>
                  <a:cubicBezTo>
                    <a:pt x="612" y="215"/>
                    <a:pt x="644" y="156"/>
                    <a:pt x="702" y="98"/>
                  </a:cubicBezTo>
                  <a:cubicBezTo>
                    <a:pt x="738" y="62"/>
                    <a:pt x="747" y="18"/>
                    <a:pt x="799" y="0"/>
                  </a:cubicBezTo>
                  <a:cubicBezTo>
                    <a:pt x="826" y="3"/>
                    <a:pt x="854" y="0"/>
                    <a:pt x="879" y="9"/>
                  </a:cubicBezTo>
                  <a:cubicBezTo>
                    <a:pt x="893" y="14"/>
                    <a:pt x="925" y="63"/>
                    <a:pt x="932" y="71"/>
                  </a:cubicBezTo>
                  <a:cubicBezTo>
                    <a:pt x="1011" y="158"/>
                    <a:pt x="963" y="92"/>
                    <a:pt x="1003" y="151"/>
                  </a:cubicBezTo>
                  <a:cubicBezTo>
                    <a:pt x="1020" y="218"/>
                    <a:pt x="1025" y="277"/>
                    <a:pt x="1083" y="319"/>
                  </a:cubicBezTo>
                  <a:cubicBezTo>
                    <a:pt x="1092" y="340"/>
                    <a:pt x="1092" y="366"/>
                    <a:pt x="1109" y="381"/>
                  </a:cubicBezTo>
                  <a:cubicBezTo>
                    <a:pt x="1123" y="393"/>
                    <a:pt x="1146" y="383"/>
                    <a:pt x="1163" y="390"/>
                  </a:cubicBezTo>
                  <a:cubicBezTo>
                    <a:pt x="1206" y="407"/>
                    <a:pt x="1230" y="454"/>
                    <a:pt x="1269" y="479"/>
                  </a:cubicBezTo>
                  <a:cubicBezTo>
                    <a:pt x="1285" y="489"/>
                    <a:pt x="1304" y="491"/>
                    <a:pt x="1322" y="497"/>
                  </a:cubicBezTo>
                  <a:cubicBezTo>
                    <a:pt x="1375" y="534"/>
                    <a:pt x="1394" y="558"/>
                    <a:pt x="1437" y="603"/>
                  </a:cubicBezTo>
                  <a:cubicBezTo>
                    <a:pt x="1462" y="676"/>
                    <a:pt x="1538" y="772"/>
                    <a:pt x="1615" y="798"/>
                  </a:cubicBezTo>
                  <a:cubicBezTo>
                    <a:pt x="1641" y="818"/>
                    <a:pt x="1680" y="828"/>
                    <a:pt x="1703" y="851"/>
                  </a:cubicBezTo>
                  <a:cubicBezTo>
                    <a:pt x="1792" y="942"/>
                    <a:pt x="1676" y="835"/>
                    <a:pt x="1748" y="922"/>
                  </a:cubicBezTo>
                  <a:cubicBezTo>
                    <a:pt x="1800" y="984"/>
                    <a:pt x="1762" y="856"/>
                    <a:pt x="1836" y="1002"/>
                  </a:cubicBezTo>
                  <a:cubicBezTo>
                    <a:pt x="1848" y="1026"/>
                    <a:pt x="1858" y="1051"/>
                    <a:pt x="1872" y="1073"/>
                  </a:cubicBezTo>
                  <a:cubicBezTo>
                    <a:pt x="1888" y="1098"/>
                    <a:pt x="1925" y="1144"/>
                    <a:pt x="1925" y="1144"/>
                  </a:cubicBezTo>
                  <a:cubicBezTo>
                    <a:pt x="1938" y="1194"/>
                    <a:pt x="1943" y="1245"/>
                    <a:pt x="1960" y="1294"/>
                  </a:cubicBezTo>
                  <a:cubicBezTo>
                    <a:pt x="1957" y="1389"/>
                    <a:pt x="1955" y="1483"/>
                    <a:pt x="1951" y="1578"/>
                  </a:cubicBezTo>
                  <a:cubicBezTo>
                    <a:pt x="1949" y="1616"/>
                    <a:pt x="1944" y="1655"/>
                    <a:pt x="1942" y="1693"/>
                  </a:cubicBezTo>
                  <a:cubicBezTo>
                    <a:pt x="1938" y="1758"/>
                    <a:pt x="1993" y="1862"/>
                    <a:pt x="1934" y="1888"/>
                  </a:cubicBezTo>
                  <a:cubicBezTo>
                    <a:pt x="1796" y="1949"/>
                    <a:pt x="1633" y="1894"/>
                    <a:pt x="1482" y="1897"/>
                  </a:cubicBezTo>
                  <a:cubicBezTo>
                    <a:pt x="1021" y="1892"/>
                    <a:pt x="614" y="1889"/>
                    <a:pt x="170" y="1852"/>
                  </a:cubicBezTo>
                  <a:cubicBezTo>
                    <a:pt x="139" y="1837"/>
                    <a:pt x="110" y="1828"/>
                    <a:pt x="82" y="1808"/>
                  </a:cubicBezTo>
                  <a:cubicBezTo>
                    <a:pt x="82" y="1785"/>
                    <a:pt x="124" y="1254"/>
                    <a:pt x="37" y="1081"/>
                  </a:cubicBezTo>
                  <a:cubicBezTo>
                    <a:pt x="31" y="1036"/>
                    <a:pt x="22" y="1000"/>
                    <a:pt x="11" y="957"/>
                  </a:cubicBezTo>
                  <a:cubicBezTo>
                    <a:pt x="14" y="931"/>
                    <a:pt x="0" y="895"/>
                    <a:pt x="20" y="878"/>
                  </a:cubicBezTo>
                  <a:cubicBezTo>
                    <a:pt x="45" y="857"/>
                    <a:pt x="86" y="879"/>
                    <a:pt x="117" y="869"/>
                  </a:cubicBezTo>
                  <a:cubicBezTo>
                    <a:pt x="126" y="866"/>
                    <a:pt x="130" y="850"/>
                    <a:pt x="126" y="842"/>
                  </a:cubicBezTo>
                  <a:cubicBezTo>
                    <a:pt x="123" y="836"/>
                    <a:pt x="114" y="848"/>
                    <a:pt x="108" y="85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84240" y="4149720"/>
              <a:ext cx="2987640" cy="2728800"/>
            </a:xfrm>
            <a:custGeom>
              <a:avLst/>
              <a:gdLst/>
              <a:ahLst/>
              <a:rect l="l" t="t" r="r" b="b"/>
              <a:pathLst>
                <a:path w="1882" h="1719">
                  <a:moveTo>
                    <a:pt x="0" y="346"/>
                  </a:moveTo>
                  <a:cubicBezTo>
                    <a:pt x="42" y="342"/>
                    <a:pt x="95" y="358"/>
                    <a:pt x="125" y="328"/>
                  </a:cubicBezTo>
                  <a:cubicBezTo>
                    <a:pt x="151" y="302"/>
                    <a:pt x="174" y="254"/>
                    <a:pt x="195" y="222"/>
                  </a:cubicBezTo>
                  <a:cubicBezTo>
                    <a:pt x="204" y="208"/>
                    <a:pt x="226" y="212"/>
                    <a:pt x="240" y="204"/>
                  </a:cubicBezTo>
                  <a:cubicBezTo>
                    <a:pt x="259" y="194"/>
                    <a:pt x="293" y="169"/>
                    <a:pt x="293" y="169"/>
                  </a:cubicBezTo>
                  <a:cubicBezTo>
                    <a:pt x="331" y="111"/>
                    <a:pt x="368" y="22"/>
                    <a:pt x="435" y="0"/>
                  </a:cubicBezTo>
                  <a:cubicBezTo>
                    <a:pt x="480" y="23"/>
                    <a:pt x="523" y="53"/>
                    <a:pt x="559" y="89"/>
                  </a:cubicBezTo>
                  <a:cubicBezTo>
                    <a:pt x="625" y="155"/>
                    <a:pt x="548" y="99"/>
                    <a:pt x="612" y="142"/>
                  </a:cubicBezTo>
                  <a:cubicBezTo>
                    <a:pt x="621" y="166"/>
                    <a:pt x="621" y="194"/>
                    <a:pt x="638" y="213"/>
                  </a:cubicBezTo>
                  <a:cubicBezTo>
                    <a:pt x="660" y="237"/>
                    <a:pt x="700" y="238"/>
                    <a:pt x="727" y="257"/>
                  </a:cubicBezTo>
                  <a:cubicBezTo>
                    <a:pt x="772" y="325"/>
                    <a:pt x="705" y="239"/>
                    <a:pt x="798" y="293"/>
                  </a:cubicBezTo>
                  <a:cubicBezTo>
                    <a:pt x="829" y="311"/>
                    <a:pt x="849" y="343"/>
                    <a:pt x="869" y="372"/>
                  </a:cubicBezTo>
                  <a:cubicBezTo>
                    <a:pt x="891" y="437"/>
                    <a:pt x="877" y="431"/>
                    <a:pt x="949" y="443"/>
                  </a:cubicBezTo>
                  <a:cubicBezTo>
                    <a:pt x="983" y="491"/>
                    <a:pt x="1019" y="530"/>
                    <a:pt x="1055" y="576"/>
                  </a:cubicBezTo>
                  <a:cubicBezTo>
                    <a:pt x="1072" y="644"/>
                    <a:pt x="1080" y="724"/>
                    <a:pt x="1126" y="780"/>
                  </a:cubicBezTo>
                  <a:cubicBezTo>
                    <a:pt x="1150" y="809"/>
                    <a:pt x="1182" y="822"/>
                    <a:pt x="1206" y="851"/>
                  </a:cubicBezTo>
                  <a:cubicBezTo>
                    <a:pt x="1246" y="899"/>
                    <a:pt x="1256" y="962"/>
                    <a:pt x="1321" y="984"/>
                  </a:cubicBezTo>
                  <a:cubicBezTo>
                    <a:pt x="1347" y="1019"/>
                    <a:pt x="1375" y="1038"/>
                    <a:pt x="1401" y="1072"/>
                  </a:cubicBezTo>
                  <a:cubicBezTo>
                    <a:pt x="1414" y="1129"/>
                    <a:pt x="1441" y="1140"/>
                    <a:pt x="1480" y="1179"/>
                  </a:cubicBezTo>
                  <a:cubicBezTo>
                    <a:pt x="1510" y="1209"/>
                    <a:pt x="1526" y="1251"/>
                    <a:pt x="1551" y="1285"/>
                  </a:cubicBezTo>
                  <a:cubicBezTo>
                    <a:pt x="1572" y="1347"/>
                    <a:pt x="1599" y="1379"/>
                    <a:pt x="1658" y="1409"/>
                  </a:cubicBezTo>
                  <a:cubicBezTo>
                    <a:pt x="1687" y="1489"/>
                    <a:pt x="1708" y="1523"/>
                    <a:pt x="1790" y="1551"/>
                  </a:cubicBezTo>
                  <a:cubicBezTo>
                    <a:pt x="1796" y="1563"/>
                    <a:pt x="1797" y="1579"/>
                    <a:pt x="1808" y="1586"/>
                  </a:cubicBezTo>
                  <a:cubicBezTo>
                    <a:pt x="1882" y="1632"/>
                    <a:pt x="1849" y="1559"/>
                    <a:pt x="1870" y="1622"/>
                  </a:cubicBezTo>
                  <a:cubicBezTo>
                    <a:pt x="1867" y="1640"/>
                    <a:pt x="1873" y="1662"/>
                    <a:pt x="1861" y="1675"/>
                  </a:cubicBezTo>
                  <a:cubicBezTo>
                    <a:pt x="1849" y="1689"/>
                    <a:pt x="1808" y="1693"/>
                    <a:pt x="1808" y="1693"/>
                  </a:cubicBezTo>
                  <a:cubicBezTo>
                    <a:pt x="1480" y="1664"/>
                    <a:pt x="1672" y="1673"/>
                    <a:pt x="1232" y="1684"/>
                  </a:cubicBezTo>
                  <a:cubicBezTo>
                    <a:pt x="1180" y="1697"/>
                    <a:pt x="1167" y="1710"/>
                    <a:pt x="1108" y="1719"/>
                  </a:cubicBezTo>
                  <a:cubicBezTo>
                    <a:pt x="742" y="1709"/>
                    <a:pt x="895" y="1710"/>
                    <a:pt x="647" y="1710"/>
                  </a:cubicBez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964200" y="4819680"/>
              <a:ext cx="2284560" cy="2225520"/>
            </a:xfrm>
            <a:custGeom>
              <a:avLst/>
              <a:gdLst/>
              <a:ahLst/>
              <a:rect l="l" t="t" r="r" b="b"/>
              <a:pathLst>
                <a:path w="1439" h="1402">
                  <a:moveTo>
                    <a:pt x="186" y="961"/>
                  </a:moveTo>
                  <a:cubicBezTo>
                    <a:pt x="260" y="948"/>
                    <a:pt x="224" y="962"/>
                    <a:pt x="292" y="916"/>
                  </a:cubicBezTo>
                  <a:cubicBezTo>
                    <a:pt x="317" y="899"/>
                    <a:pt x="371" y="895"/>
                    <a:pt x="398" y="890"/>
                  </a:cubicBezTo>
                  <a:cubicBezTo>
                    <a:pt x="465" y="856"/>
                    <a:pt x="532" y="817"/>
                    <a:pt x="593" y="774"/>
                  </a:cubicBezTo>
                  <a:cubicBezTo>
                    <a:pt x="610" y="762"/>
                    <a:pt x="628" y="751"/>
                    <a:pt x="646" y="739"/>
                  </a:cubicBezTo>
                  <a:cubicBezTo>
                    <a:pt x="655" y="733"/>
                    <a:pt x="673" y="721"/>
                    <a:pt x="673" y="721"/>
                  </a:cubicBezTo>
                  <a:cubicBezTo>
                    <a:pt x="703" y="677"/>
                    <a:pt x="755" y="632"/>
                    <a:pt x="806" y="615"/>
                  </a:cubicBezTo>
                  <a:cubicBezTo>
                    <a:pt x="871" y="565"/>
                    <a:pt x="917" y="495"/>
                    <a:pt x="974" y="438"/>
                  </a:cubicBezTo>
                  <a:cubicBezTo>
                    <a:pt x="988" y="353"/>
                    <a:pt x="1037" y="254"/>
                    <a:pt x="1125" y="225"/>
                  </a:cubicBezTo>
                  <a:cubicBezTo>
                    <a:pt x="1171" y="195"/>
                    <a:pt x="1218" y="151"/>
                    <a:pt x="1267" y="128"/>
                  </a:cubicBezTo>
                  <a:cubicBezTo>
                    <a:pt x="1328" y="31"/>
                    <a:pt x="1236" y="168"/>
                    <a:pt x="1311" y="83"/>
                  </a:cubicBezTo>
                  <a:cubicBezTo>
                    <a:pt x="1384" y="0"/>
                    <a:pt x="1312" y="53"/>
                    <a:pt x="1373" y="12"/>
                  </a:cubicBezTo>
                  <a:cubicBezTo>
                    <a:pt x="1380" y="116"/>
                    <a:pt x="1383" y="220"/>
                    <a:pt x="1400" y="323"/>
                  </a:cubicBezTo>
                  <a:cubicBezTo>
                    <a:pt x="1400" y="339"/>
                    <a:pt x="1439" y="1044"/>
                    <a:pt x="1391" y="1182"/>
                  </a:cubicBezTo>
                  <a:cubicBezTo>
                    <a:pt x="1391" y="1183"/>
                    <a:pt x="1377" y="1306"/>
                    <a:pt x="1364" y="1315"/>
                  </a:cubicBezTo>
                  <a:cubicBezTo>
                    <a:pt x="1343" y="1329"/>
                    <a:pt x="1317" y="1333"/>
                    <a:pt x="1293" y="1342"/>
                  </a:cubicBezTo>
                  <a:cubicBezTo>
                    <a:pt x="848" y="1338"/>
                    <a:pt x="439" y="1402"/>
                    <a:pt x="26" y="1280"/>
                  </a:cubicBezTo>
                  <a:cubicBezTo>
                    <a:pt x="7" y="1224"/>
                    <a:pt x="0" y="1188"/>
                    <a:pt x="35" y="1138"/>
                  </a:cubicBezTo>
                  <a:cubicBezTo>
                    <a:pt x="54" y="1081"/>
                    <a:pt x="118" y="1065"/>
                    <a:pt x="168" y="1040"/>
                  </a:cubicBez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-84240" y="4713120"/>
              <a:ext cx="9279000" cy="2435400"/>
              <a:chOff x="-84240" y="4713120"/>
              <a:chExt cx="9279000" cy="2435400"/>
            </a:xfrm>
          </p:grpSpPr>
          <p:sp>
            <p:nvSpPr>
              <p:cNvPr id="50" name=""/>
              <p:cNvSpPr/>
              <p:nvPr/>
            </p:nvSpPr>
            <p:spPr>
              <a:xfrm>
                <a:off x="-84240" y="6437160"/>
                <a:ext cx="9279000" cy="711360"/>
              </a:xfrm>
              <a:custGeom>
                <a:avLst/>
                <a:gdLst/>
                <a:ahLst/>
                <a:rect l="l" t="t" r="r" b="b"/>
                <a:pathLst>
                  <a:path w="5845" h="448">
                    <a:moveTo>
                      <a:pt x="35" y="119"/>
                    </a:moveTo>
                    <a:cubicBezTo>
                      <a:pt x="252" y="87"/>
                      <a:pt x="313" y="94"/>
                      <a:pt x="585" y="101"/>
                    </a:cubicBezTo>
                    <a:cubicBezTo>
                      <a:pt x="714" y="134"/>
                      <a:pt x="838" y="108"/>
                      <a:pt x="966" y="92"/>
                    </a:cubicBezTo>
                    <a:cubicBezTo>
                      <a:pt x="1028" y="95"/>
                      <a:pt x="1090" y="96"/>
                      <a:pt x="1152" y="101"/>
                    </a:cubicBezTo>
                    <a:cubicBezTo>
                      <a:pt x="1200" y="105"/>
                      <a:pt x="1294" y="119"/>
                      <a:pt x="1294" y="119"/>
                    </a:cubicBezTo>
                    <a:cubicBezTo>
                      <a:pt x="1692" y="114"/>
                      <a:pt x="2100" y="128"/>
                      <a:pt x="2499" y="110"/>
                    </a:cubicBezTo>
                    <a:cubicBezTo>
                      <a:pt x="2524" y="104"/>
                      <a:pt x="2545" y="88"/>
                      <a:pt x="2570" y="83"/>
                    </a:cubicBezTo>
                    <a:cubicBezTo>
                      <a:pt x="2669" y="64"/>
                      <a:pt x="2765" y="64"/>
                      <a:pt x="2862" y="39"/>
                    </a:cubicBezTo>
                    <a:cubicBezTo>
                      <a:pt x="2920" y="0"/>
                      <a:pt x="2929" y="13"/>
                      <a:pt x="3013" y="21"/>
                    </a:cubicBezTo>
                    <a:cubicBezTo>
                      <a:pt x="3032" y="27"/>
                      <a:pt x="3047" y="42"/>
                      <a:pt x="3066" y="48"/>
                    </a:cubicBezTo>
                    <a:cubicBezTo>
                      <a:pt x="3090" y="56"/>
                      <a:pt x="3198" y="65"/>
                      <a:pt x="3208" y="66"/>
                    </a:cubicBezTo>
                    <a:cubicBezTo>
                      <a:pt x="3282" y="74"/>
                      <a:pt x="3356" y="81"/>
                      <a:pt x="3429" y="92"/>
                    </a:cubicBezTo>
                    <a:cubicBezTo>
                      <a:pt x="3532" y="126"/>
                      <a:pt x="3586" y="114"/>
                      <a:pt x="3722" y="119"/>
                    </a:cubicBezTo>
                    <a:cubicBezTo>
                      <a:pt x="3994" y="114"/>
                      <a:pt x="4184" y="136"/>
                      <a:pt x="4422" y="66"/>
                    </a:cubicBezTo>
                    <a:cubicBezTo>
                      <a:pt x="5391" y="87"/>
                      <a:pt x="4936" y="79"/>
                      <a:pt x="5786" y="92"/>
                    </a:cubicBezTo>
                    <a:cubicBezTo>
                      <a:pt x="5822" y="187"/>
                      <a:pt x="5806" y="138"/>
                      <a:pt x="5831" y="234"/>
                    </a:cubicBezTo>
                    <a:cubicBezTo>
                      <a:pt x="5834" y="246"/>
                      <a:pt x="5840" y="269"/>
                      <a:pt x="5840" y="269"/>
                    </a:cubicBezTo>
                    <a:cubicBezTo>
                      <a:pt x="5837" y="296"/>
                      <a:pt x="5845" y="326"/>
                      <a:pt x="5831" y="349"/>
                    </a:cubicBezTo>
                    <a:cubicBezTo>
                      <a:pt x="5821" y="365"/>
                      <a:pt x="5797" y="366"/>
                      <a:pt x="5778" y="367"/>
                    </a:cubicBezTo>
                    <a:cubicBezTo>
                      <a:pt x="5731" y="370"/>
                      <a:pt x="5683" y="374"/>
                      <a:pt x="5636" y="376"/>
                    </a:cubicBezTo>
                    <a:cubicBezTo>
                      <a:pt x="5547" y="380"/>
                      <a:pt x="5459" y="382"/>
                      <a:pt x="5370" y="385"/>
                    </a:cubicBezTo>
                    <a:cubicBezTo>
                      <a:pt x="4913" y="419"/>
                      <a:pt x="4500" y="424"/>
                      <a:pt x="4023" y="429"/>
                    </a:cubicBezTo>
                    <a:cubicBezTo>
                      <a:pt x="3615" y="448"/>
                      <a:pt x="3309" y="443"/>
                      <a:pt x="2853" y="438"/>
                    </a:cubicBezTo>
                    <a:cubicBezTo>
                      <a:pt x="2522" y="426"/>
                      <a:pt x="2192" y="395"/>
                      <a:pt x="1861" y="376"/>
                    </a:cubicBezTo>
                    <a:cubicBezTo>
                      <a:pt x="1283" y="303"/>
                      <a:pt x="687" y="318"/>
                      <a:pt x="106" y="296"/>
                    </a:cubicBezTo>
                    <a:cubicBezTo>
                      <a:pt x="44" y="278"/>
                      <a:pt x="28" y="280"/>
                      <a:pt x="0" y="225"/>
                    </a:cubicBezTo>
                    <a:cubicBezTo>
                      <a:pt x="7" y="182"/>
                      <a:pt x="16" y="157"/>
                      <a:pt x="35" y="119"/>
                    </a:cubicBez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955880" y="4713120"/>
                <a:ext cx="2503440" cy="1841760"/>
              </a:xfrm>
              <a:custGeom>
                <a:avLst/>
                <a:gdLst/>
                <a:ahLst/>
                <a:rect l="l" t="t" r="r" b="b"/>
                <a:pathLst>
                  <a:path w="1577" h="1160">
                    <a:moveTo>
                      <a:pt x="0" y="8"/>
                    </a:moveTo>
                    <a:cubicBezTo>
                      <a:pt x="77" y="28"/>
                      <a:pt x="73" y="75"/>
                      <a:pt x="133" y="115"/>
                    </a:cubicBezTo>
                    <a:cubicBezTo>
                      <a:pt x="138" y="126"/>
                      <a:pt x="170" y="196"/>
                      <a:pt x="177" y="203"/>
                    </a:cubicBezTo>
                    <a:cubicBezTo>
                      <a:pt x="200" y="226"/>
                      <a:pt x="247" y="226"/>
                      <a:pt x="274" y="230"/>
                    </a:cubicBezTo>
                    <a:cubicBezTo>
                      <a:pt x="303" y="240"/>
                      <a:pt x="325" y="256"/>
                      <a:pt x="354" y="265"/>
                    </a:cubicBezTo>
                    <a:cubicBezTo>
                      <a:pt x="416" y="328"/>
                      <a:pt x="389" y="302"/>
                      <a:pt x="434" y="345"/>
                    </a:cubicBezTo>
                    <a:cubicBezTo>
                      <a:pt x="469" y="379"/>
                      <a:pt x="457" y="411"/>
                      <a:pt x="505" y="443"/>
                    </a:cubicBezTo>
                    <a:cubicBezTo>
                      <a:pt x="525" y="472"/>
                      <a:pt x="576" y="522"/>
                      <a:pt x="576" y="522"/>
                    </a:cubicBezTo>
                    <a:cubicBezTo>
                      <a:pt x="591" y="569"/>
                      <a:pt x="602" y="641"/>
                      <a:pt x="629" y="682"/>
                    </a:cubicBezTo>
                    <a:cubicBezTo>
                      <a:pt x="641" y="729"/>
                      <a:pt x="653" y="765"/>
                      <a:pt x="700" y="779"/>
                    </a:cubicBezTo>
                    <a:cubicBezTo>
                      <a:pt x="747" y="812"/>
                      <a:pt x="792" y="828"/>
                      <a:pt x="833" y="868"/>
                    </a:cubicBezTo>
                    <a:cubicBezTo>
                      <a:pt x="898" y="1063"/>
                      <a:pt x="1168" y="1110"/>
                      <a:pt x="1338" y="1160"/>
                    </a:cubicBezTo>
                    <a:cubicBezTo>
                      <a:pt x="1413" y="1155"/>
                      <a:pt x="1505" y="1159"/>
                      <a:pt x="1577" y="1134"/>
                    </a:cubicBezTo>
                    <a:cubicBezTo>
                      <a:pt x="1536" y="1120"/>
                      <a:pt x="1505" y="1100"/>
                      <a:pt x="1462" y="1090"/>
                    </a:cubicBezTo>
                    <a:cubicBezTo>
                      <a:pt x="1416" y="1044"/>
                      <a:pt x="1399" y="1047"/>
                      <a:pt x="1338" y="1028"/>
                    </a:cubicBezTo>
                    <a:cubicBezTo>
                      <a:pt x="1329" y="1022"/>
                      <a:pt x="1321" y="1014"/>
                      <a:pt x="1311" y="1010"/>
                    </a:cubicBezTo>
                    <a:cubicBezTo>
                      <a:pt x="1294" y="1002"/>
                      <a:pt x="1258" y="992"/>
                      <a:pt x="1258" y="992"/>
                    </a:cubicBezTo>
                    <a:cubicBezTo>
                      <a:pt x="1224" y="969"/>
                      <a:pt x="1192" y="961"/>
                      <a:pt x="1152" y="948"/>
                    </a:cubicBezTo>
                    <a:cubicBezTo>
                      <a:pt x="1143" y="945"/>
                      <a:pt x="1125" y="939"/>
                      <a:pt x="1125" y="939"/>
                    </a:cubicBezTo>
                    <a:cubicBezTo>
                      <a:pt x="1067" y="900"/>
                      <a:pt x="1031" y="882"/>
                      <a:pt x="966" y="859"/>
                    </a:cubicBezTo>
                    <a:cubicBezTo>
                      <a:pt x="941" y="850"/>
                      <a:pt x="895" y="824"/>
                      <a:pt x="895" y="824"/>
                    </a:cubicBezTo>
                    <a:cubicBezTo>
                      <a:pt x="835" y="764"/>
                      <a:pt x="903" y="823"/>
                      <a:pt x="833" y="788"/>
                    </a:cubicBezTo>
                    <a:cubicBezTo>
                      <a:pt x="810" y="776"/>
                      <a:pt x="767" y="743"/>
                      <a:pt x="744" y="726"/>
                    </a:cubicBezTo>
                    <a:cubicBezTo>
                      <a:pt x="734" y="719"/>
                      <a:pt x="726" y="710"/>
                      <a:pt x="718" y="700"/>
                    </a:cubicBezTo>
                    <a:cubicBezTo>
                      <a:pt x="705" y="683"/>
                      <a:pt x="682" y="647"/>
                      <a:pt x="682" y="647"/>
                    </a:cubicBezTo>
                    <a:cubicBezTo>
                      <a:pt x="672" y="618"/>
                      <a:pt x="638" y="567"/>
                      <a:pt x="638" y="567"/>
                    </a:cubicBezTo>
                    <a:cubicBezTo>
                      <a:pt x="626" y="531"/>
                      <a:pt x="614" y="496"/>
                      <a:pt x="602" y="460"/>
                    </a:cubicBezTo>
                    <a:cubicBezTo>
                      <a:pt x="600" y="453"/>
                      <a:pt x="560" y="397"/>
                      <a:pt x="549" y="381"/>
                    </a:cubicBezTo>
                    <a:cubicBezTo>
                      <a:pt x="474" y="271"/>
                      <a:pt x="360" y="205"/>
                      <a:pt x="230" y="186"/>
                    </a:cubicBezTo>
                    <a:cubicBezTo>
                      <a:pt x="175" y="143"/>
                      <a:pt x="136" y="75"/>
                      <a:pt x="97" y="17"/>
                    </a:cubicBezTo>
                    <a:cubicBezTo>
                      <a:pt x="96" y="15"/>
                      <a:pt x="46" y="0"/>
                      <a:pt x="44" y="0"/>
                    </a:cubicBezTo>
                    <a:cubicBezTo>
                      <a:pt x="12" y="10"/>
                      <a:pt x="26" y="8"/>
                      <a:pt x="0" y="8"/>
                    </a:cubicBez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" name=""/>
          <p:cNvGrpSpPr/>
          <p:nvPr/>
        </p:nvGrpSpPr>
        <p:grpSpPr>
          <a:xfrm>
            <a:off x="5791320" y="533520"/>
            <a:ext cx="2950560" cy="1733040"/>
            <a:chOff x="5791320" y="533520"/>
            <a:chExt cx="2950560" cy="1733040"/>
          </a:xfrm>
        </p:grpSpPr>
        <p:sp>
          <p:nvSpPr>
            <p:cNvPr id="53" name="Cloud"/>
            <p:cNvSpPr/>
            <p:nvPr/>
          </p:nvSpPr>
          <p:spPr>
            <a:xfrm>
              <a:off x="6798960" y="965160"/>
              <a:ext cx="1942920" cy="13014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Cloud"/>
            <p:cNvSpPr/>
            <p:nvPr/>
          </p:nvSpPr>
          <p:spPr>
            <a:xfrm>
              <a:off x="5791320" y="533520"/>
              <a:ext cx="1942560" cy="13014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796000" y="5355720"/>
            <a:ext cx="1152360" cy="792360"/>
            <a:chOff x="5796000" y="5355720"/>
            <a:chExt cx="1152360" cy="792360"/>
          </a:xfrm>
        </p:grpSpPr>
        <p:sp>
          <p:nvSpPr>
            <p:cNvPr id="56" name=""/>
            <p:cNvSpPr/>
            <p:nvPr/>
          </p:nvSpPr>
          <p:spPr>
            <a:xfrm flipV="1">
              <a:off x="6516720" y="5571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732720" y="5787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796000" y="5787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300720" y="5355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6948360" y="5571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56360" y="57160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733920" y="4038120"/>
            <a:ext cx="3285720" cy="1130760"/>
            <a:chOff x="3733920" y="4038120"/>
            <a:chExt cx="3285720" cy="1130760"/>
          </a:xfrm>
        </p:grpSpPr>
        <p:sp>
          <p:nvSpPr>
            <p:cNvPr id="63" name=""/>
            <p:cNvSpPr/>
            <p:nvPr/>
          </p:nvSpPr>
          <p:spPr>
            <a:xfrm>
              <a:off x="3733920" y="434340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vapo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5867280" y="4038120"/>
              <a:ext cx="1152360" cy="792360"/>
              <a:chOff x="5867280" y="4038120"/>
              <a:chExt cx="1152360" cy="792360"/>
            </a:xfrm>
          </p:grpSpPr>
          <p:sp>
            <p:nvSpPr>
              <p:cNvPr id="65" name=""/>
              <p:cNvSpPr/>
              <p:nvPr/>
            </p:nvSpPr>
            <p:spPr>
              <a:xfrm flipV="1">
                <a:off x="6588000" y="425412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6804000" y="447012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5867280" y="447012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6372000" y="403812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7019640" y="425412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6227640" y="439848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5867280" y="2666520"/>
            <a:ext cx="1152360" cy="792360"/>
            <a:chOff x="5867280" y="2666520"/>
            <a:chExt cx="1152360" cy="792360"/>
          </a:xfrm>
        </p:grpSpPr>
        <p:sp>
          <p:nvSpPr>
            <p:cNvPr id="72" name=""/>
            <p:cNvSpPr/>
            <p:nvPr/>
          </p:nvSpPr>
          <p:spPr>
            <a:xfrm flipV="1">
              <a:off x="6588000" y="28825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6804000" y="30985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867280" y="30985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372000" y="26665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019640" y="28825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227640" y="30268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248520" y="1219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33520" y="533520"/>
            <a:ext cx="2950560" cy="1733040"/>
            <a:chOff x="533520" y="533520"/>
            <a:chExt cx="2950560" cy="1733040"/>
          </a:xfrm>
        </p:grpSpPr>
        <p:sp>
          <p:nvSpPr>
            <p:cNvPr id="80" name="Cloud"/>
            <p:cNvSpPr/>
            <p:nvPr/>
          </p:nvSpPr>
          <p:spPr>
            <a:xfrm>
              <a:off x="1541160" y="965160"/>
              <a:ext cx="1942920" cy="130140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Cloud"/>
            <p:cNvSpPr/>
            <p:nvPr/>
          </p:nvSpPr>
          <p:spPr>
            <a:xfrm>
              <a:off x="533520" y="533520"/>
              <a:ext cx="1942560" cy="130140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0" y="5257800"/>
            <a:ext cx="2285640" cy="1143000"/>
            <a:chOff x="0" y="5257800"/>
            <a:chExt cx="2285640" cy="1143000"/>
          </a:xfrm>
        </p:grpSpPr>
        <p:grpSp>
          <p:nvGrpSpPr>
            <p:cNvPr id="83" name=""/>
            <p:cNvGrpSpPr/>
            <p:nvPr/>
          </p:nvGrpSpPr>
          <p:grpSpPr>
            <a:xfrm>
              <a:off x="1447920" y="5410080"/>
              <a:ext cx="837720" cy="685800"/>
              <a:chOff x="1447920" y="5410080"/>
              <a:chExt cx="837720" cy="68580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1752480" y="5410080"/>
                <a:ext cx="151920" cy="228600"/>
                <a:chOff x="1752480" y="5410080"/>
                <a:chExt cx="151920" cy="22860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752480" y="5410080"/>
                  <a:ext cx="15192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812960" y="558144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1904760" y="5562720"/>
                <a:ext cx="152280" cy="228600"/>
                <a:chOff x="1904760" y="5562720"/>
                <a:chExt cx="152280" cy="2286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1904760" y="556272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965600" y="573408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1828800" y="5867280"/>
                <a:ext cx="151920" cy="228600"/>
                <a:chOff x="1828800" y="5867280"/>
                <a:chExt cx="151920" cy="22860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1828800" y="5867280"/>
                  <a:ext cx="15192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889280" y="603864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676160" y="5715000"/>
                <a:ext cx="152280" cy="228600"/>
                <a:chOff x="1676160" y="5715000"/>
                <a:chExt cx="152280" cy="22860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676160" y="571500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737000" y="588636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2057400" y="5715000"/>
                <a:ext cx="151920" cy="228600"/>
                <a:chOff x="2057400" y="5715000"/>
                <a:chExt cx="151920" cy="2286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057400" y="5715000"/>
                  <a:ext cx="15192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117880" y="588636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1447920" y="5562720"/>
                <a:ext cx="152280" cy="228600"/>
                <a:chOff x="1447920" y="5562720"/>
                <a:chExt cx="152280" cy="2286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447920" y="556272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508760" y="573408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2133360" y="5410080"/>
                <a:ext cx="152280" cy="228600"/>
                <a:chOff x="2133360" y="5410080"/>
                <a:chExt cx="152280" cy="2286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2133360" y="541008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194200" y="558144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" name=""/>
            <p:cNvGrpSpPr/>
            <p:nvPr/>
          </p:nvGrpSpPr>
          <p:grpSpPr>
            <a:xfrm>
              <a:off x="609480" y="5715000"/>
              <a:ext cx="838440" cy="685800"/>
              <a:chOff x="609480" y="5715000"/>
              <a:chExt cx="838440" cy="68580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914400" y="5715000"/>
                <a:ext cx="152280" cy="228600"/>
                <a:chOff x="914400" y="5715000"/>
                <a:chExt cx="152280" cy="2286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914400" y="571500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975240" y="588636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1066680" y="5867640"/>
                <a:ext cx="152640" cy="228600"/>
                <a:chOff x="1066680" y="5867640"/>
                <a:chExt cx="152640" cy="228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066680" y="5867640"/>
                  <a:ext cx="15264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127520" y="6039000"/>
                  <a:ext cx="3060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990720" y="6172200"/>
                <a:ext cx="152280" cy="228600"/>
                <a:chOff x="990720" y="6172200"/>
                <a:chExt cx="152280" cy="2286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990720" y="617220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051560" y="634356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838080" y="6019920"/>
                <a:ext cx="152640" cy="228600"/>
                <a:chOff x="838080" y="6019920"/>
                <a:chExt cx="152640" cy="2286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838080" y="6019920"/>
                  <a:ext cx="15264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98920" y="6191280"/>
                  <a:ext cx="3060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219320" y="6019920"/>
                <a:ext cx="152280" cy="228600"/>
                <a:chOff x="1219320" y="6019920"/>
                <a:chExt cx="152280" cy="2286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219320" y="601992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280160" y="619128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09480" y="5867640"/>
                <a:ext cx="152640" cy="228600"/>
                <a:chOff x="609480" y="5867640"/>
                <a:chExt cx="152640" cy="22860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09480" y="5867640"/>
                  <a:ext cx="15264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70320" y="6039000"/>
                  <a:ext cx="3060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1295280" y="5715000"/>
                <a:ext cx="152640" cy="228600"/>
                <a:chOff x="1295280" y="5715000"/>
                <a:chExt cx="152640" cy="2286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295280" y="5715000"/>
                  <a:ext cx="15264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56120" y="5886360"/>
                  <a:ext cx="3060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"/>
            <p:cNvGrpSpPr/>
            <p:nvPr/>
          </p:nvGrpSpPr>
          <p:grpSpPr>
            <a:xfrm>
              <a:off x="0" y="5257800"/>
              <a:ext cx="837720" cy="685800"/>
              <a:chOff x="0" y="5257800"/>
              <a:chExt cx="837720" cy="6858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304560" y="5257800"/>
                <a:ext cx="151920" cy="228600"/>
                <a:chOff x="304560" y="5257800"/>
                <a:chExt cx="151920" cy="2286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04560" y="5257800"/>
                  <a:ext cx="15192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65040" y="542916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56840" y="5410440"/>
                <a:ext cx="152280" cy="228600"/>
                <a:chOff x="456840" y="5410440"/>
                <a:chExt cx="152280" cy="2286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6840" y="541044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17680" y="558180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380880" y="5715000"/>
                <a:ext cx="151920" cy="228600"/>
                <a:chOff x="380880" y="5715000"/>
                <a:chExt cx="151920" cy="2286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80880" y="5715000"/>
                  <a:ext cx="15192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41360" y="588636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28240" y="5562720"/>
                <a:ext cx="152280" cy="228600"/>
                <a:chOff x="228240" y="5562720"/>
                <a:chExt cx="152280" cy="2286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28240" y="556272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89080" y="573408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09480" y="5562720"/>
                <a:ext cx="151920" cy="228600"/>
                <a:chOff x="609480" y="5562720"/>
                <a:chExt cx="151920" cy="228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09480" y="5562720"/>
                  <a:ext cx="15192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69960" y="573408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0" y="5410440"/>
                <a:ext cx="152280" cy="228600"/>
                <a:chOff x="0" y="5410440"/>
                <a:chExt cx="152280" cy="2286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0" y="541044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840" y="558180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685440" y="5257800"/>
                <a:ext cx="152280" cy="228600"/>
                <a:chOff x="685440" y="5257800"/>
                <a:chExt cx="152280" cy="2286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685440" y="525780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46280" y="542916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"/>
          <p:cNvGrpSpPr/>
          <p:nvPr/>
        </p:nvGrpSpPr>
        <p:grpSpPr>
          <a:xfrm>
            <a:off x="7696080" y="5791320"/>
            <a:ext cx="1295640" cy="761760"/>
            <a:chOff x="7696080" y="5791320"/>
            <a:chExt cx="1295640" cy="761760"/>
          </a:xfrm>
        </p:grpSpPr>
        <p:grpSp>
          <p:nvGrpSpPr>
            <p:cNvPr id="150" name=""/>
            <p:cNvGrpSpPr/>
            <p:nvPr/>
          </p:nvGrpSpPr>
          <p:grpSpPr>
            <a:xfrm>
              <a:off x="8153280" y="6324480"/>
              <a:ext cx="152640" cy="228600"/>
              <a:chOff x="8153280" y="6324480"/>
              <a:chExt cx="152640" cy="228600"/>
            </a:xfrm>
          </p:grpSpPr>
          <p:sp>
            <p:nvSpPr>
              <p:cNvPr id="151" name=""/>
              <p:cNvSpPr/>
              <p:nvPr/>
            </p:nvSpPr>
            <p:spPr>
              <a:xfrm>
                <a:off x="8153280" y="6324480"/>
                <a:ext cx="15264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214120" y="6495840"/>
                <a:ext cx="3060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7696080" y="6172200"/>
              <a:ext cx="152640" cy="228600"/>
              <a:chOff x="7696080" y="6172200"/>
              <a:chExt cx="152640" cy="228600"/>
            </a:xfrm>
          </p:grpSpPr>
          <p:sp>
            <p:nvSpPr>
              <p:cNvPr id="154" name=""/>
              <p:cNvSpPr/>
              <p:nvPr/>
            </p:nvSpPr>
            <p:spPr>
              <a:xfrm>
                <a:off x="7696080" y="6172200"/>
                <a:ext cx="15264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756920" y="6343560"/>
                <a:ext cx="3060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8077320" y="5943600"/>
              <a:ext cx="152280" cy="228600"/>
              <a:chOff x="8077320" y="5943600"/>
              <a:chExt cx="152280" cy="228600"/>
            </a:xfrm>
          </p:grpSpPr>
          <p:sp>
            <p:nvSpPr>
              <p:cNvPr id="157" name=""/>
              <p:cNvSpPr/>
              <p:nvPr/>
            </p:nvSpPr>
            <p:spPr>
              <a:xfrm>
                <a:off x="8077320" y="5943600"/>
                <a:ext cx="15228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138160" y="6114960"/>
                <a:ext cx="3024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8001000" y="6172200"/>
              <a:ext cx="152280" cy="228600"/>
              <a:chOff x="8001000" y="6172200"/>
              <a:chExt cx="152280" cy="228600"/>
            </a:xfrm>
          </p:grpSpPr>
          <p:sp>
            <p:nvSpPr>
              <p:cNvPr id="160" name=""/>
              <p:cNvSpPr/>
              <p:nvPr/>
            </p:nvSpPr>
            <p:spPr>
              <a:xfrm>
                <a:off x="8001000" y="6172200"/>
                <a:ext cx="15228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061840" y="6343560"/>
                <a:ext cx="3024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7924680" y="6019920"/>
              <a:ext cx="152640" cy="228600"/>
              <a:chOff x="7924680" y="6019920"/>
              <a:chExt cx="152640" cy="228600"/>
            </a:xfrm>
          </p:grpSpPr>
          <p:sp>
            <p:nvSpPr>
              <p:cNvPr id="163" name=""/>
              <p:cNvSpPr/>
              <p:nvPr/>
            </p:nvSpPr>
            <p:spPr>
              <a:xfrm>
                <a:off x="7924680" y="6019920"/>
                <a:ext cx="15264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985520" y="6191280"/>
                <a:ext cx="3060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7848720" y="6248520"/>
              <a:ext cx="152280" cy="228600"/>
              <a:chOff x="7848720" y="6248520"/>
              <a:chExt cx="152280" cy="228600"/>
            </a:xfrm>
          </p:grpSpPr>
          <p:sp>
            <p:nvSpPr>
              <p:cNvPr id="166" name=""/>
              <p:cNvSpPr/>
              <p:nvPr/>
            </p:nvSpPr>
            <p:spPr>
              <a:xfrm>
                <a:off x="7848720" y="6248520"/>
                <a:ext cx="15228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09560" y="6419880"/>
                <a:ext cx="3024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8381880" y="6248520"/>
              <a:ext cx="152640" cy="228600"/>
              <a:chOff x="8381880" y="6248520"/>
              <a:chExt cx="152640" cy="228600"/>
            </a:xfrm>
          </p:grpSpPr>
          <p:sp>
            <p:nvSpPr>
              <p:cNvPr id="169" name=""/>
              <p:cNvSpPr/>
              <p:nvPr/>
            </p:nvSpPr>
            <p:spPr>
              <a:xfrm>
                <a:off x="8381880" y="6248520"/>
                <a:ext cx="15264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442720" y="6419880"/>
                <a:ext cx="3060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8458200" y="5943600"/>
              <a:ext cx="152280" cy="228600"/>
              <a:chOff x="8458200" y="5943600"/>
              <a:chExt cx="152280" cy="228600"/>
            </a:xfrm>
          </p:grpSpPr>
          <p:sp>
            <p:nvSpPr>
              <p:cNvPr id="172" name=""/>
              <p:cNvSpPr/>
              <p:nvPr/>
            </p:nvSpPr>
            <p:spPr>
              <a:xfrm>
                <a:off x="8458200" y="5943600"/>
                <a:ext cx="15228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519040" y="6114960"/>
                <a:ext cx="3024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8229600" y="6095880"/>
              <a:ext cx="152280" cy="228600"/>
              <a:chOff x="8229600" y="6095880"/>
              <a:chExt cx="152280" cy="228600"/>
            </a:xfrm>
          </p:grpSpPr>
          <p:sp>
            <p:nvSpPr>
              <p:cNvPr id="175" name=""/>
              <p:cNvSpPr/>
              <p:nvPr/>
            </p:nvSpPr>
            <p:spPr>
              <a:xfrm>
                <a:off x="8229600" y="6095880"/>
                <a:ext cx="15228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290440" y="6267240"/>
                <a:ext cx="3024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8229600" y="5791320"/>
              <a:ext cx="152280" cy="228600"/>
              <a:chOff x="8229600" y="5791320"/>
              <a:chExt cx="152280" cy="22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8229600" y="5791320"/>
                <a:ext cx="15228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290440" y="5962680"/>
                <a:ext cx="3024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7696080" y="6019920"/>
              <a:ext cx="152640" cy="228600"/>
              <a:chOff x="7696080" y="6019920"/>
              <a:chExt cx="152640" cy="228600"/>
            </a:xfrm>
          </p:grpSpPr>
          <p:sp>
            <p:nvSpPr>
              <p:cNvPr id="181" name=""/>
              <p:cNvSpPr/>
              <p:nvPr/>
            </p:nvSpPr>
            <p:spPr>
              <a:xfrm>
                <a:off x="7696080" y="6019920"/>
                <a:ext cx="15264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756920" y="6191280"/>
                <a:ext cx="3060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8686800" y="6172200"/>
              <a:ext cx="152280" cy="228600"/>
              <a:chOff x="8686800" y="6172200"/>
              <a:chExt cx="152280" cy="228600"/>
            </a:xfrm>
          </p:grpSpPr>
          <p:sp>
            <p:nvSpPr>
              <p:cNvPr id="184" name=""/>
              <p:cNvSpPr/>
              <p:nvPr/>
            </p:nvSpPr>
            <p:spPr>
              <a:xfrm>
                <a:off x="8686800" y="6172200"/>
                <a:ext cx="15228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747640" y="6343560"/>
                <a:ext cx="3024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8839080" y="6019920"/>
              <a:ext cx="152640" cy="228600"/>
              <a:chOff x="8839080" y="6019920"/>
              <a:chExt cx="152640" cy="228600"/>
            </a:xfrm>
          </p:grpSpPr>
          <p:sp>
            <p:nvSpPr>
              <p:cNvPr id="187" name=""/>
              <p:cNvSpPr/>
              <p:nvPr/>
            </p:nvSpPr>
            <p:spPr>
              <a:xfrm>
                <a:off x="8839080" y="6019920"/>
                <a:ext cx="15264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899920" y="6191280"/>
                <a:ext cx="3060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4634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evt="end">
                                        <p:tn val="16"/>
                                      </p:cond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667640" y="333360"/>
            <a:ext cx="900000" cy="934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-185760" y="3924360"/>
            <a:ext cx="9434520" cy="3224160"/>
            <a:chOff x="-185760" y="3924360"/>
            <a:chExt cx="9434520" cy="3224160"/>
          </a:xfrm>
        </p:grpSpPr>
        <p:sp>
          <p:nvSpPr>
            <p:cNvPr id="192" name=""/>
            <p:cNvSpPr/>
            <p:nvPr/>
          </p:nvSpPr>
          <p:spPr>
            <a:xfrm>
              <a:off x="-185760" y="3924360"/>
              <a:ext cx="3164040" cy="3093840"/>
            </a:xfrm>
            <a:custGeom>
              <a:avLst/>
              <a:gdLst/>
              <a:ahLst/>
              <a:rect l="l" t="t" r="r" b="b"/>
              <a:pathLst>
                <a:path w="1993" h="1949">
                  <a:moveTo>
                    <a:pt x="108" y="851"/>
                  </a:moveTo>
                  <a:cubicBezTo>
                    <a:pt x="134" y="838"/>
                    <a:pt x="153" y="833"/>
                    <a:pt x="170" y="807"/>
                  </a:cubicBezTo>
                  <a:cubicBezTo>
                    <a:pt x="194" y="770"/>
                    <a:pt x="207" y="707"/>
                    <a:pt x="241" y="674"/>
                  </a:cubicBezTo>
                  <a:cubicBezTo>
                    <a:pt x="249" y="666"/>
                    <a:pt x="259" y="662"/>
                    <a:pt x="268" y="656"/>
                  </a:cubicBezTo>
                  <a:cubicBezTo>
                    <a:pt x="280" y="648"/>
                    <a:pt x="293" y="640"/>
                    <a:pt x="303" y="630"/>
                  </a:cubicBezTo>
                  <a:cubicBezTo>
                    <a:pt x="321" y="612"/>
                    <a:pt x="338" y="594"/>
                    <a:pt x="356" y="576"/>
                  </a:cubicBezTo>
                  <a:cubicBezTo>
                    <a:pt x="389" y="543"/>
                    <a:pt x="395" y="513"/>
                    <a:pt x="418" y="470"/>
                  </a:cubicBezTo>
                  <a:cubicBezTo>
                    <a:pt x="437" y="435"/>
                    <a:pt x="465" y="405"/>
                    <a:pt x="489" y="373"/>
                  </a:cubicBezTo>
                  <a:cubicBezTo>
                    <a:pt x="514" y="340"/>
                    <a:pt x="547" y="319"/>
                    <a:pt x="569" y="284"/>
                  </a:cubicBezTo>
                  <a:cubicBezTo>
                    <a:pt x="612" y="215"/>
                    <a:pt x="644" y="156"/>
                    <a:pt x="702" y="98"/>
                  </a:cubicBezTo>
                  <a:cubicBezTo>
                    <a:pt x="738" y="62"/>
                    <a:pt x="747" y="18"/>
                    <a:pt x="799" y="0"/>
                  </a:cubicBezTo>
                  <a:cubicBezTo>
                    <a:pt x="826" y="3"/>
                    <a:pt x="854" y="0"/>
                    <a:pt x="879" y="9"/>
                  </a:cubicBezTo>
                  <a:cubicBezTo>
                    <a:pt x="893" y="14"/>
                    <a:pt x="925" y="63"/>
                    <a:pt x="932" y="71"/>
                  </a:cubicBezTo>
                  <a:cubicBezTo>
                    <a:pt x="1011" y="158"/>
                    <a:pt x="963" y="92"/>
                    <a:pt x="1003" y="151"/>
                  </a:cubicBezTo>
                  <a:cubicBezTo>
                    <a:pt x="1020" y="218"/>
                    <a:pt x="1025" y="277"/>
                    <a:pt x="1083" y="319"/>
                  </a:cubicBezTo>
                  <a:cubicBezTo>
                    <a:pt x="1092" y="340"/>
                    <a:pt x="1092" y="366"/>
                    <a:pt x="1109" y="381"/>
                  </a:cubicBezTo>
                  <a:cubicBezTo>
                    <a:pt x="1123" y="393"/>
                    <a:pt x="1146" y="383"/>
                    <a:pt x="1163" y="390"/>
                  </a:cubicBezTo>
                  <a:cubicBezTo>
                    <a:pt x="1206" y="407"/>
                    <a:pt x="1230" y="454"/>
                    <a:pt x="1269" y="479"/>
                  </a:cubicBezTo>
                  <a:cubicBezTo>
                    <a:pt x="1285" y="489"/>
                    <a:pt x="1304" y="491"/>
                    <a:pt x="1322" y="497"/>
                  </a:cubicBezTo>
                  <a:cubicBezTo>
                    <a:pt x="1375" y="534"/>
                    <a:pt x="1394" y="558"/>
                    <a:pt x="1437" y="603"/>
                  </a:cubicBezTo>
                  <a:cubicBezTo>
                    <a:pt x="1462" y="676"/>
                    <a:pt x="1538" y="772"/>
                    <a:pt x="1615" y="798"/>
                  </a:cubicBezTo>
                  <a:cubicBezTo>
                    <a:pt x="1641" y="818"/>
                    <a:pt x="1680" y="828"/>
                    <a:pt x="1703" y="851"/>
                  </a:cubicBezTo>
                  <a:cubicBezTo>
                    <a:pt x="1792" y="942"/>
                    <a:pt x="1676" y="835"/>
                    <a:pt x="1748" y="922"/>
                  </a:cubicBezTo>
                  <a:cubicBezTo>
                    <a:pt x="1800" y="984"/>
                    <a:pt x="1762" y="856"/>
                    <a:pt x="1836" y="1002"/>
                  </a:cubicBezTo>
                  <a:cubicBezTo>
                    <a:pt x="1848" y="1026"/>
                    <a:pt x="1858" y="1051"/>
                    <a:pt x="1872" y="1073"/>
                  </a:cubicBezTo>
                  <a:cubicBezTo>
                    <a:pt x="1888" y="1098"/>
                    <a:pt x="1925" y="1144"/>
                    <a:pt x="1925" y="1144"/>
                  </a:cubicBezTo>
                  <a:cubicBezTo>
                    <a:pt x="1938" y="1194"/>
                    <a:pt x="1943" y="1245"/>
                    <a:pt x="1960" y="1294"/>
                  </a:cubicBezTo>
                  <a:cubicBezTo>
                    <a:pt x="1957" y="1389"/>
                    <a:pt x="1955" y="1483"/>
                    <a:pt x="1951" y="1578"/>
                  </a:cubicBezTo>
                  <a:cubicBezTo>
                    <a:pt x="1949" y="1616"/>
                    <a:pt x="1944" y="1655"/>
                    <a:pt x="1942" y="1693"/>
                  </a:cubicBezTo>
                  <a:cubicBezTo>
                    <a:pt x="1938" y="1758"/>
                    <a:pt x="1993" y="1862"/>
                    <a:pt x="1934" y="1888"/>
                  </a:cubicBezTo>
                  <a:cubicBezTo>
                    <a:pt x="1796" y="1949"/>
                    <a:pt x="1633" y="1894"/>
                    <a:pt x="1482" y="1897"/>
                  </a:cubicBezTo>
                  <a:cubicBezTo>
                    <a:pt x="1021" y="1892"/>
                    <a:pt x="614" y="1889"/>
                    <a:pt x="170" y="1852"/>
                  </a:cubicBezTo>
                  <a:cubicBezTo>
                    <a:pt x="139" y="1837"/>
                    <a:pt x="110" y="1828"/>
                    <a:pt x="82" y="1808"/>
                  </a:cubicBezTo>
                  <a:cubicBezTo>
                    <a:pt x="82" y="1785"/>
                    <a:pt x="124" y="1254"/>
                    <a:pt x="37" y="1081"/>
                  </a:cubicBezTo>
                  <a:cubicBezTo>
                    <a:pt x="31" y="1036"/>
                    <a:pt x="22" y="1000"/>
                    <a:pt x="11" y="957"/>
                  </a:cubicBezTo>
                  <a:cubicBezTo>
                    <a:pt x="14" y="931"/>
                    <a:pt x="0" y="895"/>
                    <a:pt x="20" y="878"/>
                  </a:cubicBezTo>
                  <a:cubicBezTo>
                    <a:pt x="45" y="857"/>
                    <a:pt x="86" y="879"/>
                    <a:pt x="117" y="869"/>
                  </a:cubicBezTo>
                  <a:cubicBezTo>
                    <a:pt x="126" y="866"/>
                    <a:pt x="130" y="850"/>
                    <a:pt x="126" y="842"/>
                  </a:cubicBezTo>
                  <a:cubicBezTo>
                    <a:pt x="123" y="836"/>
                    <a:pt x="114" y="848"/>
                    <a:pt x="108" y="85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84240" y="4149720"/>
              <a:ext cx="2987640" cy="2728800"/>
            </a:xfrm>
            <a:custGeom>
              <a:avLst/>
              <a:gdLst/>
              <a:ahLst/>
              <a:rect l="l" t="t" r="r" b="b"/>
              <a:pathLst>
                <a:path w="1882" h="1719">
                  <a:moveTo>
                    <a:pt x="0" y="346"/>
                  </a:moveTo>
                  <a:cubicBezTo>
                    <a:pt x="42" y="342"/>
                    <a:pt x="95" y="358"/>
                    <a:pt x="125" y="328"/>
                  </a:cubicBezTo>
                  <a:cubicBezTo>
                    <a:pt x="151" y="302"/>
                    <a:pt x="174" y="254"/>
                    <a:pt x="195" y="222"/>
                  </a:cubicBezTo>
                  <a:cubicBezTo>
                    <a:pt x="204" y="208"/>
                    <a:pt x="226" y="212"/>
                    <a:pt x="240" y="204"/>
                  </a:cubicBezTo>
                  <a:cubicBezTo>
                    <a:pt x="259" y="194"/>
                    <a:pt x="293" y="169"/>
                    <a:pt x="293" y="169"/>
                  </a:cubicBezTo>
                  <a:cubicBezTo>
                    <a:pt x="331" y="111"/>
                    <a:pt x="368" y="22"/>
                    <a:pt x="435" y="0"/>
                  </a:cubicBezTo>
                  <a:cubicBezTo>
                    <a:pt x="480" y="23"/>
                    <a:pt x="523" y="53"/>
                    <a:pt x="559" y="89"/>
                  </a:cubicBezTo>
                  <a:cubicBezTo>
                    <a:pt x="625" y="155"/>
                    <a:pt x="548" y="99"/>
                    <a:pt x="612" y="142"/>
                  </a:cubicBezTo>
                  <a:cubicBezTo>
                    <a:pt x="621" y="166"/>
                    <a:pt x="621" y="194"/>
                    <a:pt x="638" y="213"/>
                  </a:cubicBezTo>
                  <a:cubicBezTo>
                    <a:pt x="660" y="237"/>
                    <a:pt x="700" y="238"/>
                    <a:pt x="727" y="257"/>
                  </a:cubicBezTo>
                  <a:cubicBezTo>
                    <a:pt x="772" y="325"/>
                    <a:pt x="705" y="239"/>
                    <a:pt x="798" y="293"/>
                  </a:cubicBezTo>
                  <a:cubicBezTo>
                    <a:pt x="829" y="311"/>
                    <a:pt x="849" y="343"/>
                    <a:pt x="869" y="372"/>
                  </a:cubicBezTo>
                  <a:cubicBezTo>
                    <a:pt x="891" y="437"/>
                    <a:pt x="877" y="431"/>
                    <a:pt x="949" y="443"/>
                  </a:cubicBezTo>
                  <a:cubicBezTo>
                    <a:pt x="983" y="491"/>
                    <a:pt x="1019" y="530"/>
                    <a:pt x="1055" y="576"/>
                  </a:cubicBezTo>
                  <a:cubicBezTo>
                    <a:pt x="1072" y="644"/>
                    <a:pt x="1080" y="724"/>
                    <a:pt x="1126" y="780"/>
                  </a:cubicBezTo>
                  <a:cubicBezTo>
                    <a:pt x="1150" y="809"/>
                    <a:pt x="1182" y="822"/>
                    <a:pt x="1206" y="851"/>
                  </a:cubicBezTo>
                  <a:cubicBezTo>
                    <a:pt x="1246" y="899"/>
                    <a:pt x="1256" y="962"/>
                    <a:pt x="1321" y="984"/>
                  </a:cubicBezTo>
                  <a:cubicBezTo>
                    <a:pt x="1347" y="1019"/>
                    <a:pt x="1375" y="1038"/>
                    <a:pt x="1401" y="1072"/>
                  </a:cubicBezTo>
                  <a:cubicBezTo>
                    <a:pt x="1414" y="1129"/>
                    <a:pt x="1441" y="1140"/>
                    <a:pt x="1480" y="1179"/>
                  </a:cubicBezTo>
                  <a:cubicBezTo>
                    <a:pt x="1510" y="1209"/>
                    <a:pt x="1526" y="1251"/>
                    <a:pt x="1551" y="1285"/>
                  </a:cubicBezTo>
                  <a:cubicBezTo>
                    <a:pt x="1572" y="1347"/>
                    <a:pt x="1599" y="1379"/>
                    <a:pt x="1658" y="1409"/>
                  </a:cubicBezTo>
                  <a:cubicBezTo>
                    <a:pt x="1687" y="1489"/>
                    <a:pt x="1708" y="1523"/>
                    <a:pt x="1790" y="1551"/>
                  </a:cubicBezTo>
                  <a:cubicBezTo>
                    <a:pt x="1796" y="1563"/>
                    <a:pt x="1797" y="1579"/>
                    <a:pt x="1808" y="1586"/>
                  </a:cubicBezTo>
                  <a:cubicBezTo>
                    <a:pt x="1882" y="1632"/>
                    <a:pt x="1849" y="1559"/>
                    <a:pt x="1870" y="1622"/>
                  </a:cubicBezTo>
                  <a:cubicBezTo>
                    <a:pt x="1867" y="1640"/>
                    <a:pt x="1873" y="1662"/>
                    <a:pt x="1861" y="1675"/>
                  </a:cubicBezTo>
                  <a:cubicBezTo>
                    <a:pt x="1849" y="1689"/>
                    <a:pt x="1808" y="1693"/>
                    <a:pt x="1808" y="1693"/>
                  </a:cubicBezTo>
                  <a:cubicBezTo>
                    <a:pt x="1480" y="1664"/>
                    <a:pt x="1672" y="1673"/>
                    <a:pt x="1232" y="1684"/>
                  </a:cubicBezTo>
                  <a:cubicBezTo>
                    <a:pt x="1180" y="1697"/>
                    <a:pt x="1167" y="1710"/>
                    <a:pt x="1108" y="1719"/>
                  </a:cubicBezTo>
                  <a:cubicBezTo>
                    <a:pt x="742" y="1709"/>
                    <a:pt x="895" y="1710"/>
                    <a:pt x="647" y="1710"/>
                  </a:cubicBez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64200" y="4819680"/>
              <a:ext cx="2284560" cy="2225520"/>
            </a:xfrm>
            <a:custGeom>
              <a:avLst/>
              <a:gdLst/>
              <a:ahLst/>
              <a:rect l="l" t="t" r="r" b="b"/>
              <a:pathLst>
                <a:path w="1439" h="1402">
                  <a:moveTo>
                    <a:pt x="186" y="961"/>
                  </a:moveTo>
                  <a:cubicBezTo>
                    <a:pt x="260" y="948"/>
                    <a:pt x="224" y="962"/>
                    <a:pt x="292" y="916"/>
                  </a:cubicBezTo>
                  <a:cubicBezTo>
                    <a:pt x="317" y="899"/>
                    <a:pt x="371" y="895"/>
                    <a:pt x="398" y="890"/>
                  </a:cubicBezTo>
                  <a:cubicBezTo>
                    <a:pt x="465" y="856"/>
                    <a:pt x="532" y="817"/>
                    <a:pt x="593" y="774"/>
                  </a:cubicBezTo>
                  <a:cubicBezTo>
                    <a:pt x="610" y="762"/>
                    <a:pt x="628" y="751"/>
                    <a:pt x="646" y="739"/>
                  </a:cubicBezTo>
                  <a:cubicBezTo>
                    <a:pt x="655" y="733"/>
                    <a:pt x="673" y="721"/>
                    <a:pt x="673" y="721"/>
                  </a:cubicBezTo>
                  <a:cubicBezTo>
                    <a:pt x="703" y="677"/>
                    <a:pt x="755" y="632"/>
                    <a:pt x="806" y="615"/>
                  </a:cubicBezTo>
                  <a:cubicBezTo>
                    <a:pt x="871" y="565"/>
                    <a:pt x="917" y="495"/>
                    <a:pt x="974" y="438"/>
                  </a:cubicBezTo>
                  <a:cubicBezTo>
                    <a:pt x="988" y="353"/>
                    <a:pt x="1037" y="254"/>
                    <a:pt x="1125" y="225"/>
                  </a:cubicBezTo>
                  <a:cubicBezTo>
                    <a:pt x="1171" y="195"/>
                    <a:pt x="1218" y="151"/>
                    <a:pt x="1267" y="128"/>
                  </a:cubicBezTo>
                  <a:cubicBezTo>
                    <a:pt x="1328" y="31"/>
                    <a:pt x="1236" y="168"/>
                    <a:pt x="1311" y="83"/>
                  </a:cubicBezTo>
                  <a:cubicBezTo>
                    <a:pt x="1384" y="0"/>
                    <a:pt x="1312" y="53"/>
                    <a:pt x="1373" y="12"/>
                  </a:cubicBezTo>
                  <a:cubicBezTo>
                    <a:pt x="1380" y="116"/>
                    <a:pt x="1383" y="220"/>
                    <a:pt x="1400" y="323"/>
                  </a:cubicBezTo>
                  <a:cubicBezTo>
                    <a:pt x="1400" y="339"/>
                    <a:pt x="1439" y="1044"/>
                    <a:pt x="1391" y="1182"/>
                  </a:cubicBezTo>
                  <a:cubicBezTo>
                    <a:pt x="1391" y="1183"/>
                    <a:pt x="1377" y="1306"/>
                    <a:pt x="1364" y="1315"/>
                  </a:cubicBezTo>
                  <a:cubicBezTo>
                    <a:pt x="1343" y="1329"/>
                    <a:pt x="1317" y="1333"/>
                    <a:pt x="1293" y="1342"/>
                  </a:cubicBezTo>
                  <a:cubicBezTo>
                    <a:pt x="848" y="1338"/>
                    <a:pt x="439" y="1402"/>
                    <a:pt x="26" y="1280"/>
                  </a:cubicBezTo>
                  <a:cubicBezTo>
                    <a:pt x="7" y="1224"/>
                    <a:pt x="0" y="1188"/>
                    <a:pt x="35" y="1138"/>
                  </a:cubicBezTo>
                  <a:cubicBezTo>
                    <a:pt x="54" y="1081"/>
                    <a:pt x="118" y="1065"/>
                    <a:pt x="168" y="1040"/>
                  </a:cubicBez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-84240" y="4713120"/>
              <a:ext cx="9279000" cy="2435400"/>
              <a:chOff x="-84240" y="4713120"/>
              <a:chExt cx="9279000" cy="2435400"/>
            </a:xfrm>
          </p:grpSpPr>
          <p:sp>
            <p:nvSpPr>
              <p:cNvPr id="196" name=""/>
              <p:cNvSpPr/>
              <p:nvPr/>
            </p:nvSpPr>
            <p:spPr>
              <a:xfrm>
                <a:off x="-84240" y="6437160"/>
                <a:ext cx="9279000" cy="711360"/>
              </a:xfrm>
              <a:custGeom>
                <a:avLst/>
                <a:gdLst/>
                <a:ahLst/>
                <a:rect l="l" t="t" r="r" b="b"/>
                <a:pathLst>
                  <a:path w="5845" h="448">
                    <a:moveTo>
                      <a:pt x="35" y="119"/>
                    </a:moveTo>
                    <a:cubicBezTo>
                      <a:pt x="252" y="87"/>
                      <a:pt x="313" y="94"/>
                      <a:pt x="585" y="101"/>
                    </a:cubicBezTo>
                    <a:cubicBezTo>
                      <a:pt x="714" y="134"/>
                      <a:pt x="838" y="108"/>
                      <a:pt x="966" y="92"/>
                    </a:cubicBezTo>
                    <a:cubicBezTo>
                      <a:pt x="1028" y="95"/>
                      <a:pt x="1090" y="96"/>
                      <a:pt x="1152" y="101"/>
                    </a:cubicBezTo>
                    <a:cubicBezTo>
                      <a:pt x="1200" y="105"/>
                      <a:pt x="1294" y="119"/>
                      <a:pt x="1294" y="119"/>
                    </a:cubicBezTo>
                    <a:cubicBezTo>
                      <a:pt x="1692" y="114"/>
                      <a:pt x="2100" y="128"/>
                      <a:pt x="2499" y="110"/>
                    </a:cubicBezTo>
                    <a:cubicBezTo>
                      <a:pt x="2524" y="104"/>
                      <a:pt x="2545" y="88"/>
                      <a:pt x="2570" y="83"/>
                    </a:cubicBezTo>
                    <a:cubicBezTo>
                      <a:pt x="2669" y="64"/>
                      <a:pt x="2765" y="64"/>
                      <a:pt x="2862" y="39"/>
                    </a:cubicBezTo>
                    <a:cubicBezTo>
                      <a:pt x="2920" y="0"/>
                      <a:pt x="2929" y="13"/>
                      <a:pt x="3013" y="21"/>
                    </a:cubicBezTo>
                    <a:cubicBezTo>
                      <a:pt x="3032" y="27"/>
                      <a:pt x="3047" y="42"/>
                      <a:pt x="3066" y="48"/>
                    </a:cubicBezTo>
                    <a:cubicBezTo>
                      <a:pt x="3090" y="56"/>
                      <a:pt x="3198" y="65"/>
                      <a:pt x="3208" y="66"/>
                    </a:cubicBezTo>
                    <a:cubicBezTo>
                      <a:pt x="3282" y="74"/>
                      <a:pt x="3356" y="81"/>
                      <a:pt x="3429" y="92"/>
                    </a:cubicBezTo>
                    <a:cubicBezTo>
                      <a:pt x="3532" y="126"/>
                      <a:pt x="3586" y="114"/>
                      <a:pt x="3722" y="119"/>
                    </a:cubicBezTo>
                    <a:cubicBezTo>
                      <a:pt x="3994" y="114"/>
                      <a:pt x="4184" y="136"/>
                      <a:pt x="4422" y="66"/>
                    </a:cubicBezTo>
                    <a:cubicBezTo>
                      <a:pt x="5391" y="87"/>
                      <a:pt x="4936" y="79"/>
                      <a:pt x="5786" y="92"/>
                    </a:cubicBezTo>
                    <a:cubicBezTo>
                      <a:pt x="5822" y="187"/>
                      <a:pt x="5806" y="138"/>
                      <a:pt x="5831" y="234"/>
                    </a:cubicBezTo>
                    <a:cubicBezTo>
                      <a:pt x="5834" y="246"/>
                      <a:pt x="5840" y="269"/>
                      <a:pt x="5840" y="269"/>
                    </a:cubicBezTo>
                    <a:cubicBezTo>
                      <a:pt x="5837" y="296"/>
                      <a:pt x="5845" y="326"/>
                      <a:pt x="5831" y="349"/>
                    </a:cubicBezTo>
                    <a:cubicBezTo>
                      <a:pt x="5821" y="365"/>
                      <a:pt x="5797" y="366"/>
                      <a:pt x="5778" y="367"/>
                    </a:cubicBezTo>
                    <a:cubicBezTo>
                      <a:pt x="5731" y="370"/>
                      <a:pt x="5683" y="374"/>
                      <a:pt x="5636" y="376"/>
                    </a:cubicBezTo>
                    <a:cubicBezTo>
                      <a:pt x="5547" y="380"/>
                      <a:pt x="5459" y="382"/>
                      <a:pt x="5370" y="385"/>
                    </a:cubicBezTo>
                    <a:cubicBezTo>
                      <a:pt x="4913" y="419"/>
                      <a:pt x="4500" y="424"/>
                      <a:pt x="4023" y="429"/>
                    </a:cubicBezTo>
                    <a:cubicBezTo>
                      <a:pt x="3615" y="448"/>
                      <a:pt x="3309" y="443"/>
                      <a:pt x="2853" y="438"/>
                    </a:cubicBezTo>
                    <a:cubicBezTo>
                      <a:pt x="2522" y="426"/>
                      <a:pt x="2192" y="395"/>
                      <a:pt x="1861" y="376"/>
                    </a:cubicBezTo>
                    <a:cubicBezTo>
                      <a:pt x="1283" y="303"/>
                      <a:pt x="687" y="318"/>
                      <a:pt x="106" y="296"/>
                    </a:cubicBezTo>
                    <a:cubicBezTo>
                      <a:pt x="44" y="278"/>
                      <a:pt x="28" y="280"/>
                      <a:pt x="0" y="225"/>
                    </a:cubicBezTo>
                    <a:cubicBezTo>
                      <a:pt x="7" y="182"/>
                      <a:pt x="16" y="157"/>
                      <a:pt x="35" y="119"/>
                    </a:cubicBez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955880" y="4713120"/>
                <a:ext cx="2503440" cy="1841760"/>
              </a:xfrm>
              <a:custGeom>
                <a:avLst/>
                <a:gdLst/>
                <a:ahLst/>
                <a:rect l="l" t="t" r="r" b="b"/>
                <a:pathLst>
                  <a:path w="1577" h="1160">
                    <a:moveTo>
                      <a:pt x="0" y="8"/>
                    </a:moveTo>
                    <a:cubicBezTo>
                      <a:pt x="77" y="28"/>
                      <a:pt x="73" y="75"/>
                      <a:pt x="133" y="115"/>
                    </a:cubicBezTo>
                    <a:cubicBezTo>
                      <a:pt x="138" y="126"/>
                      <a:pt x="170" y="196"/>
                      <a:pt x="177" y="203"/>
                    </a:cubicBezTo>
                    <a:cubicBezTo>
                      <a:pt x="200" y="226"/>
                      <a:pt x="247" y="226"/>
                      <a:pt x="274" y="230"/>
                    </a:cubicBezTo>
                    <a:cubicBezTo>
                      <a:pt x="303" y="240"/>
                      <a:pt x="325" y="256"/>
                      <a:pt x="354" y="265"/>
                    </a:cubicBezTo>
                    <a:cubicBezTo>
                      <a:pt x="416" y="328"/>
                      <a:pt x="389" y="302"/>
                      <a:pt x="434" y="345"/>
                    </a:cubicBezTo>
                    <a:cubicBezTo>
                      <a:pt x="469" y="379"/>
                      <a:pt x="457" y="411"/>
                      <a:pt x="505" y="443"/>
                    </a:cubicBezTo>
                    <a:cubicBezTo>
                      <a:pt x="525" y="472"/>
                      <a:pt x="576" y="522"/>
                      <a:pt x="576" y="522"/>
                    </a:cubicBezTo>
                    <a:cubicBezTo>
                      <a:pt x="591" y="569"/>
                      <a:pt x="602" y="641"/>
                      <a:pt x="629" y="682"/>
                    </a:cubicBezTo>
                    <a:cubicBezTo>
                      <a:pt x="641" y="729"/>
                      <a:pt x="653" y="765"/>
                      <a:pt x="700" y="779"/>
                    </a:cubicBezTo>
                    <a:cubicBezTo>
                      <a:pt x="747" y="812"/>
                      <a:pt x="792" y="828"/>
                      <a:pt x="833" y="868"/>
                    </a:cubicBezTo>
                    <a:cubicBezTo>
                      <a:pt x="898" y="1063"/>
                      <a:pt x="1168" y="1110"/>
                      <a:pt x="1338" y="1160"/>
                    </a:cubicBezTo>
                    <a:cubicBezTo>
                      <a:pt x="1413" y="1155"/>
                      <a:pt x="1505" y="1159"/>
                      <a:pt x="1577" y="1134"/>
                    </a:cubicBezTo>
                    <a:cubicBezTo>
                      <a:pt x="1536" y="1120"/>
                      <a:pt x="1505" y="1100"/>
                      <a:pt x="1462" y="1090"/>
                    </a:cubicBezTo>
                    <a:cubicBezTo>
                      <a:pt x="1416" y="1044"/>
                      <a:pt x="1399" y="1047"/>
                      <a:pt x="1338" y="1028"/>
                    </a:cubicBezTo>
                    <a:cubicBezTo>
                      <a:pt x="1329" y="1022"/>
                      <a:pt x="1321" y="1014"/>
                      <a:pt x="1311" y="1010"/>
                    </a:cubicBezTo>
                    <a:cubicBezTo>
                      <a:pt x="1294" y="1002"/>
                      <a:pt x="1258" y="992"/>
                      <a:pt x="1258" y="992"/>
                    </a:cubicBezTo>
                    <a:cubicBezTo>
                      <a:pt x="1224" y="969"/>
                      <a:pt x="1192" y="961"/>
                      <a:pt x="1152" y="948"/>
                    </a:cubicBezTo>
                    <a:cubicBezTo>
                      <a:pt x="1143" y="945"/>
                      <a:pt x="1125" y="939"/>
                      <a:pt x="1125" y="939"/>
                    </a:cubicBezTo>
                    <a:cubicBezTo>
                      <a:pt x="1067" y="900"/>
                      <a:pt x="1031" y="882"/>
                      <a:pt x="966" y="859"/>
                    </a:cubicBezTo>
                    <a:cubicBezTo>
                      <a:pt x="941" y="850"/>
                      <a:pt x="895" y="824"/>
                      <a:pt x="895" y="824"/>
                    </a:cubicBezTo>
                    <a:cubicBezTo>
                      <a:pt x="835" y="764"/>
                      <a:pt x="903" y="823"/>
                      <a:pt x="833" y="788"/>
                    </a:cubicBezTo>
                    <a:cubicBezTo>
                      <a:pt x="810" y="776"/>
                      <a:pt x="767" y="743"/>
                      <a:pt x="744" y="726"/>
                    </a:cubicBezTo>
                    <a:cubicBezTo>
                      <a:pt x="734" y="719"/>
                      <a:pt x="726" y="710"/>
                      <a:pt x="718" y="700"/>
                    </a:cubicBezTo>
                    <a:cubicBezTo>
                      <a:pt x="705" y="683"/>
                      <a:pt x="682" y="647"/>
                      <a:pt x="682" y="647"/>
                    </a:cubicBezTo>
                    <a:cubicBezTo>
                      <a:pt x="672" y="618"/>
                      <a:pt x="638" y="567"/>
                      <a:pt x="638" y="567"/>
                    </a:cubicBezTo>
                    <a:cubicBezTo>
                      <a:pt x="626" y="531"/>
                      <a:pt x="614" y="496"/>
                      <a:pt x="602" y="460"/>
                    </a:cubicBezTo>
                    <a:cubicBezTo>
                      <a:pt x="600" y="453"/>
                      <a:pt x="560" y="397"/>
                      <a:pt x="549" y="381"/>
                    </a:cubicBezTo>
                    <a:cubicBezTo>
                      <a:pt x="474" y="271"/>
                      <a:pt x="360" y="205"/>
                      <a:pt x="230" y="186"/>
                    </a:cubicBezTo>
                    <a:cubicBezTo>
                      <a:pt x="175" y="143"/>
                      <a:pt x="136" y="75"/>
                      <a:pt x="97" y="17"/>
                    </a:cubicBezTo>
                    <a:cubicBezTo>
                      <a:pt x="96" y="15"/>
                      <a:pt x="46" y="0"/>
                      <a:pt x="44" y="0"/>
                    </a:cubicBezTo>
                    <a:cubicBezTo>
                      <a:pt x="12" y="10"/>
                      <a:pt x="26" y="8"/>
                      <a:pt x="0" y="8"/>
                    </a:cubicBez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533520" y="533520"/>
            <a:ext cx="2950560" cy="1733040"/>
            <a:chOff x="533520" y="533520"/>
            <a:chExt cx="2950560" cy="1733040"/>
          </a:xfrm>
        </p:grpSpPr>
        <p:sp>
          <p:nvSpPr>
            <p:cNvPr id="199" name="Cloud"/>
            <p:cNvSpPr/>
            <p:nvPr/>
          </p:nvSpPr>
          <p:spPr>
            <a:xfrm>
              <a:off x="1541160" y="965160"/>
              <a:ext cx="1942920" cy="130140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Cloud"/>
            <p:cNvSpPr/>
            <p:nvPr/>
          </p:nvSpPr>
          <p:spPr>
            <a:xfrm>
              <a:off x="533520" y="533520"/>
              <a:ext cx="1942560" cy="130140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04560" y="1905120"/>
            <a:ext cx="2879640" cy="2086560"/>
            <a:chOff x="304560" y="1905120"/>
            <a:chExt cx="2879640" cy="2086560"/>
          </a:xfrm>
        </p:grpSpPr>
        <p:grpSp>
          <p:nvGrpSpPr>
            <p:cNvPr id="202" name=""/>
            <p:cNvGrpSpPr/>
            <p:nvPr/>
          </p:nvGrpSpPr>
          <p:grpSpPr>
            <a:xfrm>
              <a:off x="1384560" y="2984400"/>
              <a:ext cx="936000" cy="1007280"/>
              <a:chOff x="1384560" y="2984400"/>
              <a:chExt cx="936000" cy="1007280"/>
            </a:xfrm>
          </p:grpSpPr>
          <p:sp>
            <p:nvSpPr>
              <p:cNvPr id="203" name=""/>
              <p:cNvSpPr/>
              <p:nvPr/>
            </p:nvSpPr>
            <p:spPr>
              <a:xfrm flipH="1">
                <a:off x="1384560" y="2984400"/>
                <a:ext cx="7272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600200" y="3199680"/>
                <a:ext cx="72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1815840" y="3415680"/>
                <a:ext cx="7236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2031840" y="3631680"/>
                <a:ext cx="7272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2247840" y="3847320"/>
                <a:ext cx="72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304560" y="1905120"/>
              <a:ext cx="936720" cy="1007280"/>
              <a:chOff x="304560" y="1905120"/>
              <a:chExt cx="936720" cy="1007280"/>
            </a:xfrm>
          </p:grpSpPr>
          <p:sp>
            <p:nvSpPr>
              <p:cNvPr id="209" name=""/>
              <p:cNvSpPr/>
              <p:nvPr/>
            </p:nvSpPr>
            <p:spPr>
              <a:xfrm flipH="1">
                <a:off x="304560" y="1905120"/>
                <a:ext cx="7308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520560" y="212040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736920" y="2336400"/>
                <a:ext cx="7272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952200" y="2552400"/>
                <a:ext cx="7308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1168200" y="276804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1551240" y="2498400"/>
              <a:ext cx="936000" cy="1008000"/>
              <a:chOff x="1551240" y="2498400"/>
              <a:chExt cx="936000" cy="1008000"/>
            </a:xfrm>
          </p:grpSpPr>
          <p:sp>
            <p:nvSpPr>
              <p:cNvPr id="215" name=""/>
              <p:cNvSpPr/>
              <p:nvPr/>
            </p:nvSpPr>
            <p:spPr>
              <a:xfrm flipH="1">
                <a:off x="1551240" y="2498400"/>
                <a:ext cx="72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1766880" y="2714040"/>
                <a:ext cx="7272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1982520" y="2930040"/>
                <a:ext cx="72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2198520" y="3146040"/>
                <a:ext cx="72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2414520" y="3361680"/>
                <a:ext cx="7272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47480" y="2697120"/>
              <a:ext cx="936720" cy="1007280"/>
              <a:chOff x="447480" y="2697120"/>
              <a:chExt cx="936720" cy="1007280"/>
            </a:xfrm>
          </p:grpSpPr>
          <p:sp>
            <p:nvSpPr>
              <p:cNvPr id="221" name=""/>
              <p:cNvSpPr/>
              <p:nvPr/>
            </p:nvSpPr>
            <p:spPr>
              <a:xfrm flipH="1">
                <a:off x="447480" y="2697120"/>
                <a:ext cx="7308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63480" y="291240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879840" y="3128400"/>
                <a:ext cx="7272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1095120" y="3344400"/>
                <a:ext cx="7308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1311120" y="356004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2248200" y="2625480"/>
              <a:ext cx="936000" cy="1007280"/>
              <a:chOff x="2248200" y="2625480"/>
              <a:chExt cx="936000" cy="1007280"/>
            </a:xfrm>
          </p:grpSpPr>
          <p:sp>
            <p:nvSpPr>
              <p:cNvPr id="227" name=""/>
              <p:cNvSpPr/>
              <p:nvPr/>
            </p:nvSpPr>
            <p:spPr>
              <a:xfrm flipH="1">
                <a:off x="2248200" y="2625480"/>
                <a:ext cx="7272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2463840" y="2840760"/>
                <a:ext cx="72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2679480" y="3056760"/>
                <a:ext cx="7236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2895480" y="3272760"/>
                <a:ext cx="7272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3111480" y="3488400"/>
                <a:ext cx="72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5791320" y="533520"/>
            <a:ext cx="2950560" cy="1733040"/>
            <a:chOff x="5791320" y="533520"/>
            <a:chExt cx="2950560" cy="1733040"/>
          </a:xfrm>
        </p:grpSpPr>
        <p:sp>
          <p:nvSpPr>
            <p:cNvPr id="233" name="Cloud"/>
            <p:cNvSpPr/>
            <p:nvPr/>
          </p:nvSpPr>
          <p:spPr>
            <a:xfrm>
              <a:off x="6798960" y="965160"/>
              <a:ext cx="1942920" cy="13014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Cloud"/>
            <p:cNvSpPr/>
            <p:nvPr/>
          </p:nvSpPr>
          <p:spPr>
            <a:xfrm>
              <a:off x="5791320" y="533520"/>
              <a:ext cx="1942560" cy="13014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409720" y="1143000"/>
            <a:ext cx="914400" cy="609480"/>
            <a:chOff x="5409720" y="1143000"/>
            <a:chExt cx="914400" cy="609480"/>
          </a:xfrm>
        </p:grpSpPr>
        <p:sp>
          <p:nvSpPr>
            <p:cNvPr id="236" name=""/>
            <p:cNvSpPr/>
            <p:nvPr/>
          </p:nvSpPr>
          <p:spPr>
            <a:xfrm flipH="1">
              <a:off x="5409720" y="1143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5562360" y="144756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714640" y="1752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276720" y="1143000"/>
            <a:ext cx="2361960" cy="1297800"/>
            <a:chOff x="3276720" y="1143000"/>
            <a:chExt cx="2361960" cy="1297800"/>
          </a:xfrm>
        </p:grpSpPr>
        <p:sp>
          <p:nvSpPr>
            <p:cNvPr id="240" name=""/>
            <p:cNvSpPr/>
            <p:nvPr/>
          </p:nvSpPr>
          <p:spPr>
            <a:xfrm>
              <a:off x="3276720" y="19810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port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4114440" y="1143000"/>
              <a:ext cx="914400" cy="609480"/>
              <a:chOff x="4114440" y="1143000"/>
              <a:chExt cx="914400" cy="609480"/>
            </a:xfrm>
          </p:grpSpPr>
          <p:sp>
            <p:nvSpPr>
              <p:cNvPr id="242" name=""/>
              <p:cNvSpPr/>
              <p:nvPr/>
            </p:nvSpPr>
            <p:spPr>
              <a:xfrm flipH="1">
                <a:off x="4114440" y="11430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4267080" y="144756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4419360" y="1752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456840" y="2057400"/>
            <a:ext cx="2879640" cy="2087640"/>
            <a:chOff x="456840" y="2057400"/>
            <a:chExt cx="2879640" cy="2087640"/>
          </a:xfrm>
        </p:grpSpPr>
        <p:grpSp>
          <p:nvGrpSpPr>
            <p:cNvPr id="246" name=""/>
            <p:cNvGrpSpPr/>
            <p:nvPr/>
          </p:nvGrpSpPr>
          <p:grpSpPr>
            <a:xfrm>
              <a:off x="1536840" y="3137040"/>
              <a:ext cx="936000" cy="1008000"/>
              <a:chOff x="1536840" y="3137040"/>
              <a:chExt cx="936000" cy="1008000"/>
            </a:xfrm>
          </p:grpSpPr>
          <p:sp>
            <p:nvSpPr>
              <p:cNvPr id="247" name=""/>
              <p:cNvSpPr/>
              <p:nvPr/>
            </p:nvSpPr>
            <p:spPr>
              <a:xfrm flipH="1">
                <a:off x="1536840" y="3137040"/>
                <a:ext cx="72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1752480" y="3352680"/>
                <a:ext cx="7272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1968120" y="3568680"/>
                <a:ext cx="72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2184120" y="3784680"/>
                <a:ext cx="72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400120" y="4000320"/>
                <a:ext cx="7272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56840" y="2057400"/>
              <a:ext cx="936720" cy="1008000"/>
              <a:chOff x="456840" y="2057400"/>
              <a:chExt cx="936720" cy="1008000"/>
            </a:xfrm>
          </p:grpSpPr>
          <p:sp>
            <p:nvSpPr>
              <p:cNvPr id="253" name=""/>
              <p:cNvSpPr/>
              <p:nvPr/>
            </p:nvSpPr>
            <p:spPr>
              <a:xfrm flipH="1">
                <a:off x="456840" y="205740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672840" y="2273040"/>
                <a:ext cx="7308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889200" y="2489040"/>
                <a:ext cx="72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1104480" y="270504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1320480" y="2920680"/>
                <a:ext cx="7308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703520" y="2651040"/>
              <a:ext cx="936000" cy="1008000"/>
              <a:chOff x="1703520" y="2651040"/>
              <a:chExt cx="936000" cy="1008000"/>
            </a:xfrm>
          </p:grpSpPr>
          <p:sp>
            <p:nvSpPr>
              <p:cNvPr id="259" name=""/>
              <p:cNvSpPr/>
              <p:nvPr/>
            </p:nvSpPr>
            <p:spPr>
              <a:xfrm flipH="1">
                <a:off x="1703520" y="2651040"/>
                <a:ext cx="72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1919160" y="2866680"/>
                <a:ext cx="7272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2134800" y="3082680"/>
                <a:ext cx="72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2350800" y="3298680"/>
                <a:ext cx="72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2566800" y="3514320"/>
                <a:ext cx="7272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99760" y="2849760"/>
              <a:ext cx="936720" cy="1008000"/>
              <a:chOff x="599760" y="2849760"/>
              <a:chExt cx="936720" cy="100800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599760" y="28497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815760" y="3065400"/>
                <a:ext cx="7308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1032120" y="3281400"/>
                <a:ext cx="72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1247400" y="349740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1463400" y="3713040"/>
                <a:ext cx="7308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2400480" y="2778120"/>
              <a:ext cx="936000" cy="1008000"/>
              <a:chOff x="2400480" y="2778120"/>
              <a:chExt cx="936000" cy="1008000"/>
            </a:xfrm>
          </p:grpSpPr>
          <p:sp>
            <p:nvSpPr>
              <p:cNvPr id="271" name=""/>
              <p:cNvSpPr/>
              <p:nvPr/>
            </p:nvSpPr>
            <p:spPr>
              <a:xfrm flipH="1">
                <a:off x="2400480" y="2778120"/>
                <a:ext cx="72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2616120" y="2993760"/>
                <a:ext cx="7272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2831760" y="3209760"/>
                <a:ext cx="72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3047760" y="3425760"/>
                <a:ext cx="72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3263760" y="3641400"/>
                <a:ext cx="7272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6" name=""/>
          <p:cNvGrpSpPr/>
          <p:nvPr/>
        </p:nvGrpSpPr>
        <p:grpSpPr>
          <a:xfrm>
            <a:off x="609120" y="2209680"/>
            <a:ext cx="5258160" cy="2087640"/>
            <a:chOff x="609120" y="2209680"/>
            <a:chExt cx="5258160" cy="2087640"/>
          </a:xfrm>
        </p:grpSpPr>
        <p:grpSp>
          <p:nvGrpSpPr>
            <p:cNvPr id="277" name=""/>
            <p:cNvGrpSpPr/>
            <p:nvPr/>
          </p:nvGrpSpPr>
          <p:grpSpPr>
            <a:xfrm>
              <a:off x="609120" y="2209680"/>
              <a:ext cx="2879640" cy="2087640"/>
              <a:chOff x="609120" y="2209680"/>
              <a:chExt cx="2879640" cy="208764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1689120" y="3289320"/>
                <a:ext cx="936000" cy="1008000"/>
                <a:chOff x="1689120" y="3289320"/>
                <a:chExt cx="936000" cy="100800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1689120" y="3289320"/>
                  <a:ext cx="7272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1904760" y="3504960"/>
                  <a:ext cx="7272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>
                  <a:off x="2120400" y="3720960"/>
                  <a:ext cx="7236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>
                  <a:off x="2336400" y="3936960"/>
                  <a:ext cx="7272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2552400" y="4152600"/>
                  <a:ext cx="7272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609120" y="2209680"/>
                <a:ext cx="936720" cy="1008000"/>
                <a:chOff x="609120" y="2209680"/>
                <a:chExt cx="936720" cy="1008000"/>
              </a:xfrm>
            </p:grpSpPr>
            <p:sp>
              <p:nvSpPr>
                <p:cNvPr id="285" name=""/>
                <p:cNvSpPr/>
                <p:nvPr/>
              </p:nvSpPr>
              <p:spPr>
                <a:xfrm flipH="1">
                  <a:off x="609120" y="2209680"/>
                  <a:ext cx="7308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825120" y="2425320"/>
                  <a:ext cx="7308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>
                  <a:off x="1041480" y="2641320"/>
                  <a:ext cx="7272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>
                  <a:off x="1256760" y="2857320"/>
                  <a:ext cx="7308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1472760" y="3072960"/>
                  <a:ext cx="7308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1855800" y="2803320"/>
                <a:ext cx="936000" cy="1008000"/>
                <a:chOff x="1855800" y="2803320"/>
                <a:chExt cx="936000" cy="1008000"/>
              </a:xfrm>
            </p:grpSpPr>
            <p:sp>
              <p:nvSpPr>
                <p:cNvPr id="291" name=""/>
                <p:cNvSpPr/>
                <p:nvPr/>
              </p:nvSpPr>
              <p:spPr>
                <a:xfrm flipH="1">
                  <a:off x="1855800" y="2803320"/>
                  <a:ext cx="7272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2071440" y="3018960"/>
                  <a:ext cx="7272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2287080" y="3234960"/>
                  <a:ext cx="7236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>
                  <a:off x="2503080" y="3450960"/>
                  <a:ext cx="7272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>
                  <a:off x="2719080" y="3666600"/>
                  <a:ext cx="7272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752040" y="3002040"/>
                <a:ext cx="936720" cy="1008000"/>
                <a:chOff x="752040" y="3002040"/>
                <a:chExt cx="936720" cy="1008000"/>
              </a:xfrm>
            </p:grpSpPr>
            <p:sp>
              <p:nvSpPr>
                <p:cNvPr id="297" name=""/>
                <p:cNvSpPr/>
                <p:nvPr/>
              </p:nvSpPr>
              <p:spPr>
                <a:xfrm flipH="1">
                  <a:off x="752040" y="3002040"/>
                  <a:ext cx="7308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>
                  <a:off x="968040" y="3217680"/>
                  <a:ext cx="7308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>
                  <a:off x="1184400" y="3433680"/>
                  <a:ext cx="7272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>
                  <a:off x="1399680" y="3649680"/>
                  <a:ext cx="7308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>
                  <a:off x="1615680" y="3865320"/>
                  <a:ext cx="7308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2552760" y="2930400"/>
                <a:ext cx="936000" cy="1008000"/>
                <a:chOff x="2552760" y="2930400"/>
                <a:chExt cx="936000" cy="1008000"/>
              </a:xfrm>
            </p:grpSpPr>
            <p:sp>
              <p:nvSpPr>
                <p:cNvPr id="303" name=""/>
                <p:cNvSpPr/>
                <p:nvPr/>
              </p:nvSpPr>
              <p:spPr>
                <a:xfrm flipH="1">
                  <a:off x="2552760" y="2930400"/>
                  <a:ext cx="7272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>
                  <a:off x="2768400" y="3146040"/>
                  <a:ext cx="7272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>
                  <a:off x="2984040" y="3362040"/>
                  <a:ext cx="7236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>
                  <a:off x="3200040" y="3578040"/>
                  <a:ext cx="7272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>
                  <a:off x="3416040" y="3793680"/>
                  <a:ext cx="7272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3809880" y="32004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recipit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0" y="5257800"/>
            <a:ext cx="2285640" cy="1143000"/>
            <a:chOff x="0" y="5257800"/>
            <a:chExt cx="2285640" cy="1143000"/>
          </a:xfrm>
        </p:grpSpPr>
        <p:grpSp>
          <p:nvGrpSpPr>
            <p:cNvPr id="310" name=""/>
            <p:cNvGrpSpPr/>
            <p:nvPr/>
          </p:nvGrpSpPr>
          <p:grpSpPr>
            <a:xfrm>
              <a:off x="1447920" y="5410080"/>
              <a:ext cx="837720" cy="685800"/>
              <a:chOff x="1447920" y="5410080"/>
              <a:chExt cx="837720" cy="68580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1752480" y="5410080"/>
                <a:ext cx="151920" cy="228600"/>
                <a:chOff x="1752480" y="5410080"/>
                <a:chExt cx="151920" cy="2286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1752480" y="5410080"/>
                  <a:ext cx="15192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812960" y="558144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1904760" y="5562720"/>
                <a:ext cx="152280" cy="228600"/>
                <a:chOff x="1904760" y="5562720"/>
                <a:chExt cx="152280" cy="2286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1904760" y="556272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965600" y="573408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1828800" y="5867280"/>
                <a:ext cx="151920" cy="228600"/>
                <a:chOff x="1828800" y="5867280"/>
                <a:chExt cx="151920" cy="2286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1828800" y="5867280"/>
                  <a:ext cx="15192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889280" y="603864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1676160" y="5715000"/>
                <a:ext cx="152280" cy="228600"/>
                <a:chOff x="1676160" y="5715000"/>
                <a:chExt cx="152280" cy="22860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1676160" y="571500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737000" y="588636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2057400" y="5715000"/>
                <a:ext cx="151920" cy="228600"/>
                <a:chOff x="2057400" y="5715000"/>
                <a:chExt cx="151920" cy="22860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2057400" y="5715000"/>
                  <a:ext cx="15192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117880" y="588636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1447920" y="5562720"/>
                <a:ext cx="152280" cy="228600"/>
                <a:chOff x="1447920" y="5562720"/>
                <a:chExt cx="152280" cy="2286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1447920" y="556272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508760" y="573408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2133360" y="5410080"/>
                <a:ext cx="152280" cy="228600"/>
                <a:chOff x="2133360" y="5410080"/>
                <a:chExt cx="152280" cy="228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2133360" y="541008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194200" y="558144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2" name=""/>
            <p:cNvGrpSpPr/>
            <p:nvPr/>
          </p:nvGrpSpPr>
          <p:grpSpPr>
            <a:xfrm>
              <a:off x="609480" y="5715000"/>
              <a:ext cx="838440" cy="685800"/>
              <a:chOff x="609480" y="5715000"/>
              <a:chExt cx="838440" cy="68580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914400" y="5715000"/>
                <a:ext cx="152280" cy="228600"/>
                <a:chOff x="914400" y="5715000"/>
                <a:chExt cx="152280" cy="2286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914400" y="571500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975240" y="588636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1066680" y="5867640"/>
                <a:ext cx="152640" cy="228600"/>
                <a:chOff x="1066680" y="5867640"/>
                <a:chExt cx="152640" cy="22860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1066680" y="5867640"/>
                  <a:ext cx="15264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127520" y="6039000"/>
                  <a:ext cx="3060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990720" y="6172200"/>
                <a:ext cx="152280" cy="228600"/>
                <a:chOff x="990720" y="6172200"/>
                <a:chExt cx="152280" cy="2286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990720" y="617220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051560" y="634356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838080" y="6019920"/>
                <a:ext cx="152640" cy="228600"/>
                <a:chOff x="838080" y="6019920"/>
                <a:chExt cx="152640" cy="2286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838080" y="6019920"/>
                  <a:ext cx="15264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898920" y="6191280"/>
                  <a:ext cx="3060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1219320" y="6019920"/>
                <a:ext cx="152280" cy="228600"/>
                <a:chOff x="1219320" y="6019920"/>
                <a:chExt cx="152280" cy="22860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1219320" y="601992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280160" y="619128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609480" y="5867640"/>
                <a:ext cx="152640" cy="228600"/>
                <a:chOff x="609480" y="5867640"/>
                <a:chExt cx="152640" cy="2286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609480" y="5867640"/>
                  <a:ext cx="15264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70320" y="6039000"/>
                  <a:ext cx="3060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1295280" y="5715000"/>
                <a:ext cx="152640" cy="228600"/>
                <a:chOff x="1295280" y="5715000"/>
                <a:chExt cx="152640" cy="2286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1295280" y="5715000"/>
                  <a:ext cx="15264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356120" y="5886360"/>
                  <a:ext cx="3060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0" y="5257800"/>
              <a:ext cx="837720" cy="685800"/>
              <a:chOff x="0" y="5257800"/>
              <a:chExt cx="837720" cy="68580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304560" y="5257800"/>
                <a:ext cx="151920" cy="228600"/>
                <a:chOff x="304560" y="5257800"/>
                <a:chExt cx="151920" cy="22860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304560" y="5257800"/>
                  <a:ext cx="15192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65040" y="542916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456840" y="5410440"/>
                <a:ext cx="152280" cy="228600"/>
                <a:chOff x="456840" y="5410440"/>
                <a:chExt cx="152280" cy="2286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456840" y="541044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17680" y="558180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380880" y="5715000"/>
                <a:ext cx="151920" cy="228600"/>
                <a:chOff x="380880" y="5715000"/>
                <a:chExt cx="151920" cy="2286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80880" y="5715000"/>
                  <a:ext cx="15192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41360" y="588636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228240" y="5562720"/>
                <a:ext cx="152280" cy="228600"/>
                <a:chOff x="228240" y="5562720"/>
                <a:chExt cx="152280" cy="2286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228240" y="556272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89080" y="573408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609480" y="5562720"/>
                <a:ext cx="151920" cy="228600"/>
                <a:chOff x="609480" y="5562720"/>
                <a:chExt cx="151920" cy="22860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609480" y="5562720"/>
                  <a:ext cx="15192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69960" y="573408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0" y="5410440"/>
                <a:ext cx="152280" cy="228600"/>
                <a:chOff x="0" y="5410440"/>
                <a:chExt cx="152280" cy="22860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0" y="541044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0840" y="558180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685440" y="5257800"/>
                <a:ext cx="152280" cy="228600"/>
                <a:chOff x="685440" y="5257800"/>
                <a:chExt cx="152280" cy="2286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685440" y="525780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46280" y="542916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6" name=""/>
          <p:cNvGrpSpPr/>
          <p:nvPr/>
        </p:nvGrpSpPr>
        <p:grpSpPr>
          <a:xfrm>
            <a:off x="7696080" y="5791320"/>
            <a:ext cx="1295640" cy="761760"/>
            <a:chOff x="7696080" y="5791320"/>
            <a:chExt cx="1295640" cy="761760"/>
          </a:xfrm>
        </p:grpSpPr>
        <p:grpSp>
          <p:nvGrpSpPr>
            <p:cNvPr id="377" name=""/>
            <p:cNvGrpSpPr/>
            <p:nvPr/>
          </p:nvGrpSpPr>
          <p:grpSpPr>
            <a:xfrm>
              <a:off x="8153280" y="6324480"/>
              <a:ext cx="152640" cy="228600"/>
              <a:chOff x="8153280" y="6324480"/>
              <a:chExt cx="152640" cy="228600"/>
            </a:xfrm>
          </p:grpSpPr>
          <p:sp>
            <p:nvSpPr>
              <p:cNvPr id="378" name=""/>
              <p:cNvSpPr/>
              <p:nvPr/>
            </p:nvSpPr>
            <p:spPr>
              <a:xfrm>
                <a:off x="8153280" y="6324480"/>
                <a:ext cx="15264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214120" y="6495840"/>
                <a:ext cx="3060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7696080" y="6172200"/>
              <a:ext cx="152640" cy="228600"/>
              <a:chOff x="7696080" y="6172200"/>
              <a:chExt cx="152640" cy="228600"/>
            </a:xfrm>
          </p:grpSpPr>
          <p:sp>
            <p:nvSpPr>
              <p:cNvPr id="381" name=""/>
              <p:cNvSpPr/>
              <p:nvPr/>
            </p:nvSpPr>
            <p:spPr>
              <a:xfrm>
                <a:off x="7696080" y="6172200"/>
                <a:ext cx="15264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756920" y="6343560"/>
                <a:ext cx="3060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8077320" y="5943600"/>
              <a:ext cx="152280" cy="228600"/>
              <a:chOff x="8077320" y="5943600"/>
              <a:chExt cx="152280" cy="228600"/>
            </a:xfrm>
          </p:grpSpPr>
          <p:sp>
            <p:nvSpPr>
              <p:cNvPr id="384" name=""/>
              <p:cNvSpPr/>
              <p:nvPr/>
            </p:nvSpPr>
            <p:spPr>
              <a:xfrm>
                <a:off x="8077320" y="5943600"/>
                <a:ext cx="15228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138160" y="6114960"/>
                <a:ext cx="3024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8001000" y="6172200"/>
              <a:ext cx="152280" cy="228600"/>
              <a:chOff x="8001000" y="6172200"/>
              <a:chExt cx="152280" cy="228600"/>
            </a:xfrm>
          </p:grpSpPr>
          <p:sp>
            <p:nvSpPr>
              <p:cNvPr id="387" name=""/>
              <p:cNvSpPr/>
              <p:nvPr/>
            </p:nvSpPr>
            <p:spPr>
              <a:xfrm>
                <a:off x="8001000" y="6172200"/>
                <a:ext cx="15228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061840" y="6343560"/>
                <a:ext cx="3024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7924680" y="6019920"/>
              <a:ext cx="152640" cy="228600"/>
              <a:chOff x="7924680" y="6019920"/>
              <a:chExt cx="152640" cy="228600"/>
            </a:xfrm>
          </p:grpSpPr>
          <p:sp>
            <p:nvSpPr>
              <p:cNvPr id="390" name=""/>
              <p:cNvSpPr/>
              <p:nvPr/>
            </p:nvSpPr>
            <p:spPr>
              <a:xfrm>
                <a:off x="7924680" y="6019920"/>
                <a:ext cx="15264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985520" y="6191280"/>
                <a:ext cx="3060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7848720" y="6248520"/>
              <a:ext cx="152280" cy="228600"/>
              <a:chOff x="7848720" y="6248520"/>
              <a:chExt cx="152280" cy="228600"/>
            </a:xfrm>
          </p:grpSpPr>
          <p:sp>
            <p:nvSpPr>
              <p:cNvPr id="393" name=""/>
              <p:cNvSpPr/>
              <p:nvPr/>
            </p:nvSpPr>
            <p:spPr>
              <a:xfrm>
                <a:off x="7848720" y="6248520"/>
                <a:ext cx="15228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909560" y="6419880"/>
                <a:ext cx="3024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8381880" y="6248520"/>
              <a:ext cx="152640" cy="228600"/>
              <a:chOff x="8381880" y="6248520"/>
              <a:chExt cx="152640" cy="228600"/>
            </a:xfrm>
          </p:grpSpPr>
          <p:sp>
            <p:nvSpPr>
              <p:cNvPr id="396" name=""/>
              <p:cNvSpPr/>
              <p:nvPr/>
            </p:nvSpPr>
            <p:spPr>
              <a:xfrm>
                <a:off x="8381880" y="6248520"/>
                <a:ext cx="15264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442720" y="6419880"/>
                <a:ext cx="3060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8458200" y="5943600"/>
              <a:ext cx="152280" cy="228600"/>
              <a:chOff x="8458200" y="5943600"/>
              <a:chExt cx="152280" cy="228600"/>
            </a:xfrm>
          </p:grpSpPr>
          <p:sp>
            <p:nvSpPr>
              <p:cNvPr id="399" name=""/>
              <p:cNvSpPr/>
              <p:nvPr/>
            </p:nvSpPr>
            <p:spPr>
              <a:xfrm>
                <a:off x="8458200" y="5943600"/>
                <a:ext cx="15228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519040" y="6114960"/>
                <a:ext cx="3024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8229600" y="6095880"/>
              <a:ext cx="152280" cy="228600"/>
              <a:chOff x="8229600" y="6095880"/>
              <a:chExt cx="152280" cy="228600"/>
            </a:xfrm>
          </p:grpSpPr>
          <p:sp>
            <p:nvSpPr>
              <p:cNvPr id="402" name=""/>
              <p:cNvSpPr/>
              <p:nvPr/>
            </p:nvSpPr>
            <p:spPr>
              <a:xfrm>
                <a:off x="8229600" y="6095880"/>
                <a:ext cx="15228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290440" y="6267240"/>
                <a:ext cx="3024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8229600" y="5791320"/>
              <a:ext cx="152280" cy="228600"/>
              <a:chOff x="8229600" y="5791320"/>
              <a:chExt cx="152280" cy="228600"/>
            </a:xfrm>
          </p:grpSpPr>
          <p:sp>
            <p:nvSpPr>
              <p:cNvPr id="405" name=""/>
              <p:cNvSpPr/>
              <p:nvPr/>
            </p:nvSpPr>
            <p:spPr>
              <a:xfrm>
                <a:off x="8229600" y="5791320"/>
                <a:ext cx="15228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290440" y="5962680"/>
                <a:ext cx="3024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7696080" y="6019920"/>
              <a:ext cx="152640" cy="228600"/>
              <a:chOff x="7696080" y="6019920"/>
              <a:chExt cx="152640" cy="228600"/>
            </a:xfrm>
          </p:grpSpPr>
          <p:sp>
            <p:nvSpPr>
              <p:cNvPr id="408" name=""/>
              <p:cNvSpPr/>
              <p:nvPr/>
            </p:nvSpPr>
            <p:spPr>
              <a:xfrm>
                <a:off x="7696080" y="6019920"/>
                <a:ext cx="15264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756920" y="6191280"/>
                <a:ext cx="3060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686800" y="6172200"/>
              <a:ext cx="152280" cy="228600"/>
              <a:chOff x="8686800" y="6172200"/>
              <a:chExt cx="152280" cy="228600"/>
            </a:xfrm>
          </p:grpSpPr>
          <p:sp>
            <p:nvSpPr>
              <p:cNvPr id="411" name=""/>
              <p:cNvSpPr/>
              <p:nvPr/>
            </p:nvSpPr>
            <p:spPr>
              <a:xfrm>
                <a:off x="8686800" y="6172200"/>
                <a:ext cx="15228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747640" y="6343560"/>
                <a:ext cx="3024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8839080" y="6019920"/>
              <a:ext cx="152640" cy="228600"/>
              <a:chOff x="8839080" y="6019920"/>
              <a:chExt cx="152640" cy="228600"/>
            </a:xfrm>
          </p:grpSpPr>
          <p:sp>
            <p:nvSpPr>
              <p:cNvPr id="414" name=""/>
              <p:cNvSpPr/>
              <p:nvPr/>
            </p:nvSpPr>
            <p:spPr>
              <a:xfrm>
                <a:off x="8839080" y="6019920"/>
                <a:ext cx="15264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899920" y="6191280"/>
                <a:ext cx="3060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9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-185760" y="3924360"/>
            <a:ext cx="9434520" cy="3224160"/>
            <a:chOff x="-185760" y="3924360"/>
            <a:chExt cx="9434520" cy="3224160"/>
          </a:xfrm>
        </p:grpSpPr>
        <p:sp>
          <p:nvSpPr>
            <p:cNvPr id="417" name=""/>
            <p:cNvSpPr/>
            <p:nvPr/>
          </p:nvSpPr>
          <p:spPr>
            <a:xfrm>
              <a:off x="-185760" y="3924360"/>
              <a:ext cx="3164040" cy="3093840"/>
            </a:xfrm>
            <a:custGeom>
              <a:avLst/>
              <a:gdLst/>
              <a:ahLst/>
              <a:rect l="l" t="t" r="r" b="b"/>
              <a:pathLst>
                <a:path w="1993" h="1949">
                  <a:moveTo>
                    <a:pt x="108" y="851"/>
                  </a:moveTo>
                  <a:cubicBezTo>
                    <a:pt x="134" y="838"/>
                    <a:pt x="153" y="833"/>
                    <a:pt x="170" y="807"/>
                  </a:cubicBezTo>
                  <a:cubicBezTo>
                    <a:pt x="194" y="770"/>
                    <a:pt x="207" y="707"/>
                    <a:pt x="241" y="674"/>
                  </a:cubicBezTo>
                  <a:cubicBezTo>
                    <a:pt x="249" y="666"/>
                    <a:pt x="259" y="662"/>
                    <a:pt x="268" y="656"/>
                  </a:cubicBezTo>
                  <a:cubicBezTo>
                    <a:pt x="280" y="648"/>
                    <a:pt x="293" y="640"/>
                    <a:pt x="303" y="630"/>
                  </a:cubicBezTo>
                  <a:cubicBezTo>
                    <a:pt x="321" y="612"/>
                    <a:pt x="338" y="594"/>
                    <a:pt x="356" y="576"/>
                  </a:cubicBezTo>
                  <a:cubicBezTo>
                    <a:pt x="389" y="543"/>
                    <a:pt x="395" y="513"/>
                    <a:pt x="418" y="470"/>
                  </a:cubicBezTo>
                  <a:cubicBezTo>
                    <a:pt x="437" y="435"/>
                    <a:pt x="465" y="405"/>
                    <a:pt x="489" y="373"/>
                  </a:cubicBezTo>
                  <a:cubicBezTo>
                    <a:pt x="514" y="340"/>
                    <a:pt x="547" y="319"/>
                    <a:pt x="569" y="284"/>
                  </a:cubicBezTo>
                  <a:cubicBezTo>
                    <a:pt x="612" y="215"/>
                    <a:pt x="644" y="156"/>
                    <a:pt x="702" y="98"/>
                  </a:cubicBezTo>
                  <a:cubicBezTo>
                    <a:pt x="738" y="62"/>
                    <a:pt x="747" y="18"/>
                    <a:pt x="799" y="0"/>
                  </a:cubicBezTo>
                  <a:cubicBezTo>
                    <a:pt x="826" y="3"/>
                    <a:pt x="854" y="0"/>
                    <a:pt x="879" y="9"/>
                  </a:cubicBezTo>
                  <a:cubicBezTo>
                    <a:pt x="893" y="14"/>
                    <a:pt x="925" y="63"/>
                    <a:pt x="932" y="71"/>
                  </a:cubicBezTo>
                  <a:cubicBezTo>
                    <a:pt x="1011" y="158"/>
                    <a:pt x="963" y="92"/>
                    <a:pt x="1003" y="151"/>
                  </a:cubicBezTo>
                  <a:cubicBezTo>
                    <a:pt x="1020" y="218"/>
                    <a:pt x="1025" y="277"/>
                    <a:pt x="1083" y="319"/>
                  </a:cubicBezTo>
                  <a:cubicBezTo>
                    <a:pt x="1092" y="340"/>
                    <a:pt x="1092" y="366"/>
                    <a:pt x="1109" y="381"/>
                  </a:cubicBezTo>
                  <a:cubicBezTo>
                    <a:pt x="1123" y="393"/>
                    <a:pt x="1146" y="383"/>
                    <a:pt x="1163" y="390"/>
                  </a:cubicBezTo>
                  <a:cubicBezTo>
                    <a:pt x="1206" y="407"/>
                    <a:pt x="1230" y="454"/>
                    <a:pt x="1269" y="479"/>
                  </a:cubicBezTo>
                  <a:cubicBezTo>
                    <a:pt x="1285" y="489"/>
                    <a:pt x="1304" y="491"/>
                    <a:pt x="1322" y="497"/>
                  </a:cubicBezTo>
                  <a:cubicBezTo>
                    <a:pt x="1375" y="534"/>
                    <a:pt x="1394" y="558"/>
                    <a:pt x="1437" y="603"/>
                  </a:cubicBezTo>
                  <a:cubicBezTo>
                    <a:pt x="1462" y="676"/>
                    <a:pt x="1538" y="772"/>
                    <a:pt x="1615" y="798"/>
                  </a:cubicBezTo>
                  <a:cubicBezTo>
                    <a:pt x="1641" y="818"/>
                    <a:pt x="1680" y="828"/>
                    <a:pt x="1703" y="851"/>
                  </a:cubicBezTo>
                  <a:cubicBezTo>
                    <a:pt x="1792" y="942"/>
                    <a:pt x="1676" y="835"/>
                    <a:pt x="1748" y="922"/>
                  </a:cubicBezTo>
                  <a:cubicBezTo>
                    <a:pt x="1800" y="984"/>
                    <a:pt x="1762" y="856"/>
                    <a:pt x="1836" y="1002"/>
                  </a:cubicBezTo>
                  <a:cubicBezTo>
                    <a:pt x="1848" y="1026"/>
                    <a:pt x="1858" y="1051"/>
                    <a:pt x="1872" y="1073"/>
                  </a:cubicBezTo>
                  <a:cubicBezTo>
                    <a:pt x="1888" y="1098"/>
                    <a:pt x="1925" y="1144"/>
                    <a:pt x="1925" y="1144"/>
                  </a:cubicBezTo>
                  <a:cubicBezTo>
                    <a:pt x="1938" y="1194"/>
                    <a:pt x="1943" y="1245"/>
                    <a:pt x="1960" y="1294"/>
                  </a:cubicBezTo>
                  <a:cubicBezTo>
                    <a:pt x="1957" y="1389"/>
                    <a:pt x="1955" y="1483"/>
                    <a:pt x="1951" y="1578"/>
                  </a:cubicBezTo>
                  <a:cubicBezTo>
                    <a:pt x="1949" y="1616"/>
                    <a:pt x="1944" y="1655"/>
                    <a:pt x="1942" y="1693"/>
                  </a:cubicBezTo>
                  <a:cubicBezTo>
                    <a:pt x="1938" y="1758"/>
                    <a:pt x="1993" y="1862"/>
                    <a:pt x="1934" y="1888"/>
                  </a:cubicBezTo>
                  <a:cubicBezTo>
                    <a:pt x="1796" y="1949"/>
                    <a:pt x="1633" y="1894"/>
                    <a:pt x="1482" y="1897"/>
                  </a:cubicBezTo>
                  <a:cubicBezTo>
                    <a:pt x="1021" y="1892"/>
                    <a:pt x="614" y="1889"/>
                    <a:pt x="170" y="1852"/>
                  </a:cubicBezTo>
                  <a:cubicBezTo>
                    <a:pt x="139" y="1837"/>
                    <a:pt x="110" y="1828"/>
                    <a:pt x="82" y="1808"/>
                  </a:cubicBezTo>
                  <a:cubicBezTo>
                    <a:pt x="82" y="1785"/>
                    <a:pt x="124" y="1254"/>
                    <a:pt x="37" y="1081"/>
                  </a:cubicBezTo>
                  <a:cubicBezTo>
                    <a:pt x="31" y="1036"/>
                    <a:pt x="22" y="1000"/>
                    <a:pt x="11" y="957"/>
                  </a:cubicBezTo>
                  <a:cubicBezTo>
                    <a:pt x="14" y="931"/>
                    <a:pt x="0" y="895"/>
                    <a:pt x="20" y="878"/>
                  </a:cubicBezTo>
                  <a:cubicBezTo>
                    <a:pt x="45" y="857"/>
                    <a:pt x="86" y="879"/>
                    <a:pt x="117" y="869"/>
                  </a:cubicBezTo>
                  <a:cubicBezTo>
                    <a:pt x="126" y="866"/>
                    <a:pt x="130" y="850"/>
                    <a:pt x="126" y="842"/>
                  </a:cubicBezTo>
                  <a:cubicBezTo>
                    <a:pt x="123" y="836"/>
                    <a:pt x="114" y="848"/>
                    <a:pt x="108" y="85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84240" y="4149720"/>
              <a:ext cx="2987640" cy="2728800"/>
            </a:xfrm>
            <a:custGeom>
              <a:avLst/>
              <a:gdLst/>
              <a:ahLst/>
              <a:rect l="l" t="t" r="r" b="b"/>
              <a:pathLst>
                <a:path w="1882" h="1719">
                  <a:moveTo>
                    <a:pt x="0" y="346"/>
                  </a:moveTo>
                  <a:cubicBezTo>
                    <a:pt x="42" y="342"/>
                    <a:pt x="95" y="358"/>
                    <a:pt x="125" y="328"/>
                  </a:cubicBezTo>
                  <a:cubicBezTo>
                    <a:pt x="151" y="302"/>
                    <a:pt x="174" y="254"/>
                    <a:pt x="195" y="222"/>
                  </a:cubicBezTo>
                  <a:cubicBezTo>
                    <a:pt x="204" y="208"/>
                    <a:pt x="226" y="212"/>
                    <a:pt x="240" y="204"/>
                  </a:cubicBezTo>
                  <a:cubicBezTo>
                    <a:pt x="259" y="194"/>
                    <a:pt x="293" y="169"/>
                    <a:pt x="293" y="169"/>
                  </a:cubicBezTo>
                  <a:cubicBezTo>
                    <a:pt x="331" y="111"/>
                    <a:pt x="368" y="22"/>
                    <a:pt x="435" y="0"/>
                  </a:cubicBezTo>
                  <a:cubicBezTo>
                    <a:pt x="480" y="23"/>
                    <a:pt x="523" y="53"/>
                    <a:pt x="559" y="89"/>
                  </a:cubicBezTo>
                  <a:cubicBezTo>
                    <a:pt x="625" y="155"/>
                    <a:pt x="548" y="99"/>
                    <a:pt x="612" y="142"/>
                  </a:cubicBezTo>
                  <a:cubicBezTo>
                    <a:pt x="621" y="166"/>
                    <a:pt x="621" y="194"/>
                    <a:pt x="638" y="213"/>
                  </a:cubicBezTo>
                  <a:cubicBezTo>
                    <a:pt x="660" y="237"/>
                    <a:pt x="700" y="238"/>
                    <a:pt x="727" y="257"/>
                  </a:cubicBezTo>
                  <a:cubicBezTo>
                    <a:pt x="772" y="325"/>
                    <a:pt x="705" y="239"/>
                    <a:pt x="798" y="293"/>
                  </a:cubicBezTo>
                  <a:cubicBezTo>
                    <a:pt x="829" y="311"/>
                    <a:pt x="849" y="343"/>
                    <a:pt x="869" y="372"/>
                  </a:cubicBezTo>
                  <a:cubicBezTo>
                    <a:pt x="891" y="437"/>
                    <a:pt x="877" y="431"/>
                    <a:pt x="949" y="443"/>
                  </a:cubicBezTo>
                  <a:cubicBezTo>
                    <a:pt x="983" y="491"/>
                    <a:pt x="1019" y="530"/>
                    <a:pt x="1055" y="576"/>
                  </a:cubicBezTo>
                  <a:cubicBezTo>
                    <a:pt x="1072" y="644"/>
                    <a:pt x="1080" y="724"/>
                    <a:pt x="1126" y="780"/>
                  </a:cubicBezTo>
                  <a:cubicBezTo>
                    <a:pt x="1150" y="809"/>
                    <a:pt x="1182" y="822"/>
                    <a:pt x="1206" y="851"/>
                  </a:cubicBezTo>
                  <a:cubicBezTo>
                    <a:pt x="1246" y="899"/>
                    <a:pt x="1256" y="962"/>
                    <a:pt x="1321" y="984"/>
                  </a:cubicBezTo>
                  <a:cubicBezTo>
                    <a:pt x="1347" y="1019"/>
                    <a:pt x="1375" y="1038"/>
                    <a:pt x="1401" y="1072"/>
                  </a:cubicBezTo>
                  <a:cubicBezTo>
                    <a:pt x="1414" y="1129"/>
                    <a:pt x="1441" y="1140"/>
                    <a:pt x="1480" y="1179"/>
                  </a:cubicBezTo>
                  <a:cubicBezTo>
                    <a:pt x="1510" y="1209"/>
                    <a:pt x="1526" y="1251"/>
                    <a:pt x="1551" y="1285"/>
                  </a:cubicBezTo>
                  <a:cubicBezTo>
                    <a:pt x="1572" y="1347"/>
                    <a:pt x="1599" y="1379"/>
                    <a:pt x="1658" y="1409"/>
                  </a:cubicBezTo>
                  <a:cubicBezTo>
                    <a:pt x="1687" y="1489"/>
                    <a:pt x="1708" y="1523"/>
                    <a:pt x="1790" y="1551"/>
                  </a:cubicBezTo>
                  <a:cubicBezTo>
                    <a:pt x="1796" y="1563"/>
                    <a:pt x="1797" y="1579"/>
                    <a:pt x="1808" y="1586"/>
                  </a:cubicBezTo>
                  <a:cubicBezTo>
                    <a:pt x="1882" y="1632"/>
                    <a:pt x="1849" y="1559"/>
                    <a:pt x="1870" y="1622"/>
                  </a:cubicBezTo>
                  <a:cubicBezTo>
                    <a:pt x="1867" y="1640"/>
                    <a:pt x="1873" y="1662"/>
                    <a:pt x="1861" y="1675"/>
                  </a:cubicBezTo>
                  <a:cubicBezTo>
                    <a:pt x="1849" y="1689"/>
                    <a:pt x="1808" y="1693"/>
                    <a:pt x="1808" y="1693"/>
                  </a:cubicBezTo>
                  <a:cubicBezTo>
                    <a:pt x="1480" y="1664"/>
                    <a:pt x="1672" y="1673"/>
                    <a:pt x="1232" y="1684"/>
                  </a:cubicBezTo>
                  <a:cubicBezTo>
                    <a:pt x="1180" y="1697"/>
                    <a:pt x="1167" y="1710"/>
                    <a:pt x="1108" y="1719"/>
                  </a:cubicBezTo>
                  <a:cubicBezTo>
                    <a:pt x="742" y="1709"/>
                    <a:pt x="895" y="1710"/>
                    <a:pt x="647" y="1710"/>
                  </a:cubicBez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64200" y="4819680"/>
              <a:ext cx="2284560" cy="2225520"/>
            </a:xfrm>
            <a:custGeom>
              <a:avLst/>
              <a:gdLst/>
              <a:ahLst/>
              <a:rect l="l" t="t" r="r" b="b"/>
              <a:pathLst>
                <a:path w="1439" h="1402">
                  <a:moveTo>
                    <a:pt x="186" y="961"/>
                  </a:moveTo>
                  <a:cubicBezTo>
                    <a:pt x="260" y="948"/>
                    <a:pt x="224" y="962"/>
                    <a:pt x="292" y="916"/>
                  </a:cubicBezTo>
                  <a:cubicBezTo>
                    <a:pt x="317" y="899"/>
                    <a:pt x="371" y="895"/>
                    <a:pt x="398" y="890"/>
                  </a:cubicBezTo>
                  <a:cubicBezTo>
                    <a:pt x="465" y="856"/>
                    <a:pt x="532" y="817"/>
                    <a:pt x="593" y="774"/>
                  </a:cubicBezTo>
                  <a:cubicBezTo>
                    <a:pt x="610" y="762"/>
                    <a:pt x="628" y="751"/>
                    <a:pt x="646" y="739"/>
                  </a:cubicBezTo>
                  <a:cubicBezTo>
                    <a:pt x="655" y="733"/>
                    <a:pt x="673" y="721"/>
                    <a:pt x="673" y="721"/>
                  </a:cubicBezTo>
                  <a:cubicBezTo>
                    <a:pt x="703" y="677"/>
                    <a:pt x="755" y="632"/>
                    <a:pt x="806" y="615"/>
                  </a:cubicBezTo>
                  <a:cubicBezTo>
                    <a:pt x="871" y="565"/>
                    <a:pt x="917" y="495"/>
                    <a:pt x="974" y="438"/>
                  </a:cubicBezTo>
                  <a:cubicBezTo>
                    <a:pt x="988" y="353"/>
                    <a:pt x="1037" y="254"/>
                    <a:pt x="1125" y="225"/>
                  </a:cubicBezTo>
                  <a:cubicBezTo>
                    <a:pt x="1171" y="195"/>
                    <a:pt x="1218" y="151"/>
                    <a:pt x="1267" y="128"/>
                  </a:cubicBezTo>
                  <a:cubicBezTo>
                    <a:pt x="1328" y="31"/>
                    <a:pt x="1236" y="168"/>
                    <a:pt x="1311" y="83"/>
                  </a:cubicBezTo>
                  <a:cubicBezTo>
                    <a:pt x="1384" y="0"/>
                    <a:pt x="1312" y="53"/>
                    <a:pt x="1373" y="12"/>
                  </a:cubicBezTo>
                  <a:cubicBezTo>
                    <a:pt x="1380" y="116"/>
                    <a:pt x="1383" y="220"/>
                    <a:pt x="1400" y="323"/>
                  </a:cubicBezTo>
                  <a:cubicBezTo>
                    <a:pt x="1400" y="339"/>
                    <a:pt x="1439" y="1044"/>
                    <a:pt x="1391" y="1182"/>
                  </a:cubicBezTo>
                  <a:cubicBezTo>
                    <a:pt x="1391" y="1183"/>
                    <a:pt x="1377" y="1306"/>
                    <a:pt x="1364" y="1315"/>
                  </a:cubicBezTo>
                  <a:cubicBezTo>
                    <a:pt x="1343" y="1329"/>
                    <a:pt x="1317" y="1333"/>
                    <a:pt x="1293" y="1342"/>
                  </a:cubicBezTo>
                  <a:cubicBezTo>
                    <a:pt x="848" y="1338"/>
                    <a:pt x="439" y="1402"/>
                    <a:pt x="26" y="1280"/>
                  </a:cubicBezTo>
                  <a:cubicBezTo>
                    <a:pt x="7" y="1224"/>
                    <a:pt x="0" y="1188"/>
                    <a:pt x="35" y="1138"/>
                  </a:cubicBezTo>
                  <a:cubicBezTo>
                    <a:pt x="54" y="1081"/>
                    <a:pt x="118" y="1065"/>
                    <a:pt x="168" y="1040"/>
                  </a:cubicBez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-84240" y="4713120"/>
              <a:ext cx="9279000" cy="2435400"/>
              <a:chOff x="-84240" y="4713120"/>
              <a:chExt cx="9279000" cy="2435400"/>
            </a:xfrm>
          </p:grpSpPr>
          <p:sp>
            <p:nvSpPr>
              <p:cNvPr id="421" name=""/>
              <p:cNvSpPr/>
              <p:nvPr/>
            </p:nvSpPr>
            <p:spPr>
              <a:xfrm>
                <a:off x="-84240" y="6437160"/>
                <a:ext cx="9279000" cy="711360"/>
              </a:xfrm>
              <a:custGeom>
                <a:avLst/>
                <a:gdLst/>
                <a:ahLst/>
                <a:rect l="l" t="t" r="r" b="b"/>
                <a:pathLst>
                  <a:path w="5845" h="448">
                    <a:moveTo>
                      <a:pt x="35" y="119"/>
                    </a:moveTo>
                    <a:cubicBezTo>
                      <a:pt x="252" y="87"/>
                      <a:pt x="313" y="94"/>
                      <a:pt x="585" y="101"/>
                    </a:cubicBezTo>
                    <a:cubicBezTo>
                      <a:pt x="714" y="134"/>
                      <a:pt x="838" y="108"/>
                      <a:pt x="966" y="92"/>
                    </a:cubicBezTo>
                    <a:cubicBezTo>
                      <a:pt x="1028" y="95"/>
                      <a:pt x="1090" y="96"/>
                      <a:pt x="1152" y="101"/>
                    </a:cubicBezTo>
                    <a:cubicBezTo>
                      <a:pt x="1200" y="105"/>
                      <a:pt x="1294" y="119"/>
                      <a:pt x="1294" y="119"/>
                    </a:cubicBezTo>
                    <a:cubicBezTo>
                      <a:pt x="1692" y="114"/>
                      <a:pt x="2100" y="128"/>
                      <a:pt x="2499" y="110"/>
                    </a:cubicBezTo>
                    <a:cubicBezTo>
                      <a:pt x="2524" y="104"/>
                      <a:pt x="2545" y="88"/>
                      <a:pt x="2570" y="83"/>
                    </a:cubicBezTo>
                    <a:cubicBezTo>
                      <a:pt x="2669" y="64"/>
                      <a:pt x="2765" y="64"/>
                      <a:pt x="2862" y="39"/>
                    </a:cubicBezTo>
                    <a:cubicBezTo>
                      <a:pt x="2920" y="0"/>
                      <a:pt x="2929" y="13"/>
                      <a:pt x="3013" y="21"/>
                    </a:cubicBezTo>
                    <a:cubicBezTo>
                      <a:pt x="3032" y="27"/>
                      <a:pt x="3047" y="42"/>
                      <a:pt x="3066" y="48"/>
                    </a:cubicBezTo>
                    <a:cubicBezTo>
                      <a:pt x="3090" y="56"/>
                      <a:pt x="3198" y="65"/>
                      <a:pt x="3208" y="66"/>
                    </a:cubicBezTo>
                    <a:cubicBezTo>
                      <a:pt x="3282" y="74"/>
                      <a:pt x="3356" y="81"/>
                      <a:pt x="3429" y="92"/>
                    </a:cubicBezTo>
                    <a:cubicBezTo>
                      <a:pt x="3532" y="126"/>
                      <a:pt x="3586" y="114"/>
                      <a:pt x="3722" y="119"/>
                    </a:cubicBezTo>
                    <a:cubicBezTo>
                      <a:pt x="3994" y="114"/>
                      <a:pt x="4184" y="136"/>
                      <a:pt x="4422" y="66"/>
                    </a:cubicBezTo>
                    <a:cubicBezTo>
                      <a:pt x="5391" y="87"/>
                      <a:pt x="4936" y="79"/>
                      <a:pt x="5786" y="92"/>
                    </a:cubicBezTo>
                    <a:cubicBezTo>
                      <a:pt x="5822" y="187"/>
                      <a:pt x="5806" y="138"/>
                      <a:pt x="5831" y="234"/>
                    </a:cubicBezTo>
                    <a:cubicBezTo>
                      <a:pt x="5834" y="246"/>
                      <a:pt x="5840" y="269"/>
                      <a:pt x="5840" y="269"/>
                    </a:cubicBezTo>
                    <a:cubicBezTo>
                      <a:pt x="5837" y="296"/>
                      <a:pt x="5845" y="326"/>
                      <a:pt x="5831" y="349"/>
                    </a:cubicBezTo>
                    <a:cubicBezTo>
                      <a:pt x="5821" y="365"/>
                      <a:pt x="5797" y="366"/>
                      <a:pt x="5778" y="367"/>
                    </a:cubicBezTo>
                    <a:cubicBezTo>
                      <a:pt x="5731" y="370"/>
                      <a:pt x="5683" y="374"/>
                      <a:pt x="5636" y="376"/>
                    </a:cubicBezTo>
                    <a:cubicBezTo>
                      <a:pt x="5547" y="380"/>
                      <a:pt x="5459" y="382"/>
                      <a:pt x="5370" y="385"/>
                    </a:cubicBezTo>
                    <a:cubicBezTo>
                      <a:pt x="4913" y="419"/>
                      <a:pt x="4500" y="424"/>
                      <a:pt x="4023" y="429"/>
                    </a:cubicBezTo>
                    <a:cubicBezTo>
                      <a:pt x="3615" y="448"/>
                      <a:pt x="3309" y="443"/>
                      <a:pt x="2853" y="438"/>
                    </a:cubicBezTo>
                    <a:cubicBezTo>
                      <a:pt x="2522" y="426"/>
                      <a:pt x="2192" y="395"/>
                      <a:pt x="1861" y="376"/>
                    </a:cubicBezTo>
                    <a:cubicBezTo>
                      <a:pt x="1283" y="303"/>
                      <a:pt x="687" y="318"/>
                      <a:pt x="106" y="296"/>
                    </a:cubicBezTo>
                    <a:cubicBezTo>
                      <a:pt x="44" y="278"/>
                      <a:pt x="28" y="280"/>
                      <a:pt x="0" y="225"/>
                    </a:cubicBezTo>
                    <a:cubicBezTo>
                      <a:pt x="7" y="182"/>
                      <a:pt x="16" y="157"/>
                      <a:pt x="35" y="119"/>
                    </a:cubicBez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55880" y="4713120"/>
                <a:ext cx="2503440" cy="1841760"/>
              </a:xfrm>
              <a:custGeom>
                <a:avLst/>
                <a:gdLst/>
                <a:ahLst/>
                <a:rect l="l" t="t" r="r" b="b"/>
                <a:pathLst>
                  <a:path w="1577" h="1160">
                    <a:moveTo>
                      <a:pt x="0" y="8"/>
                    </a:moveTo>
                    <a:cubicBezTo>
                      <a:pt x="77" y="28"/>
                      <a:pt x="73" y="75"/>
                      <a:pt x="133" y="115"/>
                    </a:cubicBezTo>
                    <a:cubicBezTo>
                      <a:pt x="138" y="126"/>
                      <a:pt x="170" y="196"/>
                      <a:pt x="177" y="203"/>
                    </a:cubicBezTo>
                    <a:cubicBezTo>
                      <a:pt x="200" y="226"/>
                      <a:pt x="247" y="226"/>
                      <a:pt x="274" y="230"/>
                    </a:cubicBezTo>
                    <a:cubicBezTo>
                      <a:pt x="303" y="240"/>
                      <a:pt x="325" y="256"/>
                      <a:pt x="354" y="265"/>
                    </a:cubicBezTo>
                    <a:cubicBezTo>
                      <a:pt x="416" y="328"/>
                      <a:pt x="389" y="302"/>
                      <a:pt x="434" y="345"/>
                    </a:cubicBezTo>
                    <a:cubicBezTo>
                      <a:pt x="469" y="379"/>
                      <a:pt x="457" y="411"/>
                      <a:pt x="505" y="443"/>
                    </a:cubicBezTo>
                    <a:cubicBezTo>
                      <a:pt x="525" y="472"/>
                      <a:pt x="576" y="522"/>
                      <a:pt x="576" y="522"/>
                    </a:cubicBezTo>
                    <a:cubicBezTo>
                      <a:pt x="591" y="569"/>
                      <a:pt x="602" y="641"/>
                      <a:pt x="629" y="682"/>
                    </a:cubicBezTo>
                    <a:cubicBezTo>
                      <a:pt x="641" y="729"/>
                      <a:pt x="653" y="765"/>
                      <a:pt x="700" y="779"/>
                    </a:cubicBezTo>
                    <a:cubicBezTo>
                      <a:pt x="747" y="812"/>
                      <a:pt x="792" y="828"/>
                      <a:pt x="833" y="868"/>
                    </a:cubicBezTo>
                    <a:cubicBezTo>
                      <a:pt x="898" y="1063"/>
                      <a:pt x="1168" y="1110"/>
                      <a:pt x="1338" y="1160"/>
                    </a:cubicBezTo>
                    <a:cubicBezTo>
                      <a:pt x="1413" y="1155"/>
                      <a:pt x="1505" y="1159"/>
                      <a:pt x="1577" y="1134"/>
                    </a:cubicBezTo>
                    <a:cubicBezTo>
                      <a:pt x="1536" y="1120"/>
                      <a:pt x="1505" y="1100"/>
                      <a:pt x="1462" y="1090"/>
                    </a:cubicBezTo>
                    <a:cubicBezTo>
                      <a:pt x="1416" y="1044"/>
                      <a:pt x="1399" y="1047"/>
                      <a:pt x="1338" y="1028"/>
                    </a:cubicBezTo>
                    <a:cubicBezTo>
                      <a:pt x="1329" y="1022"/>
                      <a:pt x="1321" y="1014"/>
                      <a:pt x="1311" y="1010"/>
                    </a:cubicBezTo>
                    <a:cubicBezTo>
                      <a:pt x="1294" y="1002"/>
                      <a:pt x="1258" y="992"/>
                      <a:pt x="1258" y="992"/>
                    </a:cubicBezTo>
                    <a:cubicBezTo>
                      <a:pt x="1224" y="969"/>
                      <a:pt x="1192" y="961"/>
                      <a:pt x="1152" y="948"/>
                    </a:cubicBezTo>
                    <a:cubicBezTo>
                      <a:pt x="1143" y="945"/>
                      <a:pt x="1125" y="939"/>
                      <a:pt x="1125" y="939"/>
                    </a:cubicBezTo>
                    <a:cubicBezTo>
                      <a:pt x="1067" y="900"/>
                      <a:pt x="1031" y="882"/>
                      <a:pt x="966" y="859"/>
                    </a:cubicBezTo>
                    <a:cubicBezTo>
                      <a:pt x="941" y="850"/>
                      <a:pt x="895" y="824"/>
                      <a:pt x="895" y="824"/>
                    </a:cubicBezTo>
                    <a:cubicBezTo>
                      <a:pt x="835" y="764"/>
                      <a:pt x="903" y="823"/>
                      <a:pt x="833" y="788"/>
                    </a:cubicBezTo>
                    <a:cubicBezTo>
                      <a:pt x="810" y="776"/>
                      <a:pt x="767" y="743"/>
                      <a:pt x="744" y="726"/>
                    </a:cubicBezTo>
                    <a:cubicBezTo>
                      <a:pt x="734" y="719"/>
                      <a:pt x="726" y="710"/>
                      <a:pt x="718" y="700"/>
                    </a:cubicBezTo>
                    <a:cubicBezTo>
                      <a:pt x="705" y="683"/>
                      <a:pt x="682" y="647"/>
                      <a:pt x="682" y="647"/>
                    </a:cubicBezTo>
                    <a:cubicBezTo>
                      <a:pt x="672" y="618"/>
                      <a:pt x="638" y="567"/>
                      <a:pt x="638" y="567"/>
                    </a:cubicBezTo>
                    <a:cubicBezTo>
                      <a:pt x="626" y="531"/>
                      <a:pt x="614" y="496"/>
                      <a:pt x="602" y="460"/>
                    </a:cubicBezTo>
                    <a:cubicBezTo>
                      <a:pt x="600" y="453"/>
                      <a:pt x="560" y="397"/>
                      <a:pt x="549" y="381"/>
                    </a:cubicBezTo>
                    <a:cubicBezTo>
                      <a:pt x="474" y="271"/>
                      <a:pt x="360" y="205"/>
                      <a:pt x="230" y="186"/>
                    </a:cubicBezTo>
                    <a:cubicBezTo>
                      <a:pt x="175" y="143"/>
                      <a:pt x="136" y="75"/>
                      <a:pt x="97" y="17"/>
                    </a:cubicBezTo>
                    <a:cubicBezTo>
                      <a:pt x="96" y="15"/>
                      <a:pt x="46" y="0"/>
                      <a:pt x="44" y="0"/>
                    </a:cubicBezTo>
                    <a:cubicBezTo>
                      <a:pt x="12" y="10"/>
                      <a:pt x="26" y="8"/>
                      <a:pt x="0" y="8"/>
                    </a:cubicBez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539640" y="476280"/>
            <a:ext cx="2951280" cy="1733040"/>
            <a:chOff x="539640" y="476280"/>
            <a:chExt cx="2951280" cy="1733040"/>
          </a:xfrm>
        </p:grpSpPr>
        <p:sp>
          <p:nvSpPr>
            <p:cNvPr id="424" name="Cloud"/>
            <p:cNvSpPr/>
            <p:nvPr/>
          </p:nvSpPr>
          <p:spPr>
            <a:xfrm>
              <a:off x="1547640" y="907920"/>
              <a:ext cx="1943280" cy="130140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Cloud"/>
            <p:cNvSpPr/>
            <p:nvPr/>
          </p:nvSpPr>
          <p:spPr>
            <a:xfrm>
              <a:off x="539640" y="476280"/>
              <a:ext cx="1942920" cy="130140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2484360" y="486900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987640" y="609300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11280" y="530064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667640" y="333360"/>
            <a:ext cx="900000" cy="934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5791320" y="533520"/>
            <a:ext cx="2950560" cy="1733040"/>
            <a:chOff x="5791320" y="533520"/>
            <a:chExt cx="2950560" cy="1733040"/>
          </a:xfrm>
        </p:grpSpPr>
        <p:sp>
          <p:nvSpPr>
            <p:cNvPr id="431" name="Cloud"/>
            <p:cNvSpPr/>
            <p:nvPr/>
          </p:nvSpPr>
          <p:spPr>
            <a:xfrm>
              <a:off x="6798960" y="965160"/>
              <a:ext cx="1942920" cy="13014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Cloud"/>
            <p:cNvSpPr/>
            <p:nvPr/>
          </p:nvSpPr>
          <p:spPr>
            <a:xfrm>
              <a:off x="5791320" y="533520"/>
              <a:ext cx="1942560" cy="13014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1447920" y="5589720"/>
            <a:ext cx="1827000" cy="965880"/>
            <a:chOff x="1447920" y="5589720"/>
            <a:chExt cx="1827000" cy="965880"/>
          </a:xfrm>
        </p:grpSpPr>
        <p:sp>
          <p:nvSpPr>
            <p:cNvPr id="434" name=""/>
            <p:cNvSpPr/>
            <p:nvPr/>
          </p:nvSpPr>
          <p:spPr>
            <a:xfrm>
              <a:off x="3059280" y="5589720"/>
              <a:ext cx="215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7920" y="60958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un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0" y="5257800"/>
            <a:ext cx="2285640" cy="1143000"/>
            <a:chOff x="0" y="5257800"/>
            <a:chExt cx="2285640" cy="1143000"/>
          </a:xfrm>
        </p:grpSpPr>
        <p:grpSp>
          <p:nvGrpSpPr>
            <p:cNvPr id="437" name=""/>
            <p:cNvGrpSpPr/>
            <p:nvPr/>
          </p:nvGrpSpPr>
          <p:grpSpPr>
            <a:xfrm>
              <a:off x="1447920" y="5410080"/>
              <a:ext cx="837720" cy="685800"/>
              <a:chOff x="1447920" y="5410080"/>
              <a:chExt cx="837720" cy="68580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1752480" y="5410080"/>
                <a:ext cx="151920" cy="228600"/>
                <a:chOff x="1752480" y="5410080"/>
                <a:chExt cx="151920" cy="2286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1752480" y="5410080"/>
                  <a:ext cx="15192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812960" y="558144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1904760" y="5562720"/>
                <a:ext cx="152280" cy="228600"/>
                <a:chOff x="1904760" y="5562720"/>
                <a:chExt cx="152280" cy="22860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904760" y="556272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965600" y="573408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1828800" y="5867280"/>
                <a:ext cx="151920" cy="228600"/>
                <a:chOff x="1828800" y="5867280"/>
                <a:chExt cx="151920" cy="22860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1828800" y="5867280"/>
                  <a:ext cx="15192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889280" y="603864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1676160" y="5715000"/>
                <a:ext cx="152280" cy="228600"/>
                <a:chOff x="1676160" y="5715000"/>
                <a:chExt cx="152280" cy="22860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1676160" y="571500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737000" y="588636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2057400" y="5715000"/>
                <a:ext cx="151920" cy="228600"/>
                <a:chOff x="2057400" y="5715000"/>
                <a:chExt cx="151920" cy="2286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2057400" y="5715000"/>
                  <a:ext cx="15192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117880" y="588636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1447920" y="5562720"/>
                <a:ext cx="152280" cy="228600"/>
                <a:chOff x="1447920" y="5562720"/>
                <a:chExt cx="152280" cy="22860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1447920" y="556272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508760" y="573408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133360" y="5410080"/>
                <a:ext cx="152280" cy="228600"/>
                <a:chOff x="2133360" y="5410080"/>
                <a:chExt cx="152280" cy="22860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133360" y="541008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194200" y="558144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"/>
            <p:cNvGrpSpPr/>
            <p:nvPr/>
          </p:nvGrpSpPr>
          <p:grpSpPr>
            <a:xfrm>
              <a:off x="609480" y="5715000"/>
              <a:ext cx="838440" cy="685800"/>
              <a:chOff x="609480" y="5715000"/>
              <a:chExt cx="838440" cy="68580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914400" y="5715000"/>
                <a:ext cx="152280" cy="228600"/>
                <a:chOff x="914400" y="5715000"/>
                <a:chExt cx="152280" cy="2286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914400" y="571500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975240" y="588636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1066680" y="5867640"/>
                <a:ext cx="152640" cy="228600"/>
                <a:chOff x="1066680" y="5867640"/>
                <a:chExt cx="152640" cy="2286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066680" y="5867640"/>
                  <a:ext cx="15264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127520" y="6039000"/>
                  <a:ext cx="3060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990720" y="6172200"/>
                <a:ext cx="152280" cy="228600"/>
                <a:chOff x="990720" y="6172200"/>
                <a:chExt cx="152280" cy="22860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990720" y="617220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051560" y="634356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838080" y="6019920"/>
                <a:ext cx="152640" cy="228600"/>
                <a:chOff x="838080" y="6019920"/>
                <a:chExt cx="152640" cy="22860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838080" y="6019920"/>
                  <a:ext cx="15264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98920" y="6191280"/>
                  <a:ext cx="3060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1219320" y="6019920"/>
                <a:ext cx="152280" cy="228600"/>
                <a:chOff x="1219320" y="6019920"/>
                <a:chExt cx="152280" cy="22860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1219320" y="601992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280160" y="619128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609480" y="5867640"/>
                <a:ext cx="152640" cy="228600"/>
                <a:chOff x="609480" y="5867640"/>
                <a:chExt cx="152640" cy="22860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609480" y="5867640"/>
                  <a:ext cx="15264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70320" y="6039000"/>
                  <a:ext cx="3060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1295280" y="5715000"/>
                <a:ext cx="152640" cy="228600"/>
                <a:chOff x="1295280" y="5715000"/>
                <a:chExt cx="152640" cy="22860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1295280" y="5715000"/>
                  <a:ext cx="15264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356120" y="5886360"/>
                  <a:ext cx="3060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1" name=""/>
            <p:cNvGrpSpPr/>
            <p:nvPr/>
          </p:nvGrpSpPr>
          <p:grpSpPr>
            <a:xfrm>
              <a:off x="0" y="5257800"/>
              <a:ext cx="837720" cy="685800"/>
              <a:chOff x="0" y="5257800"/>
              <a:chExt cx="837720" cy="685800"/>
            </a:xfrm>
          </p:grpSpPr>
          <p:grpSp>
            <p:nvGrpSpPr>
              <p:cNvPr id="482" name=""/>
              <p:cNvGrpSpPr/>
              <p:nvPr/>
            </p:nvGrpSpPr>
            <p:grpSpPr>
              <a:xfrm>
                <a:off x="304560" y="5257800"/>
                <a:ext cx="151920" cy="228600"/>
                <a:chOff x="304560" y="5257800"/>
                <a:chExt cx="151920" cy="22860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304560" y="5257800"/>
                  <a:ext cx="15192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65040" y="542916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456840" y="5410440"/>
                <a:ext cx="152280" cy="228600"/>
                <a:chOff x="456840" y="5410440"/>
                <a:chExt cx="152280" cy="22860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456840" y="541044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17680" y="558180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380880" y="5715000"/>
                <a:ext cx="151920" cy="228600"/>
                <a:chOff x="380880" y="5715000"/>
                <a:chExt cx="151920" cy="22860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380880" y="5715000"/>
                  <a:ext cx="15192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441360" y="588636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228240" y="5562720"/>
                <a:ext cx="152280" cy="228600"/>
                <a:chOff x="228240" y="5562720"/>
                <a:chExt cx="152280" cy="22860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228240" y="556272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89080" y="573408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609480" y="5562720"/>
                <a:ext cx="151920" cy="228600"/>
                <a:chOff x="609480" y="5562720"/>
                <a:chExt cx="151920" cy="22860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09480" y="5562720"/>
                  <a:ext cx="15192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69960" y="573408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0" y="5410440"/>
                <a:ext cx="152280" cy="228600"/>
                <a:chOff x="0" y="5410440"/>
                <a:chExt cx="152280" cy="22860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0" y="541044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0840" y="558180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685440" y="5257800"/>
                <a:ext cx="152280" cy="228600"/>
                <a:chOff x="685440" y="5257800"/>
                <a:chExt cx="152280" cy="22860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685440" y="5257800"/>
                  <a:ext cx="152280" cy="171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46280" y="5429160"/>
                  <a:ext cx="30240" cy="5724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3" name=""/>
          <p:cNvGrpSpPr/>
          <p:nvPr/>
        </p:nvGrpSpPr>
        <p:grpSpPr>
          <a:xfrm>
            <a:off x="7696080" y="5791320"/>
            <a:ext cx="1295640" cy="761760"/>
            <a:chOff x="7696080" y="5791320"/>
            <a:chExt cx="1295640" cy="761760"/>
          </a:xfrm>
        </p:grpSpPr>
        <p:grpSp>
          <p:nvGrpSpPr>
            <p:cNvPr id="504" name=""/>
            <p:cNvGrpSpPr/>
            <p:nvPr/>
          </p:nvGrpSpPr>
          <p:grpSpPr>
            <a:xfrm>
              <a:off x="8153280" y="6324480"/>
              <a:ext cx="152640" cy="228600"/>
              <a:chOff x="8153280" y="6324480"/>
              <a:chExt cx="152640" cy="228600"/>
            </a:xfrm>
          </p:grpSpPr>
          <p:sp>
            <p:nvSpPr>
              <p:cNvPr id="505" name=""/>
              <p:cNvSpPr/>
              <p:nvPr/>
            </p:nvSpPr>
            <p:spPr>
              <a:xfrm>
                <a:off x="8153280" y="6324480"/>
                <a:ext cx="15264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214120" y="6495840"/>
                <a:ext cx="3060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7696080" y="6172200"/>
              <a:ext cx="152640" cy="228600"/>
              <a:chOff x="7696080" y="6172200"/>
              <a:chExt cx="152640" cy="228600"/>
            </a:xfrm>
          </p:grpSpPr>
          <p:sp>
            <p:nvSpPr>
              <p:cNvPr id="508" name=""/>
              <p:cNvSpPr/>
              <p:nvPr/>
            </p:nvSpPr>
            <p:spPr>
              <a:xfrm>
                <a:off x="7696080" y="6172200"/>
                <a:ext cx="15264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756920" y="6343560"/>
                <a:ext cx="3060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8077320" y="5943600"/>
              <a:ext cx="152280" cy="228600"/>
              <a:chOff x="8077320" y="5943600"/>
              <a:chExt cx="152280" cy="228600"/>
            </a:xfrm>
          </p:grpSpPr>
          <p:sp>
            <p:nvSpPr>
              <p:cNvPr id="511" name=""/>
              <p:cNvSpPr/>
              <p:nvPr/>
            </p:nvSpPr>
            <p:spPr>
              <a:xfrm>
                <a:off x="8077320" y="5943600"/>
                <a:ext cx="15228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138160" y="6114960"/>
                <a:ext cx="3024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8001000" y="6172200"/>
              <a:ext cx="152280" cy="228600"/>
              <a:chOff x="8001000" y="6172200"/>
              <a:chExt cx="152280" cy="228600"/>
            </a:xfrm>
          </p:grpSpPr>
          <p:sp>
            <p:nvSpPr>
              <p:cNvPr id="514" name=""/>
              <p:cNvSpPr/>
              <p:nvPr/>
            </p:nvSpPr>
            <p:spPr>
              <a:xfrm>
                <a:off x="8001000" y="6172200"/>
                <a:ext cx="15228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061840" y="6343560"/>
                <a:ext cx="3024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7924680" y="6019920"/>
              <a:ext cx="152640" cy="228600"/>
              <a:chOff x="7924680" y="6019920"/>
              <a:chExt cx="152640" cy="228600"/>
            </a:xfrm>
          </p:grpSpPr>
          <p:sp>
            <p:nvSpPr>
              <p:cNvPr id="517" name=""/>
              <p:cNvSpPr/>
              <p:nvPr/>
            </p:nvSpPr>
            <p:spPr>
              <a:xfrm>
                <a:off x="7924680" y="6019920"/>
                <a:ext cx="15264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985520" y="6191280"/>
                <a:ext cx="3060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7848720" y="6248520"/>
              <a:ext cx="152280" cy="228600"/>
              <a:chOff x="7848720" y="6248520"/>
              <a:chExt cx="152280" cy="228600"/>
            </a:xfrm>
          </p:grpSpPr>
          <p:sp>
            <p:nvSpPr>
              <p:cNvPr id="520" name=""/>
              <p:cNvSpPr/>
              <p:nvPr/>
            </p:nvSpPr>
            <p:spPr>
              <a:xfrm>
                <a:off x="7848720" y="6248520"/>
                <a:ext cx="15228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909560" y="6419880"/>
                <a:ext cx="3024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8381880" y="6248520"/>
              <a:ext cx="152640" cy="228600"/>
              <a:chOff x="8381880" y="6248520"/>
              <a:chExt cx="152640" cy="228600"/>
            </a:xfrm>
          </p:grpSpPr>
          <p:sp>
            <p:nvSpPr>
              <p:cNvPr id="523" name=""/>
              <p:cNvSpPr/>
              <p:nvPr/>
            </p:nvSpPr>
            <p:spPr>
              <a:xfrm>
                <a:off x="8381880" y="6248520"/>
                <a:ext cx="15264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442720" y="6419880"/>
                <a:ext cx="3060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8458200" y="5943600"/>
              <a:ext cx="152280" cy="228600"/>
              <a:chOff x="8458200" y="5943600"/>
              <a:chExt cx="152280" cy="228600"/>
            </a:xfrm>
          </p:grpSpPr>
          <p:sp>
            <p:nvSpPr>
              <p:cNvPr id="526" name=""/>
              <p:cNvSpPr/>
              <p:nvPr/>
            </p:nvSpPr>
            <p:spPr>
              <a:xfrm>
                <a:off x="8458200" y="5943600"/>
                <a:ext cx="15228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519040" y="6114960"/>
                <a:ext cx="3024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8229600" y="6095880"/>
              <a:ext cx="152280" cy="228600"/>
              <a:chOff x="8229600" y="6095880"/>
              <a:chExt cx="152280" cy="228600"/>
            </a:xfrm>
          </p:grpSpPr>
          <p:sp>
            <p:nvSpPr>
              <p:cNvPr id="529" name=""/>
              <p:cNvSpPr/>
              <p:nvPr/>
            </p:nvSpPr>
            <p:spPr>
              <a:xfrm>
                <a:off x="8229600" y="6095880"/>
                <a:ext cx="15228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290440" y="6267240"/>
                <a:ext cx="3024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8229600" y="5791320"/>
              <a:ext cx="152280" cy="228600"/>
              <a:chOff x="8229600" y="5791320"/>
              <a:chExt cx="152280" cy="228600"/>
            </a:xfrm>
          </p:grpSpPr>
          <p:sp>
            <p:nvSpPr>
              <p:cNvPr id="532" name=""/>
              <p:cNvSpPr/>
              <p:nvPr/>
            </p:nvSpPr>
            <p:spPr>
              <a:xfrm>
                <a:off x="8229600" y="5791320"/>
                <a:ext cx="15228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290440" y="5962680"/>
                <a:ext cx="3024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696080" y="6019920"/>
              <a:ext cx="152640" cy="228600"/>
              <a:chOff x="7696080" y="6019920"/>
              <a:chExt cx="152640" cy="228600"/>
            </a:xfrm>
          </p:grpSpPr>
          <p:sp>
            <p:nvSpPr>
              <p:cNvPr id="535" name=""/>
              <p:cNvSpPr/>
              <p:nvPr/>
            </p:nvSpPr>
            <p:spPr>
              <a:xfrm>
                <a:off x="7696080" y="6019920"/>
                <a:ext cx="15264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756920" y="6191280"/>
                <a:ext cx="3060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8686800" y="6172200"/>
              <a:ext cx="152280" cy="228600"/>
              <a:chOff x="8686800" y="6172200"/>
              <a:chExt cx="152280" cy="228600"/>
            </a:xfrm>
          </p:grpSpPr>
          <p:sp>
            <p:nvSpPr>
              <p:cNvPr id="538" name=""/>
              <p:cNvSpPr/>
              <p:nvPr/>
            </p:nvSpPr>
            <p:spPr>
              <a:xfrm>
                <a:off x="8686800" y="6172200"/>
                <a:ext cx="15228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747640" y="6343560"/>
                <a:ext cx="3024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8839080" y="6019920"/>
              <a:ext cx="152640" cy="228600"/>
              <a:chOff x="8839080" y="6019920"/>
              <a:chExt cx="152640" cy="228600"/>
            </a:xfrm>
          </p:grpSpPr>
          <p:sp>
            <p:nvSpPr>
              <p:cNvPr id="541" name=""/>
              <p:cNvSpPr/>
              <p:nvPr/>
            </p:nvSpPr>
            <p:spPr>
              <a:xfrm>
                <a:off x="8839080" y="6019920"/>
                <a:ext cx="15264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899920" y="6191280"/>
                <a:ext cx="30600" cy="572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" name=""/>
          <p:cNvGrpSpPr/>
          <p:nvPr/>
        </p:nvGrpSpPr>
        <p:grpSpPr>
          <a:xfrm>
            <a:off x="533520" y="4800240"/>
            <a:ext cx="8229600" cy="1143000"/>
            <a:chOff x="533520" y="4800240"/>
            <a:chExt cx="8229600" cy="1143000"/>
          </a:xfrm>
        </p:grpSpPr>
        <p:grpSp>
          <p:nvGrpSpPr>
            <p:cNvPr id="544" name=""/>
            <p:cNvGrpSpPr/>
            <p:nvPr/>
          </p:nvGrpSpPr>
          <p:grpSpPr>
            <a:xfrm>
              <a:off x="533520" y="4800240"/>
              <a:ext cx="1218960" cy="838440"/>
              <a:chOff x="533520" y="4800240"/>
              <a:chExt cx="1218960" cy="838440"/>
            </a:xfrm>
          </p:grpSpPr>
          <p:sp>
            <p:nvSpPr>
              <p:cNvPr id="545" name=""/>
              <p:cNvSpPr/>
              <p:nvPr/>
            </p:nvSpPr>
            <p:spPr>
              <a:xfrm flipV="1">
                <a:off x="114300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533520" y="48002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1752480" y="5105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7772400" y="5638320"/>
              <a:ext cx="990720" cy="304920"/>
              <a:chOff x="7772400" y="5638320"/>
              <a:chExt cx="990720" cy="304920"/>
            </a:xfrm>
          </p:grpSpPr>
          <p:sp>
            <p:nvSpPr>
              <p:cNvPr id="549" name=""/>
              <p:cNvSpPr/>
              <p:nvPr/>
            </p:nvSpPr>
            <p:spPr>
              <a:xfrm flipV="1">
                <a:off x="8763120" y="5638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7772400" y="5638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1" name=""/>
          <p:cNvGrpSpPr/>
          <p:nvPr/>
        </p:nvGrpSpPr>
        <p:grpSpPr>
          <a:xfrm>
            <a:off x="914400" y="4723920"/>
            <a:ext cx="8001000" cy="1143360"/>
            <a:chOff x="914400" y="4723920"/>
            <a:chExt cx="8001000" cy="1143360"/>
          </a:xfrm>
        </p:grpSpPr>
        <p:grpSp>
          <p:nvGrpSpPr>
            <p:cNvPr id="552" name=""/>
            <p:cNvGrpSpPr/>
            <p:nvPr/>
          </p:nvGrpSpPr>
          <p:grpSpPr>
            <a:xfrm>
              <a:off x="914400" y="4723920"/>
              <a:ext cx="7543800" cy="917280"/>
              <a:chOff x="914400" y="4723920"/>
              <a:chExt cx="7543800" cy="91728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4038480" y="4952520"/>
                <a:ext cx="4419720" cy="688680"/>
                <a:chOff x="4038480" y="4952520"/>
                <a:chExt cx="4419720" cy="688680"/>
              </a:xfrm>
            </p:grpSpPr>
            <p:sp>
              <p:nvSpPr>
                <p:cNvPr id="554" name=""/>
                <p:cNvSpPr/>
                <p:nvPr/>
              </p:nvSpPr>
              <p:spPr>
                <a:xfrm flipV="1">
                  <a:off x="8458200" y="495252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flipV="1">
                  <a:off x="4038480" y="5257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724280" y="5181480"/>
                  <a:ext cx="228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transpirat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 flipV="1">
                <a:off x="914400" y="47239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2057400" y="49525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1219320" y="50288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flipV="1">
              <a:off x="8915400" y="5562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8305920" y="54097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34115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evt="end">
                                        <p:tn val="102"/>
                                      </p:cond>
                                    </p:stCondLst>
                                  </p:cTn>
                                  <p:tgtEl>
                                    <p:spTgt spid="5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ter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492360" y="170028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po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403280" y="270828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651640" y="270828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i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24360" y="4005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o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564000" y="515772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cipi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258920" y="4005360"/>
            <a:ext cx="23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2987280" y="213372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56000" y="32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771640" y="458136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6012000" y="4508280"/>
            <a:ext cx="647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6804000" y="321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6011640" y="206028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6:24:52Z</dcterms:created>
  <dc:creator>ESW Lab PC</dc:creator>
  <dc:description/>
  <dc:language>en-US</dc:language>
  <cp:lastModifiedBy>IT Services</cp:lastModifiedBy>
  <dcterms:modified xsi:type="dcterms:W3CDTF">2004-03-23T12:07:20Z</dcterms:modified>
  <cp:revision>6</cp:revision>
  <dc:subject/>
  <dc:title>Slide 1</dc:title>
</cp:coreProperties>
</file>