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2C8E-036D-45F1-9A13-29CC0429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1EB5-26A1-4F64-8FAC-A0BF5984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AF17-90C6-455E-A315-B2F0E86A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B393-CEEA-4643-B68F-54CEF962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282C-6D88-4531-8D07-602DFEE8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3D6C-D814-443A-9482-5AAD4CB9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B198-D7D8-454A-978F-CAA7CA35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A577-16A1-4F4B-84AE-67C24267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13A1-7874-4F46-BB74-5DFC29C9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9D78-DA05-40C0-8D2A-045C86D8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98FA-4BF8-4BC5-A5FE-1661AEC8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1D1E-A56C-46C2-9931-E8E8CAEE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1243-4B0F-4F29-A631-1320DCA25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Living things and their environment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and why bees communicate with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rek P Robert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flipH="1">
            <a:off x="323640" y="3573360"/>
            <a:ext cx="1623960" cy="1282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300720" y="3068640"/>
            <a:ext cx="2559240" cy="3438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y Bee finds some necta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493 -0.00809 C 0.07743 -0.01526 0.09045 -0.02127 0.10295 -0.02936 C 0.12448 -0.04323 0.1441 -0.06404 0.16511 -0.07907 C 0.18663 -0.11098 0.20295 -0.11491 0.22136 -0.1556 C 0.22761 -0.16948 0.23993 -0.19676 0.24011 -0.1963 C 0.23993 -0.20092 0.23837 -0.20578 0.23976 -0.20994 C 0.24097 -0.21387 0.24549 -0.21479 0.2474 -0.21826 C 0.25 -0.22312 0.24983 -0.23029 0.25295 -0.23491 C 0.25729 -0.24162 0.2632 -0.24647 0.2684 -0.25179 C 0.28594 -0.27144 0.27084 -0.26821 0.29879 -0.28763 C 0.30643 -0.29295 0.31406 -0.29826 0.32153 -0.30381 C 0.32518 -0.30659 0.33281 -0.3119 0.33281 -0.31167 C 0.33629 -0.31491 0.33993 -0.31884 0.3434 -0.32208 C 0.34514 -0.3237 0.34896 -0.3267 0.34896 -0.3267 C 0.38386 -0.34381 0.4375 -0.38058 0.48212 -0.38358 C 0.49028 -0.37549 0.49757 -0.36069 0.4908 -0.34682 C 0.48837 -0.34196 0.48438 -0.33803 0.48125 -0.33341 C 0.47726 -0.32716 0.47431 -0.3193 0.46979 -0.31399 C 0.46181 -0.30451 0.45122 -0.29988 0.44202 -0.29271 C 0.40313 -0.24254 0.44931 -0.29826 0.39896 -0.25248 C 0.3915 -0.24601 0.38594 -0.23607 0.37865 -0.22913 C 0.3717 -0.22242 0.36354 -0.21873 0.35608 -0.21295 C 0.33455 -0.19653 0.31424 -0.17873 0.29184 -0.16439 C 0.2566 -0.13156 0.21927 -0.10312 0.18177 -0.07399 C 0.17795 -0.06797 0.17465 -0.06058 0.17049 -0.05456 C 0.16806 -0.05202 0.16476 -0.05063 0.16215 -0.04809 C 0.1599 -0.04578 0.15556 -0.03838 0.15382 -0.03537 C 0.14844 -0.02451 0.14757 -0.01179 0.1434 -0.00023 C 0.14358 0.00231 0.14393 0.01272 0.14445 0.0148 C 0.15052 0.03561 0.15712 0.037 0.17222 0.04625 C 0.17761 0.04925 0.18386 0.04324 0.18959 0.04185 C 0.20434 0.03769 0.21875 0.03376 0.23334 0.02844 C 0.25781 0.01549 0.28264 0.00278 0.30695 -0.01133 C 0.31268 -0.01479 0.32361 -0.02427 0.32361 -0.02404 C 0.34323 -0.04601 0.36545 -0.06173 0.38507 -0.08254 C 0.39271 -0.08601 0.4 -0.09063 0.40781 -0.09225 C 0.40938 -0.09248 0.41025 -0.08901 0.41094 -0.08716 C 0.41597 -0.07306 0.41979 -0.05826 0.425 -0.04393 C 0.4283 -0.03491 0.44514 0.00301 0.45382 0.00902 C 0.45677 0.01087 0.46042 0.00902 0.46372 0.00833 C 0.47153 0.00671 0.48663 0.00185 0.49514 -0.00092 C 0.51736 -0.0141 0.54097 -0.02474 0.56181 -0.04138 C 0.6007 -0.07352 0.52969 -0.02196 0.58073 -0.05803 C 0.58594 -0.06358 0.59045 -0.07029 0.59618 -0.07514 C 0.59896 -0.07722 0.60191 -0.07907 0.60452 -0.08162 C 0.60729 -0.08416 0.6099 -0.08693 0.61233 -0.08994 C 0.61406 -0.09202 0.61528 -0.09526 0.61719 -0.09711 C 0.62535 -0.10543 0.63611 -0.11098 0.64479 -0.11792 C 0.65313 -0.12138 0.66077 -0.12832 0.66945 -0.12809 C 0.67275 -0.12786 0.6757 -0.11792 0.67587 -0.11769 C 0.68073 -0.1052 0.68611 -0.09318 0.68976 -0.07977 E">
                                      <p:cBhvr>
                                        <p:cTn id="6" dur="8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y Bee tells his fri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flipH="1">
            <a:off x="395280" y="1700280"/>
            <a:ext cx="1689120" cy="1333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V="1">
            <a:off x="5724360" y="3499560"/>
            <a:ext cx="2089440" cy="792360"/>
          </a:xfrm>
          <a:custGeom>
            <a:avLst/>
            <a:gdLst>
              <a:gd name="textAreaLeft" fmla="*/ 459360 w 2089440"/>
              <a:gd name="textAreaRight" fmla="*/ 1630080 w 2089440"/>
              <a:gd name="textAreaTop" fmla="*/ 174240 h 792360"/>
              <a:gd name="textAreaBottom" fmla="*/ 6181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724360" y="4292640"/>
            <a:ext cx="2089440" cy="792000"/>
          </a:xfrm>
          <a:custGeom>
            <a:avLst/>
            <a:gdLst>
              <a:gd name="textAreaLeft" fmla="*/ 459360 w 2089440"/>
              <a:gd name="textAreaRight" fmla="*/ 1630080 w 2089440"/>
              <a:gd name="textAreaTop" fmla="*/ 174240 h 792000"/>
              <a:gd name="textAreaBottom" fmla="*/ 6177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796000" y="5083920"/>
            <a:ext cx="2089080" cy="792360"/>
          </a:xfrm>
          <a:custGeom>
            <a:avLst/>
            <a:gdLst>
              <a:gd name="textAreaLeft" fmla="*/ 459360 w 2089080"/>
              <a:gd name="textAreaRight" fmla="*/ 1629720 w 2089080"/>
              <a:gd name="textAreaTop" fmla="*/ 174240 h 792360"/>
              <a:gd name="textAreaBottom" fmla="*/ 6181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6.93889E-018 C 0.02743 0.00994 0.05434 0.02312 0.08247 0.0296 C 0.11268 0.03653 0.14375 0.03214 0.17448 0.03376 C 0.17986 0.03306 0.18577 0.03514 0.19045 0.03168 C 0.23021 0.00324 0.20799 0.01064 0.23177 -0.01896 C 0.24271 -0.03237 0.27014 -0.06173 0.28559 -0.07815 C 0.29219 -0.08532 0.29966 -0.09156 0.30782 -0.09503 C 0.32014 -0.10012 0.34601 -0.10358 0.34601 -0.10358 C 0.36181 -0.10289 0.37813 -0.10613 0.39358 -0.1015 C 0.39966 -0.09965 0.42223 -0.06751 0.42535 -0.06335 C 0.42587 -0.0578 0.42778 -0.05202 0.42691 -0.04647 C 0.42309 -0.02358 0.42014 0.00069 0.41111 0.02104 C 0.40104 0.04347 0.36598 0.05665 0.3507 0.06335 C 0.3316 0.07191 0.31302 0.08185 0.29358 0.08879 C 0.28125 0.09318 0.26823 0.09272 0.25556 0.09503 C 0.24601 0.10081 0.23698 0.10821 0.22691 0.11214 C 0.21875 0.11538 0.2099 0.11422 0.20157 0.1163 C 0.19827 0.11699 0.19514 0.11908 0.19202 0.12046 C 0.16667 0.15422 0.17223 0.13642 0.16667 0.16694 C 0.17084 0.17965 0.17275 0.19445 0.17934 0.20509 C 0.18733 0.2178 0.20643 0.21965 0.21736 0.22197 C 0.24497 0.22058 0.27275 0.22312 0.3 0.2178 C 0.30938 0.21595 0.31684 0.20624 0.32535 0.20092 C 0.36545 0.17618 0.40382 0.15168 0.44288 0.12462 C 0.46216 0.11121 0.48108 0.09665 0.5 0.08254 C 0.50747 0.07699 0.51615 0.07353 0.52223 0.06543 C 0.53785 0.04462 0.529 0.04948 0.54757 0.04647 C 0.55816 0.03977 0.56129 0.04116 0.56667 0.05503 C 0.56875 0.08763 0.56788 0.11884 0.56025 0.15006 C 0.55903 0.16277 0.5592 0.17526 0.554 0.18613 C 0.55348 0.19098 0.5533 0.19607 0.55226 0.20092 C 0.54879 0.21572 0.54913 0.20254 0.54913 0.20925 E">
                                      <p:cBhvr>
                                        <p:cTn id="12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ctar is that way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 flipH="1">
            <a:off x="6084720" y="2781360"/>
            <a:ext cx="1476720" cy="116532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754200" y="1413000"/>
            <a:ext cx="2161800" cy="3990960"/>
            <a:chOff x="754200" y="1413000"/>
            <a:chExt cx="2161800" cy="399096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 flipH="1">
              <a:off x="754200" y="1413000"/>
              <a:ext cx="1225440" cy="9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 flipH="1">
              <a:off x="754200" y="2565360"/>
              <a:ext cx="1225440" cy="9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 flipH="1">
              <a:off x="754200" y="3429000"/>
              <a:ext cx="1225440" cy="9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5"/>
            <a:stretch/>
          </p:blipFill>
          <p:spPr>
            <a:xfrm flipH="1">
              <a:off x="754200" y="4437000"/>
              <a:ext cx="1225440" cy="9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6"/>
            <a:stretch/>
          </p:blipFill>
          <p:spPr>
            <a:xfrm flipH="1">
              <a:off x="1402920" y="3933720"/>
              <a:ext cx="1225800" cy="9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7"/>
            <a:stretch/>
          </p:blipFill>
          <p:spPr>
            <a:xfrm flipH="1">
              <a:off x="1402920" y="3213000"/>
              <a:ext cx="1225800" cy="9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8"/>
            <a:stretch/>
          </p:blipFill>
          <p:spPr>
            <a:xfrm flipH="1">
              <a:off x="1402920" y="2421000"/>
              <a:ext cx="1225800" cy="9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9"/>
            <a:stretch/>
          </p:blipFill>
          <p:spPr>
            <a:xfrm flipH="1">
              <a:off x="1690200" y="1773360"/>
              <a:ext cx="1225800" cy="966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1 0.10382 L 0.03299 0.15191 L 0.08229 0.15191 L 0.05764 0.20116 L 0.08229 0.24948 L 0.03299 0.24948 L 0.00851 0.29873 L -0.01597 0.24948 L -0.0651 0.24948 L -0.04062 0.20116 L -0.0651 0.15191 L -0.01597 0.15191 L 0.00851 0.10382 Z">
                                      <p:cBhvr>
                                        <p:cTn id="18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81503E-006 L 1.18125 0.02404 E">
                                      <p:cBhvr>
                                        <p:cTn id="22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0T09:56:24Z</dcterms:created>
  <dc:creator>ESW Lab PC</dc:creator>
  <dc:description/>
  <dc:language>en-US</dc:language>
  <cp:lastModifiedBy>Derek P Robertson</cp:lastModifiedBy>
  <dcterms:modified xsi:type="dcterms:W3CDTF">2003-03-21T12:37:20Z</dcterms:modified>
  <cp:revision>5</cp:revision>
  <dc:subject/>
  <dc:title>Slide 1</dc:title>
</cp:coreProperties>
</file>