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CEF-F862-4720-AD21-1E5AD3B5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3B7-A6DB-465B-B194-7975744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937-1ABF-4C84-89E2-5999836D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CFB-7DFC-402E-8EAC-A4117036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4A4-6EBC-4456-81EC-9839A487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F2E-5990-41F3-831E-E513C0D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2BE-301E-4341-AEA4-D2C6FDF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685-AE9D-4045-9539-410F6AC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619-8C12-428F-97F6-1B24D23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C31-826C-4A74-88C7-C0E9FD4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B5B-FA58-4AE3-8D26-D77EB2D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2EA-7246-4C79-8F33-693B779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0298-C04B-401F-BB7C-8252297B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iving things and their environment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that change the colour of their fur depending on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ek P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ce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52360" y="1450800"/>
            <a:ext cx="9648720" cy="3130560"/>
          </a:xfrm>
          <a:custGeom>
            <a:avLst/>
            <a:gdLst/>
            <a:ahLst/>
            <a:rect l="l" t="t" r="r" b="b"/>
            <a:pathLst>
              <a:path w="6078" h="1972">
                <a:moveTo>
                  <a:pt x="86" y="777"/>
                </a:moveTo>
                <a:cubicBezTo>
                  <a:pt x="144" y="754"/>
                  <a:pt x="185" y="723"/>
                  <a:pt x="232" y="686"/>
                </a:cubicBezTo>
                <a:cubicBezTo>
                  <a:pt x="249" y="672"/>
                  <a:pt x="287" y="649"/>
                  <a:pt x="287" y="649"/>
                </a:cubicBezTo>
                <a:cubicBezTo>
                  <a:pt x="293" y="640"/>
                  <a:pt x="300" y="632"/>
                  <a:pt x="305" y="622"/>
                </a:cubicBezTo>
                <a:cubicBezTo>
                  <a:pt x="309" y="614"/>
                  <a:pt x="309" y="603"/>
                  <a:pt x="314" y="595"/>
                </a:cubicBezTo>
                <a:cubicBezTo>
                  <a:pt x="329" y="570"/>
                  <a:pt x="358" y="542"/>
                  <a:pt x="378" y="521"/>
                </a:cubicBezTo>
                <a:cubicBezTo>
                  <a:pt x="391" y="485"/>
                  <a:pt x="403" y="448"/>
                  <a:pt x="415" y="412"/>
                </a:cubicBezTo>
                <a:cubicBezTo>
                  <a:pt x="418" y="404"/>
                  <a:pt x="428" y="400"/>
                  <a:pt x="433" y="393"/>
                </a:cubicBezTo>
                <a:cubicBezTo>
                  <a:pt x="475" y="331"/>
                  <a:pt x="435" y="382"/>
                  <a:pt x="461" y="329"/>
                </a:cubicBezTo>
                <a:cubicBezTo>
                  <a:pt x="461" y="328"/>
                  <a:pt x="487" y="278"/>
                  <a:pt x="488" y="275"/>
                </a:cubicBezTo>
                <a:cubicBezTo>
                  <a:pt x="493" y="265"/>
                  <a:pt x="506" y="247"/>
                  <a:pt x="506" y="247"/>
                </a:cubicBezTo>
                <a:cubicBezTo>
                  <a:pt x="519" y="247"/>
                  <a:pt x="534" y="240"/>
                  <a:pt x="544" y="248"/>
                </a:cubicBezTo>
                <a:cubicBezTo>
                  <a:pt x="551" y="253"/>
                  <a:pt x="542" y="266"/>
                  <a:pt x="543" y="275"/>
                </a:cubicBezTo>
                <a:cubicBezTo>
                  <a:pt x="548" y="311"/>
                  <a:pt x="552" y="311"/>
                  <a:pt x="570" y="339"/>
                </a:cubicBezTo>
                <a:cubicBezTo>
                  <a:pt x="586" y="397"/>
                  <a:pt x="621" y="501"/>
                  <a:pt x="680" y="521"/>
                </a:cubicBezTo>
                <a:cubicBezTo>
                  <a:pt x="696" y="572"/>
                  <a:pt x="715" y="581"/>
                  <a:pt x="762" y="613"/>
                </a:cubicBezTo>
                <a:cubicBezTo>
                  <a:pt x="771" y="619"/>
                  <a:pt x="790" y="631"/>
                  <a:pt x="790" y="631"/>
                </a:cubicBezTo>
                <a:cubicBezTo>
                  <a:pt x="813" y="666"/>
                  <a:pt x="823" y="672"/>
                  <a:pt x="863" y="659"/>
                </a:cubicBezTo>
                <a:cubicBezTo>
                  <a:pt x="872" y="624"/>
                  <a:pt x="888" y="601"/>
                  <a:pt x="900" y="567"/>
                </a:cubicBezTo>
                <a:cubicBezTo>
                  <a:pt x="905" y="439"/>
                  <a:pt x="902" y="301"/>
                  <a:pt x="927" y="174"/>
                </a:cubicBezTo>
                <a:cubicBezTo>
                  <a:pt x="1007" y="194"/>
                  <a:pt x="1039" y="284"/>
                  <a:pt x="1119" y="311"/>
                </a:cubicBezTo>
                <a:cubicBezTo>
                  <a:pt x="1156" y="349"/>
                  <a:pt x="1197" y="376"/>
                  <a:pt x="1247" y="393"/>
                </a:cubicBezTo>
                <a:cubicBezTo>
                  <a:pt x="1256" y="399"/>
                  <a:pt x="1264" y="407"/>
                  <a:pt x="1274" y="412"/>
                </a:cubicBezTo>
                <a:cubicBezTo>
                  <a:pt x="1283" y="416"/>
                  <a:pt x="1294" y="415"/>
                  <a:pt x="1302" y="421"/>
                </a:cubicBezTo>
                <a:cubicBezTo>
                  <a:pt x="1365" y="471"/>
                  <a:pt x="1273" y="432"/>
                  <a:pt x="1348" y="457"/>
                </a:cubicBezTo>
                <a:cubicBezTo>
                  <a:pt x="1366" y="463"/>
                  <a:pt x="1402" y="476"/>
                  <a:pt x="1402" y="476"/>
                </a:cubicBezTo>
                <a:cubicBezTo>
                  <a:pt x="1454" y="471"/>
                  <a:pt x="1512" y="482"/>
                  <a:pt x="1558" y="457"/>
                </a:cubicBezTo>
                <a:cubicBezTo>
                  <a:pt x="1606" y="431"/>
                  <a:pt x="1648" y="360"/>
                  <a:pt x="1686" y="320"/>
                </a:cubicBezTo>
                <a:cubicBezTo>
                  <a:pt x="1836" y="341"/>
                  <a:pt x="1789" y="339"/>
                  <a:pt x="2024" y="329"/>
                </a:cubicBezTo>
                <a:cubicBezTo>
                  <a:pt x="2047" y="322"/>
                  <a:pt x="2061" y="320"/>
                  <a:pt x="2079" y="302"/>
                </a:cubicBezTo>
                <a:cubicBezTo>
                  <a:pt x="2087" y="294"/>
                  <a:pt x="2087" y="279"/>
                  <a:pt x="2097" y="275"/>
                </a:cubicBezTo>
                <a:cubicBezTo>
                  <a:pt x="2129" y="263"/>
                  <a:pt x="2166" y="268"/>
                  <a:pt x="2198" y="256"/>
                </a:cubicBezTo>
                <a:cubicBezTo>
                  <a:pt x="2213" y="250"/>
                  <a:pt x="2229" y="244"/>
                  <a:pt x="2244" y="238"/>
                </a:cubicBezTo>
                <a:cubicBezTo>
                  <a:pt x="2297" y="184"/>
                  <a:pt x="2271" y="204"/>
                  <a:pt x="2317" y="174"/>
                </a:cubicBezTo>
                <a:cubicBezTo>
                  <a:pt x="2323" y="162"/>
                  <a:pt x="2327" y="148"/>
                  <a:pt x="2335" y="137"/>
                </a:cubicBezTo>
                <a:cubicBezTo>
                  <a:pt x="2352" y="112"/>
                  <a:pt x="2374" y="90"/>
                  <a:pt x="2390" y="64"/>
                </a:cubicBezTo>
                <a:cubicBezTo>
                  <a:pt x="2399" y="49"/>
                  <a:pt x="2403" y="30"/>
                  <a:pt x="2417" y="19"/>
                </a:cubicBezTo>
                <a:cubicBezTo>
                  <a:pt x="2432" y="7"/>
                  <a:pt x="2472" y="0"/>
                  <a:pt x="2472" y="0"/>
                </a:cubicBezTo>
                <a:cubicBezTo>
                  <a:pt x="2481" y="9"/>
                  <a:pt x="2489" y="21"/>
                  <a:pt x="2500" y="28"/>
                </a:cubicBezTo>
                <a:cubicBezTo>
                  <a:pt x="2508" y="33"/>
                  <a:pt x="2520" y="31"/>
                  <a:pt x="2527" y="37"/>
                </a:cubicBezTo>
                <a:cubicBezTo>
                  <a:pt x="2535" y="44"/>
                  <a:pt x="2536" y="58"/>
                  <a:pt x="2545" y="64"/>
                </a:cubicBezTo>
                <a:cubicBezTo>
                  <a:pt x="2567" y="80"/>
                  <a:pt x="2595" y="86"/>
                  <a:pt x="2618" y="101"/>
                </a:cubicBezTo>
                <a:cubicBezTo>
                  <a:pt x="2633" y="140"/>
                  <a:pt x="2669" y="166"/>
                  <a:pt x="2701" y="192"/>
                </a:cubicBezTo>
                <a:cubicBezTo>
                  <a:pt x="2752" y="233"/>
                  <a:pt x="2797" y="281"/>
                  <a:pt x="2856" y="311"/>
                </a:cubicBezTo>
                <a:cubicBezTo>
                  <a:pt x="2875" y="371"/>
                  <a:pt x="2848" y="313"/>
                  <a:pt x="2893" y="348"/>
                </a:cubicBezTo>
                <a:cubicBezTo>
                  <a:pt x="2902" y="355"/>
                  <a:pt x="2903" y="368"/>
                  <a:pt x="2911" y="375"/>
                </a:cubicBezTo>
                <a:cubicBezTo>
                  <a:pt x="2921" y="383"/>
                  <a:pt x="2982" y="393"/>
                  <a:pt x="2984" y="393"/>
                </a:cubicBezTo>
                <a:cubicBezTo>
                  <a:pt x="3061" y="377"/>
                  <a:pt x="3129" y="351"/>
                  <a:pt x="3204" y="339"/>
                </a:cubicBezTo>
                <a:cubicBezTo>
                  <a:pt x="3267" y="317"/>
                  <a:pt x="3331" y="300"/>
                  <a:pt x="3396" y="284"/>
                </a:cubicBezTo>
                <a:cubicBezTo>
                  <a:pt x="3443" y="319"/>
                  <a:pt x="3471" y="331"/>
                  <a:pt x="3514" y="375"/>
                </a:cubicBezTo>
                <a:cubicBezTo>
                  <a:pt x="3527" y="389"/>
                  <a:pt x="3569" y="393"/>
                  <a:pt x="3569" y="393"/>
                </a:cubicBezTo>
                <a:cubicBezTo>
                  <a:pt x="3625" y="436"/>
                  <a:pt x="3685" y="448"/>
                  <a:pt x="3752" y="467"/>
                </a:cubicBezTo>
                <a:cubicBezTo>
                  <a:pt x="3800" y="498"/>
                  <a:pt x="3759" y="476"/>
                  <a:pt x="3825" y="494"/>
                </a:cubicBezTo>
                <a:cubicBezTo>
                  <a:pt x="3844" y="499"/>
                  <a:pt x="3880" y="512"/>
                  <a:pt x="3880" y="512"/>
                </a:cubicBezTo>
                <a:cubicBezTo>
                  <a:pt x="3900" y="526"/>
                  <a:pt x="3924" y="535"/>
                  <a:pt x="3944" y="549"/>
                </a:cubicBezTo>
                <a:cubicBezTo>
                  <a:pt x="4003" y="591"/>
                  <a:pt x="3942" y="566"/>
                  <a:pt x="3999" y="585"/>
                </a:cubicBezTo>
                <a:cubicBezTo>
                  <a:pt x="4008" y="591"/>
                  <a:pt x="4017" y="597"/>
                  <a:pt x="4026" y="604"/>
                </a:cubicBezTo>
                <a:cubicBezTo>
                  <a:pt x="4033" y="609"/>
                  <a:pt x="4036" y="622"/>
                  <a:pt x="4045" y="622"/>
                </a:cubicBezTo>
                <a:cubicBezTo>
                  <a:pt x="4082" y="622"/>
                  <a:pt x="4117" y="602"/>
                  <a:pt x="4154" y="595"/>
                </a:cubicBezTo>
                <a:cubicBezTo>
                  <a:pt x="4210" y="539"/>
                  <a:pt x="4120" y="622"/>
                  <a:pt x="4218" y="567"/>
                </a:cubicBezTo>
                <a:cubicBezTo>
                  <a:pt x="4228" y="562"/>
                  <a:pt x="4228" y="547"/>
                  <a:pt x="4237" y="540"/>
                </a:cubicBezTo>
                <a:cubicBezTo>
                  <a:pt x="4244" y="534"/>
                  <a:pt x="4255" y="534"/>
                  <a:pt x="4264" y="531"/>
                </a:cubicBezTo>
                <a:cubicBezTo>
                  <a:pt x="4321" y="456"/>
                  <a:pt x="4409" y="371"/>
                  <a:pt x="4502" y="348"/>
                </a:cubicBezTo>
                <a:cubicBezTo>
                  <a:pt x="4557" y="289"/>
                  <a:pt x="4627" y="356"/>
                  <a:pt x="4685" y="375"/>
                </a:cubicBezTo>
                <a:cubicBezTo>
                  <a:pt x="4718" y="409"/>
                  <a:pt x="4746" y="411"/>
                  <a:pt x="4785" y="439"/>
                </a:cubicBezTo>
                <a:cubicBezTo>
                  <a:pt x="4865" y="495"/>
                  <a:pt x="4953" y="509"/>
                  <a:pt x="5050" y="521"/>
                </a:cubicBezTo>
                <a:cubicBezTo>
                  <a:pt x="5093" y="518"/>
                  <a:pt x="5136" y="520"/>
                  <a:pt x="5178" y="512"/>
                </a:cubicBezTo>
                <a:cubicBezTo>
                  <a:pt x="5206" y="507"/>
                  <a:pt x="5193" y="464"/>
                  <a:pt x="5242" y="448"/>
                </a:cubicBezTo>
                <a:cubicBezTo>
                  <a:pt x="5304" y="389"/>
                  <a:pt x="5210" y="485"/>
                  <a:pt x="5270" y="393"/>
                </a:cubicBezTo>
                <a:cubicBezTo>
                  <a:pt x="5276" y="384"/>
                  <a:pt x="5289" y="382"/>
                  <a:pt x="5297" y="375"/>
                </a:cubicBezTo>
                <a:cubicBezTo>
                  <a:pt x="5316" y="358"/>
                  <a:pt x="5334" y="338"/>
                  <a:pt x="5352" y="320"/>
                </a:cubicBezTo>
                <a:cubicBezTo>
                  <a:pt x="5438" y="234"/>
                  <a:pt x="5310" y="349"/>
                  <a:pt x="5380" y="265"/>
                </a:cubicBezTo>
                <a:cubicBezTo>
                  <a:pt x="5389" y="255"/>
                  <a:pt x="5430" y="229"/>
                  <a:pt x="5444" y="220"/>
                </a:cubicBezTo>
                <a:cubicBezTo>
                  <a:pt x="5500" y="239"/>
                  <a:pt x="5546" y="262"/>
                  <a:pt x="5590" y="302"/>
                </a:cubicBezTo>
                <a:cubicBezTo>
                  <a:pt x="5621" y="330"/>
                  <a:pt x="5659" y="388"/>
                  <a:pt x="5700" y="403"/>
                </a:cubicBezTo>
                <a:cubicBezTo>
                  <a:pt x="5709" y="412"/>
                  <a:pt x="5714" y="428"/>
                  <a:pt x="5727" y="430"/>
                </a:cubicBezTo>
                <a:cubicBezTo>
                  <a:pt x="5753" y="434"/>
                  <a:pt x="5766" y="406"/>
                  <a:pt x="5782" y="393"/>
                </a:cubicBezTo>
                <a:cubicBezTo>
                  <a:pt x="5806" y="373"/>
                  <a:pt x="5809" y="375"/>
                  <a:pt x="5837" y="366"/>
                </a:cubicBezTo>
                <a:cubicBezTo>
                  <a:pt x="5910" y="374"/>
                  <a:pt x="5939" y="381"/>
                  <a:pt x="6001" y="412"/>
                </a:cubicBezTo>
                <a:lnTo>
                  <a:pt x="6078" y="1881"/>
                </a:lnTo>
                <a:lnTo>
                  <a:pt x="0" y="1972"/>
                </a:lnTo>
                <a:lnTo>
                  <a:pt x="86" y="777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252360" y="2484360"/>
            <a:ext cx="9540720" cy="4689720"/>
          </a:xfrm>
          <a:custGeom>
            <a:avLst/>
            <a:gdLst/>
            <a:ahLst/>
            <a:rect l="l" t="t" r="r" b="b"/>
            <a:pathLst>
              <a:path w="6010" h="2954">
                <a:moveTo>
                  <a:pt x="86" y="629"/>
                </a:moveTo>
                <a:cubicBezTo>
                  <a:pt x="214" y="621"/>
                  <a:pt x="348" y="618"/>
                  <a:pt x="470" y="574"/>
                </a:cubicBezTo>
                <a:cubicBezTo>
                  <a:pt x="476" y="565"/>
                  <a:pt x="479" y="553"/>
                  <a:pt x="488" y="547"/>
                </a:cubicBezTo>
                <a:cubicBezTo>
                  <a:pt x="504" y="537"/>
                  <a:pt x="543" y="529"/>
                  <a:pt x="543" y="529"/>
                </a:cubicBezTo>
                <a:cubicBezTo>
                  <a:pt x="561" y="517"/>
                  <a:pt x="582" y="508"/>
                  <a:pt x="598" y="492"/>
                </a:cubicBezTo>
                <a:cubicBezTo>
                  <a:pt x="607" y="483"/>
                  <a:pt x="615" y="472"/>
                  <a:pt x="625" y="465"/>
                </a:cubicBezTo>
                <a:cubicBezTo>
                  <a:pt x="732" y="388"/>
                  <a:pt x="604" y="495"/>
                  <a:pt x="689" y="428"/>
                </a:cubicBezTo>
                <a:cubicBezTo>
                  <a:pt x="717" y="406"/>
                  <a:pt x="718" y="387"/>
                  <a:pt x="762" y="373"/>
                </a:cubicBezTo>
                <a:cubicBezTo>
                  <a:pt x="803" y="360"/>
                  <a:pt x="781" y="368"/>
                  <a:pt x="826" y="346"/>
                </a:cubicBezTo>
                <a:cubicBezTo>
                  <a:pt x="853" y="306"/>
                  <a:pt x="865" y="314"/>
                  <a:pt x="909" y="300"/>
                </a:cubicBezTo>
                <a:cubicBezTo>
                  <a:pt x="947" y="275"/>
                  <a:pt x="986" y="278"/>
                  <a:pt x="1028" y="264"/>
                </a:cubicBezTo>
                <a:cubicBezTo>
                  <a:pt x="1131" y="229"/>
                  <a:pt x="1021" y="258"/>
                  <a:pt x="1110" y="236"/>
                </a:cubicBezTo>
                <a:cubicBezTo>
                  <a:pt x="1144" y="238"/>
                  <a:pt x="1249" y="235"/>
                  <a:pt x="1293" y="264"/>
                </a:cubicBezTo>
                <a:cubicBezTo>
                  <a:pt x="1343" y="297"/>
                  <a:pt x="1403" y="304"/>
                  <a:pt x="1457" y="328"/>
                </a:cubicBezTo>
                <a:cubicBezTo>
                  <a:pt x="1470" y="334"/>
                  <a:pt x="1504" y="353"/>
                  <a:pt x="1521" y="355"/>
                </a:cubicBezTo>
                <a:cubicBezTo>
                  <a:pt x="1566" y="360"/>
                  <a:pt x="1612" y="361"/>
                  <a:pt x="1658" y="364"/>
                </a:cubicBezTo>
                <a:cubicBezTo>
                  <a:pt x="1716" y="361"/>
                  <a:pt x="1774" y="363"/>
                  <a:pt x="1832" y="355"/>
                </a:cubicBezTo>
                <a:cubicBezTo>
                  <a:pt x="1852" y="352"/>
                  <a:pt x="1864" y="329"/>
                  <a:pt x="1878" y="318"/>
                </a:cubicBezTo>
                <a:cubicBezTo>
                  <a:pt x="1905" y="295"/>
                  <a:pt x="1906" y="300"/>
                  <a:pt x="1942" y="291"/>
                </a:cubicBezTo>
                <a:cubicBezTo>
                  <a:pt x="1989" y="264"/>
                  <a:pt x="2017" y="231"/>
                  <a:pt x="2070" y="218"/>
                </a:cubicBezTo>
                <a:cubicBezTo>
                  <a:pt x="2115" y="188"/>
                  <a:pt x="2112" y="183"/>
                  <a:pt x="2152" y="172"/>
                </a:cubicBezTo>
                <a:cubicBezTo>
                  <a:pt x="2176" y="165"/>
                  <a:pt x="2225" y="154"/>
                  <a:pt x="2225" y="154"/>
                </a:cubicBezTo>
                <a:cubicBezTo>
                  <a:pt x="2282" y="111"/>
                  <a:pt x="2347" y="108"/>
                  <a:pt x="2417" y="99"/>
                </a:cubicBezTo>
                <a:cubicBezTo>
                  <a:pt x="2571" y="0"/>
                  <a:pt x="2738" y="104"/>
                  <a:pt x="2893" y="126"/>
                </a:cubicBezTo>
                <a:cubicBezTo>
                  <a:pt x="2923" y="137"/>
                  <a:pt x="2953" y="146"/>
                  <a:pt x="2984" y="154"/>
                </a:cubicBezTo>
                <a:cubicBezTo>
                  <a:pt x="3020" y="177"/>
                  <a:pt x="3062" y="195"/>
                  <a:pt x="3103" y="209"/>
                </a:cubicBezTo>
                <a:cubicBezTo>
                  <a:pt x="3133" y="239"/>
                  <a:pt x="3172" y="260"/>
                  <a:pt x="3213" y="273"/>
                </a:cubicBezTo>
                <a:cubicBezTo>
                  <a:pt x="3241" y="291"/>
                  <a:pt x="3264" y="318"/>
                  <a:pt x="3295" y="328"/>
                </a:cubicBezTo>
                <a:cubicBezTo>
                  <a:pt x="3342" y="344"/>
                  <a:pt x="3385" y="366"/>
                  <a:pt x="3432" y="382"/>
                </a:cubicBezTo>
                <a:cubicBezTo>
                  <a:pt x="3540" y="419"/>
                  <a:pt x="3659" y="431"/>
                  <a:pt x="3770" y="456"/>
                </a:cubicBezTo>
                <a:cubicBezTo>
                  <a:pt x="3889" y="453"/>
                  <a:pt x="4009" y="461"/>
                  <a:pt x="4127" y="446"/>
                </a:cubicBezTo>
                <a:cubicBezTo>
                  <a:pt x="4162" y="441"/>
                  <a:pt x="4185" y="403"/>
                  <a:pt x="4218" y="392"/>
                </a:cubicBezTo>
                <a:cubicBezTo>
                  <a:pt x="4259" y="365"/>
                  <a:pt x="4300" y="324"/>
                  <a:pt x="4346" y="309"/>
                </a:cubicBezTo>
                <a:cubicBezTo>
                  <a:pt x="4387" y="271"/>
                  <a:pt x="4514" y="273"/>
                  <a:pt x="4566" y="264"/>
                </a:cubicBezTo>
                <a:cubicBezTo>
                  <a:pt x="4624" y="270"/>
                  <a:pt x="4682" y="273"/>
                  <a:pt x="4740" y="282"/>
                </a:cubicBezTo>
                <a:cubicBezTo>
                  <a:pt x="4759" y="285"/>
                  <a:pt x="4776" y="294"/>
                  <a:pt x="4794" y="300"/>
                </a:cubicBezTo>
                <a:cubicBezTo>
                  <a:pt x="4803" y="303"/>
                  <a:pt x="4822" y="309"/>
                  <a:pt x="4822" y="309"/>
                </a:cubicBezTo>
                <a:cubicBezTo>
                  <a:pt x="4850" y="338"/>
                  <a:pt x="4885" y="343"/>
                  <a:pt x="4922" y="355"/>
                </a:cubicBezTo>
                <a:cubicBezTo>
                  <a:pt x="5010" y="384"/>
                  <a:pt x="5097" y="397"/>
                  <a:pt x="5188" y="410"/>
                </a:cubicBezTo>
                <a:cubicBezTo>
                  <a:pt x="5563" y="397"/>
                  <a:pt x="5365" y="436"/>
                  <a:pt x="5544" y="346"/>
                </a:cubicBezTo>
                <a:cubicBezTo>
                  <a:pt x="5583" y="285"/>
                  <a:pt x="5537" y="344"/>
                  <a:pt x="5590" y="309"/>
                </a:cubicBezTo>
                <a:cubicBezTo>
                  <a:pt x="5642" y="275"/>
                  <a:pt x="5666" y="220"/>
                  <a:pt x="5727" y="200"/>
                </a:cubicBezTo>
                <a:cubicBezTo>
                  <a:pt x="5756" y="179"/>
                  <a:pt x="5791" y="168"/>
                  <a:pt x="5818" y="145"/>
                </a:cubicBezTo>
                <a:cubicBezTo>
                  <a:pt x="5864" y="107"/>
                  <a:pt x="5825" y="124"/>
                  <a:pt x="5873" y="108"/>
                </a:cubicBezTo>
                <a:cubicBezTo>
                  <a:pt x="5890" y="92"/>
                  <a:pt x="5897" y="84"/>
                  <a:pt x="5919" y="72"/>
                </a:cubicBezTo>
                <a:cubicBezTo>
                  <a:pt x="5949" y="57"/>
                  <a:pt x="5986" y="59"/>
                  <a:pt x="6010" y="35"/>
                </a:cubicBezTo>
                <a:lnTo>
                  <a:pt x="5987" y="2954"/>
                </a:lnTo>
                <a:lnTo>
                  <a:pt x="0" y="2908"/>
                </a:lnTo>
                <a:lnTo>
                  <a:pt x="86" y="629"/>
                </a:lnTo>
                <a:close/>
              </a:path>
            </a:pathLst>
          </a:custGeom>
          <a:gradFill rotWithShape="0">
            <a:gsLst>
              <a:gs pos="0">
                <a:srgbClr val="7a0017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1438200" cy="1584360"/>
          </a:xfrm>
          <a:prstGeom prst="ellipse">
            <a:avLst/>
          </a:prstGeom>
          <a:gradFill rotWithShape="0">
            <a:gsLst>
              <a:gs pos="0">
                <a:srgbClr val="ffc489"/>
              </a:gs>
              <a:gs pos="100000">
                <a:srgbClr val="eef7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flipH="1">
            <a:off x="826560" y="3500280"/>
            <a:ext cx="115740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ing, Summer &amp; Aut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322E-006 C 0.05399 0.02017 0.10816 0.04056 0.14757 0.0438 C 0.18698 0.04705 0.20382 0.00812 0.23611 0.0197 C 0.2684 0.03129 0.30382 0.0832 0.34097 0.11379 C 0.37812 0.14438 0.42274 0.20163 0.45903 0.20348 C 0.49531 0.20533 0.52378 0.13349 0.55903 0.12469 C 0.59427 0.11588 0.63246 0.1226 0.67048 0.1511 C 0.7085 0.17961 0.76736 0.27185 0.7868 0.29548 E">
                                      <p:cBhvr>
                                        <p:cTn id="10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1450800"/>
            <a:ext cx="9648720" cy="3130560"/>
          </a:xfrm>
          <a:custGeom>
            <a:avLst/>
            <a:gdLst/>
            <a:ahLst/>
            <a:rect l="l" t="t" r="r" b="b"/>
            <a:pathLst>
              <a:path w="6078" h="1972">
                <a:moveTo>
                  <a:pt x="86" y="777"/>
                </a:moveTo>
                <a:cubicBezTo>
                  <a:pt x="144" y="754"/>
                  <a:pt x="185" y="723"/>
                  <a:pt x="232" y="686"/>
                </a:cubicBezTo>
                <a:cubicBezTo>
                  <a:pt x="249" y="672"/>
                  <a:pt x="287" y="649"/>
                  <a:pt x="287" y="649"/>
                </a:cubicBezTo>
                <a:cubicBezTo>
                  <a:pt x="293" y="640"/>
                  <a:pt x="300" y="632"/>
                  <a:pt x="305" y="622"/>
                </a:cubicBezTo>
                <a:cubicBezTo>
                  <a:pt x="309" y="614"/>
                  <a:pt x="309" y="603"/>
                  <a:pt x="314" y="595"/>
                </a:cubicBezTo>
                <a:cubicBezTo>
                  <a:pt x="329" y="570"/>
                  <a:pt x="358" y="542"/>
                  <a:pt x="378" y="521"/>
                </a:cubicBezTo>
                <a:cubicBezTo>
                  <a:pt x="391" y="485"/>
                  <a:pt x="403" y="448"/>
                  <a:pt x="415" y="412"/>
                </a:cubicBezTo>
                <a:cubicBezTo>
                  <a:pt x="418" y="404"/>
                  <a:pt x="428" y="400"/>
                  <a:pt x="433" y="393"/>
                </a:cubicBezTo>
                <a:cubicBezTo>
                  <a:pt x="475" y="331"/>
                  <a:pt x="435" y="382"/>
                  <a:pt x="461" y="329"/>
                </a:cubicBezTo>
                <a:cubicBezTo>
                  <a:pt x="461" y="328"/>
                  <a:pt x="487" y="278"/>
                  <a:pt x="488" y="275"/>
                </a:cubicBezTo>
                <a:cubicBezTo>
                  <a:pt x="493" y="265"/>
                  <a:pt x="506" y="247"/>
                  <a:pt x="506" y="247"/>
                </a:cubicBezTo>
                <a:cubicBezTo>
                  <a:pt x="519" y="247"/>
                  <a:pt x="534" y="240"/>
                  <a:pt x="544" y="248"/>
                </a:cubicBezTo>
                <a:cubicBezTo>
                  <a:pt x="551" y="253"/>
                  <a:pt x="542" y="266"/>
                  <a:pt x="543" y="275"/>
                </a:cubicBezTo>
                <a:cubicBezTo>
                  <a:pt x="548" y="311"/>
                  <a:pt x="552" y="311"/>
                  <a:pt x="570" y="339"/>
                </a:cubicBezTo>
                <a:cubicBezTo>
                  <a:pt x="586" y="397"/>
                  <a:pt x="621" y="501"/>
                  <a:pt x="680" y="521"/>
                </a:cubicBezTo>
                <a:cubicBezTo>
                  <a:pt x="696" y="572"/>
                  <a:pt x="715" y="581"/>
                  <a:pt x="762" y="613"/>
                </a:cubicBezTo>
                <a:cubicBezTo>
                  <a:pt x="771" y="619"/>
                  <a:pt x="790" y="631"/>
                  <a:pt x="790" y="631"/>
                </a:cubicBezTo>
                <a:cubicBezTo>
                  <a:pt x="813" y="666"/>
                  <a:pt x="823" y="672"/>
                  <a:pt x="863" y="659"/>
                </a:cubicBezTo>
                <a:cubicBezTo>
                  <a:pt x="872" y="624"/>
                  <a:pt x="888" y="601"/>
                  <a:pt x="900" y="567"/>
                </a:cubicBezTo>
                <a:cubicBezTo>
                  <a:pt x="905" y="439"/>
                  <a:pt x="902" y="301"/>
                  <a:pt x="927" y="174"/>
                </a:cubicBezTo>
                <a:cubicBezTo>
                  <a:pt x="1007" y="194"/>
                  <a:pt x="1039" y="284"/>
                  <a:pt x="1119" y="311"/>
                </a:cubicBezTo>
                <a:cubicBezTo>
                  <a:pt x="1156" y="349"/>
                  <a:pt x="1197" y="376"/>
                  <a:pt x="1247" y="393"/>
                </a:cubicBezTo>
                <a:cubicBezTo>
                  <a:pt x="1256" y="399"/>
                  <a:pt x="1264" y="407"/>
                  <a:pt x="1274" y="412"/>
                </a:cubicBezTo>
                <a:cubicBezTo>
                  <a:pt x="1283" y="416"/>
                  <a:pt x="1294" y="415"/>
                  <a:pt x="1302" y="421"/>
                </a:cubicBezTo>
                <a:cubicBezTo>
                  <a:pt x="1365" y="471"/>
                  <a:pt x="1273" y="432"/>
                  <a:pt x="1348" y="457"/>
                </a:cubicBezTo>
                <a:cubicBezTo>
                  <a:pt x="1366" y="463"/>
                  <a:pt x="1402" y="476"/>
                  <a:pt x="1402" y="476"/>
                </a:cubicBezTo>
                <a:cubicBezTo>
                  <a:pt x="1454" y="471"/>
                  <a:pt x="1512" y="482"/>
                  <a:pt x="1558" y="457"/>
                </a:cubicBezTo>
                <a:cubicBezTo>
                  <a:pt x="1606" y="431"/>
                  <a:pt x="1648" y="360"/>
                  <a:pt x="1686" y="320"/>
                </a:cubicBezTo>
                <a:cubicBezTo>
                  <a:pt x="1836" y="341"/>
                  <a:pt x="1789" y="339"/>
                  <a:pt x="2024" y="329"/>
                </a:cubicBezTo>
                <a:cubicBezTo>
                  <a:pt x="2047" y="322"/>
                  <a:pt x="2061" y="320"/>
                  <a:pt x="2079" y="302"/>
                </a:cubicBezTo>
                <a:cubicBezTo>
                  <a:pt x="2087" y="294"/>
                  <a:pt x="2087" y="279"/>
                  <a:pt x="2097" y="275"/>
                </a:cubicBezTo>
                <a:cubicBezTo>
                  <a:pt x="2129" y="263"/>
                  <a:pt x="2166" y="268"/>
                  <a:pt x="2198" y="256"/>
                </a:cubicBezTo>
                <a:cubicBezTo>
                  <a:pt x="2213" y="250"/>
                  <a:pt x="2229" y="244"/>
                  <a:pt x="2244" y="238"/>
                </a:cubicBezTo>
                <a:cubicBezTo>
                  <a:pt x="2297" y="184"/>
                  <a:pt x="2271" y="204"/>
                  <a:pt x="2317" y="174"/>
                </a:cubicBezTo>
                <a:cubicBezTo>
                  <a:pt x="2323" y="162"/>
                  <a:pt x="2327" y="148"/>
                  <a:pt x="2335" y="137"/>
                </a:cubicBezTo>
                <a:cubicBezTo>
                  <a:pt x="2352" y="112"/>
                  <a:pt x="2374" y="90"/>
                  <a:pt x="2390" y="64"/>
                </a:cubicBezTo>
                <a:cubicBezTo>
                  <a:pt x="2399" y="49"/>
                  <a:pt x="2403" y="30"/>
                  <a:pt x="2417" y="19"/>
                </a:cubicBezTo>
                <a:cubicBezTo>
                  <a:pt x="2432" y="7"/>
                  <a:pt x="2472" y="0"/>
                  <a:pt x="2472" y="0"/>
                </a:cubicBezTo>
                <a:cubicBezTo>
                  <a:pt x="2481" y="9"/>
                  <a:pt x="2489" y="21"/>
                  <a:pt x="2500" y="28"/>
                </a:cubicBezTo>
                <a:cubicBezTo>
                  <a:pt x="2508" y="33"/>
                  <a:pt x="2520" y="31"/>
                  <a:pt x="2527" y="37"/>
                </a:cubicBezTo>
                <a:cubicBezTo>
                  <a:pt x="2535" y="44"/>
                  <a:pt x="2536" y="58"/>
                  <a:pt x="2545" y="64"/>
                </a:cubicBezTo>
                <a:cubicBezTo>
                  <a:pt x="2567" y="80"/>
                  <a:pt x="2595" y="86"/>
                  <a:pt x="2618" y="101"/>
                </a:cubicBezTo>
                <a:cubicBezTo>
                  <a:pt x="2633" y="140"/>
                  <a:pt x="2669" y="166"/>
                  <a:pt x="2701" y="192"/>
                </a:cubicBezTo>
                <a:cubicBezTo>
                  <a:pt x="2752" y="233"/>
                  <a:pt x="2797" y="281"/>
                  <a:pt x="2856" y="311"/>
                </a:cubicBezTo>
                <a:cubicBezTo>
                  <a:pt x="2875" y="371"/>
                  <a:pt x="2848" y="313"/>
                  <a:pt x="2893" y="348"/>
                </a:cubicBezTo>
                <a:cubicBezTo>
                  <a:pt x="2902" y="355"/>
                  <a:pt x="2903" y="368"/>
                  <a:pt x="2911" y="375"/>
                </a:cubicBezTo>
                <a:cubicBezTo>
                  <a:pt x="2921" y="383"/>
                  <a:pt x="2982" y="393"/>
                  <a:pt x="2984" y="393"/>
                </a:cubicBezTo>
                <a:cubicBezTo>
                  <a:pt x="3061" y="377"/>
                  <a:pt x="3129" y="351"/>
                  <a:pt x="3204" y="339"/>
                </a:cubicBezTo>
                <a:cubicBezTo>
                  <a:pt x="3267" y="317"/>
                  <a:pt x="3331" y="300"/>
                  <a:pt x="3396" y="284"/>
                </a:cubicBezTo>
                <a:cubicBezTo>
                  <a:pt x="3443" y="319"/>
                  <a:pt x="3471" y="331"/>
                  <a:pt x="3514" y="375"/>
                </a:cubicBezTo>
                <a:cubicBezTo>
                  <a:pt x="3527" y="389"/>
                  <a:pt x="3569" y="393"/>
                  <a:pt x="3569" y="393"/>
                </a:cubicBezTo>
                <a:cubicBezTo>
                  <a:pt x="3625" y="436"/>
                  <a:pt x="3685" y="448"/>
                  <a:pt x="3752" y="467"/>
                </a:cubicBezTo>
                <a:cubicBezTo>
                  <a:pt x="3800" y="498"/>
                  <a:pt x="3759" y="476"/>
                  <a:pt x="3825" y="494"/>
                </a:cubicBezTo>
                <a:cubicBezTo>
                  <a:pt x="3844" y="499"/>
                  <a:pt x="3880" y="512"/>
                  <a:pt x="3880" y="512"/>
                </a:cubicBezTo>
                <a:cubicBezTo>
                  <a:pt x="3900" y="526"/>
                  <a:pt x="3924" y="535"/>
                  <a:pt x="3944" y="549"/>
                </a:cubicBezTo>
                <a:cubicBezTo>
                  <a:pt x="4003" y="591"/>
                  <a:pt x="3942" y="566"/>
                  <a:pt x="3999" y="585"/>
                </a:cubicBezTo>
                <a:cubicBezTo>
                  <a:pt x="4008" y="591"/>
                  <a:pt x="4017" y="597"/>
                  <a:pt x="4026" y="604"/>
                </a:cubicBezTo>
                <a:cubicBezTo>
                  <a:pt x="4033" y="609"/>
                  <a:pt x="4036" y="622"/>
                  <a:pt x="4045" y="622"/>
                </a:cubicBezTo>
                <a:cubicBezTo>
                  <a:pt x="4082" y="622"/>
                  <a:pt x="4117" y="602"/>
                  <a:pt x="4154" y="595"/>
                </a:cubicBezTo>
                <a:cubicBezTo>
                  <a:pt x="4210" y="539"/>
                  <a:pt x="4120" y="622"/>
                  <a:pt x="4218" y="567"/>
                </a:cubicBezTo>
                <a:cubicBezTo>
                  <a:pt x="4228" y="562"/>
                  <a:pt x="4228" y="547"/>
                  <a:pt x="4237" y="540"/>
                </a:cubicBezTo>
                <a:cubicBezTo>
                  <a:pt x="4244" y="534"/>
                  <a:pt x="4255" y="534"/>
                  <a:pt x="4264" y="531"/>
                </a:cubicBezTo>
                <a:cubicBezTo>
                  <a:pt x="4321" y="456"/>
                  <a:pt x="4409" y="371"/>
                  <a:pt x="4502" y="348"/>
                </a:cubicBezTo>
                <a:cubicBezTo>
                  <a:pt x="4557" y="289"/>
                  <a:pt x="4627" y="356"/>
                  <a:pt x="4685" y="375"/>
                </a:cubicBezTo>
                <a:cubicBezTo>
                  <a:pt x="4718" y="409"/>
                  <a:pt x="4746" y="411"/>
                  <a:pt x="4785" y="439"/>
                </a:cubicBezTo>
                <a:cubicBezTo>
                  <a:pt x="4865" y="495"/>
                  <a:pt x="4953" y="509"/>
                  <a:pt x="5050" y="521"/>
                </a:cubicBezTo>
                <a:cubicBezTo>
                  <a:pt x="5093" y="518"/>
                  <a:pt x="5136" y="520"/>
                  <a:pt x="5178" y="512"/>
                </a:cubicBezTo>
                <a:cubicBezTo>
                  <a:pt x="5206" y="507"/>
                  <a:pt x="5193" y="464"/>
                  <a:pt x="5242" y="448"/>
                </a:cubicBezTo>
                <a:cubicBezTo>
                  <a:pt x="5304" y="389"/>
                  <a:pt x="5210" y="485"/>
                  <a:pt x="5270" y="393"/>
                </a:cubicBezTo>
                <a:cubicBezTo>
                  <a:pt x="5276" y="384"/>
                  <a:pt x="5289" y="382"/>
                  <a:pt x="5297" y="375"/>
                </a:cubicBezTo>
                <a:cubicBezTo>
                  <a:pt x="5316" y="358"/>
                  <a:pt x="5334" y="338"/>
                  <a:pt x="5352" y="320"/>
                </a:cubicBezTo>
                <a:cubicBezTo>
                  <a:pt x="5438" y="234"/>
                  <a:pt x="5310" y="349"/>
                  <a:pt x="5380" y="265"/>
                </a:cubicBezTo>
                <a:cubicBezTo>
                  <a:pt x="5389" y="255"/>
                  <a:pt x="5430" y="229"/>
                  <a:pt x="5444" y="220"/>
                </a:cubicBezTo>
                <a:cubicBezTo>
                  <a:pt x="5500" y="239"/>
                  <a:pt x="5546" y="262"/>
                  <a:pt x="5590" y="302"/>
                </a:cubicBezTo>
                <a:cubicBezTo>
                  <a:pt x="5621" y="330"/>
                  <a:pt x="5659" y="388"/>
                  <a:pt x="5700" y="403"/>
                </a:cubicBezTo>
                <a:cubicBezTo>
                  <a:pt x="5709" y="412"/>
                  <a:pt x="5714" y="428"/>
                  <a:pt x="5727" y="430"/>
                </a:cubicBezTo>
                <a:cubicBezTo>
                  <a:pt x="5753" y="434"/>
                  <a:pt x="5766" y="406"/>
                  <a:pt x="5782" y="393"/>
                </a:cubicBezTo>
                <a:cubicBezTo>
                  <a:pt x="5806" y="373"/>
                  <a:pt x="5809" y="375"/>
                  <a:pt x="5837" y="366"/>
                </a:cubicBezTo>
                <a:cubicBezTo>
                  <a:pt x="5910" y="374"/>
                  <a:pt x="5939" y="381"/>
                  <a:pt x="6001" y="412"/>
                </a:cubicBezTo>
                <a:lnTo>
                  <a:pt x="6078" y="1881"/>
                </a:lnTo>
                <a:lnTo>
                  <a:pt x="0" y="1972"/>
                </a:lnTo>
                <a:lnTo>
                  <a:pt x="86" y="77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52360" y="2484360"/>
            <a:ext cx="9540720" cy="4689720"/>
          </a:xfrm>
          <a:custGeom>
            <a:avLst/>
            <a:gdLst/>
            <a:ahLst/>
            <a:rect l="l" t="t" r="r" b="b"/>
            <a:pathLst>
              <a:path w="6010" h="2954">
                <a:moveTo>
                  <a:pt x="86" y="629"/>
                </a:moveTo>
                <a:cubicBezTo>
                  <a:pt x="214" y="621"/>
                  <a:pt x="348" y="618"/>
                  <a:pt x="470" y="574"/>
                </a:cubicBezTo>
                <a:cubicBezTo>
                  <a:pt x="476" y="565"/>
                  <a:pt x="479" y="553"/>
                  <a:pt x="488" y="547"/>
                </a:cubicBezTo>
                <a:cubicBezTo>
                  <a:pt x="504" y="537"/>
                  <a:pt x="543" y="529"/>
                  <a:pt x="543" y="529"/>
                </a:cubicBezTo>
                <a:cubicBezTo>
                  <a:pt x="561" y="517"/>
                  <a:pt x="582" y="508"/>
                  <a:pt x="598" y="492"/>
                </a:cubicBezTo>
                <a:cubicBezTo>
                  <a:pt x="607" y="483"/>
                  <a:pt x="615" y="472"/>
                  <a:pt x="625" y="465"/>
                </a:cubicBezTo>
                <a:cubicBezTo>
                  <a:pt x="732" y="388"/>
                  <a:pt x="604" y="495"/>
                  <a:pt x="689" y="428"/>
                </a:cubicBezTo>
                <a:cubicBezTo>
                  <a:pt x="717" y="406"/>
                  <a:pt x="718" y="387"/>
                  <a:pt x="762" y="373"/>
                </a:cubicBezTo>
                <a:cubicBezTo>
                  <a:pt x="803" y="360"/>
                  <a:pt x="781" y="368"/>
                  <a:pt x="826" y="346"/>
                </a:cubicBezTo>
                <a:cubicBezTo>
                  <a:pt x="853" y="306"/>
                  <a:pt x="865" y="314"/>
                  <a:pt x="909" y="300"/>
                </a:cubicBezTo>
                <a:cubicBezTo>
                  <a:pt x="947" y="275"/>
                  <a:pt x="986" y="278"/>
                  <a:pt x="1028" y="264"/>
                </a:cubicBezTo>
                <a:cubicBezTo>
                  <a:pt x="1131" y="229"/>
                  <a:pt x="1021" y="258"/>
                  <a:pt x="1110" y="236"/>
                </a:cubicBezTo>
                <a:cubicBezTo>
                  <a:pt x="1144" y="238"/>
                  <a:pt x="1249" y="235"/>
                  <a:pt x="1293" y="264"/>
                </a:cubicBezTo>
                <a:cubicBezTo>
                  <a:pt x="1343" y="297"/>
                  <a:pt x="1403" y="304"/>
                  <a:pt x="1457" y="328"/>
                </a:cubicBezTo>
                <a:cubicBezTo>
                  <a:pt x="1470" y="334"/>
                  <a:pt x="1504" y="353"/>
                  <a:pt x="1521" y="355"/>
                </a:cubicBezTo>
                <a:cubicBezTo>
                  <a:pt x="1566" y="360"/>
                  <a:pt x="1612" y="361"/>
                  <a:pt x="1658" y="364"/>
                </a:cubicBezTo>
                <a:cubicBezTo>
                  <a:pt x="1716" y="361"/>
                  <a:pt x="1774" y="363"/>
                  <a:pt x="1832" y="355"/>
                </a:cubicBezTo>
                <a:cubicBezTo>
                  <a:pt x="1852" y="352"/>
                  <a:pt x="1864" y="329"/>
                  <a:pt x="1878" y="318"/>
                </a:cubicBezTo>
                <a:cubicBezTo>
                  <a:pt x="1905" y="295"/>
                  <a:pt x="1906" y="300"/>
                  <a:pt x="1942" y="291"/>
                </a:cubicBezTo>
                <a:cubicBezTo>
                  <a:pt x="1989" y="264"/>
                  <a:pt x="2017" y="231"/>
                  <a:pt x="2070" y="218"/>
                </a:cubicBezTo>
                <a:cubicBezTo>
                  <a:pt x="2115" y="188"/>
                  <a:pt x="2112" y="183"/>
                  <a:pt x="2152" y="172"/>
                </a:cubicBezTo>
                <a:cubicBezTo>
                  <a:pt x="2176" y="165"/>
                  <a:pt x="2225" y="154"/>
                  <a:pt x="2225" y="154"/>
                </a:cubicBezTo>
                <a:cubicBezTo>
                  <a:pt x="2282" y="111"/>
                  <a:pt x="2347" y="108"/>
                  <a:pt x="2417" y="99"/>
                </a:cubicBezTo>
                <a:cubicBezTo>
                  <a:pt x="2571" y="0"/>
                  <a:pt x="2738" y="104"/>
                  <a:pt x="2893" y="126"/>
                </a:cubicBezTo>
                <a:cubicBezTo>
                  <a:pt x="2923" y="137"/>
                  <a:pt x="2953" y="146"/>
                  <a:pt x="2984" y="154"/>
                </a:cubicBezTo>
                <a:cubicBezTo>
                  <a:pt x="3020" y="177"/>
                  <a:pt x="3062" y="195"/>
                  <a:pt x="3103" y="209"/>
                </a:cubicBezTo>
                <a:cubicBezTo>
                  <a:pt x="3133" y="239"/>
                  <a:pt x="3172" y="260"/>
                  <a:pt x="3213" y="273"/>
                </a:cubicBezTo>
                <a:cubicBezTo>
                  <a:pt x="3241" y="291"/>
                  <a:pt x="3264" y="318"/>
                  <a:pt x="3295" y="328"/>
                </a:cubicBezTo>
                <a:cubicBezTo>
                  <a:pt x="3342" y="344"/>
                  <a:pt x="3385" y="366"/>
                  <a:pt x="3432" y="382"/>
                </a:cubicBezTo>
                <a:cubicBezTo>
                  <a:pt x="3540" y="419"/>
                  <a:pt x="3659" y="431"/>
                  <a:pt x="3770" y="456"/>
                </a:cubicBezTo>
                <a:cubicBezTo>
                  <a:pt x="3889" y="453"/>
                  <a:pt x="4009" y="461"/>
                  <a:pt x="4127" y="446"/>
                </a:cubicBezTo>
                <a:cubicBezTo>
                  <a:pt x="4162" y="441"/>
                  <a:pt x="4185" y="403"/>
                  <a:pt x="4218" y="392"/>
                </a:cubicBezTo>
                <a:cubicBezTo>
                  <a:pt x="4259" y="365"/>
                  <a:pt x="4300" y="324"/>
                  <a:pt x="4346" y="309"/>
                </a:cubicBezTo>
                <a:cubicBezTo>
                  <a:pt x="4387" y="271"/>
                  <a:pt x="4514" y="273"/>
                  <a:pt x="4566" y="264"/>
                </a:cubicBezTo>
                <a:cubicBezTo>
                  <a:pt x="4624" y="270"/>
                  <a:pt x="4682" y="273"/>
                  <a:pt x="4740" y="282"/>
                </a:cubicBezTo>
                <a:cubicBezTo>
                  <a:pt x="4759" y="285"/>
                  <a:pt x="4776" y="294"/>
                  <a:pt x="4794" y="300"/>
                </a:cubicBezTo>
                <a:cubicBezTo>
                  <a:pt x="4803" y="303"/>
                  <a:pt x="4822" y="309"/>
                  <a:pt x="4822" y="309"/>
                </a:cubicBezTo>
                <a:cubicBezTo>
                  <a:pt x="4850" y="338"/>
                  <a:pt x="4885" y="343"/>
                  <a:pt x="4922" y="355"/>
                </a:cubicBezTo>
                <a:cubicBezTo>
                  <a:pt x="5010" y="384"/>
                  <a:pt x="5097" y="397"/>
                  <a:pt x="5188" y="410"/>
                </a:cubicBezTo>
                <a:cubicBezTo>
                  <a:pt x="5563" y="397"/>
                  <a:pt x="5365" y="436"/>
                  <a:pt x="5544" y="346"/>
                </a:cubicBezTo>
                <a:cubicBezTo>
                  <a:pt x="5583" y="285"/>
                  <a:pt x="5537" y="344"/>
                  <a:pt x="5590" y="309"/>
                </a:cubicBezTo>
                <a:cubicBezTo>
                  <a:pt x="5642" y="275"/>
                  <a:pt x="5666" y="220"/>
                  <a:pt x="5727" y="200"/>
                </a:cubicBezTo>
                <a:cubicBezTo>
                  <a:pt x="5756" y="179"/>
                  <a:pt x="5791" y="168"/>
                  <a:pt x="5818" y="145"/>
                </a:cubicBezTo>
                <a:cubicBezTo>
                  <a:pt x="5864" y="107"/>
                  <a:pt x="5825" y="124"/>
                  <a:pt x="5873" y="108"/>
                </a:cubicBezTo>
                <a:cubicBezTo>
                  <a:pt x="5890" y="92"/>
                  <a:pt x="5897" y="84"/>
                  <a:pt x="5919" y="72"/>
                </a:cubicBezTo>
                <a:cubicBezTo>
                  <a:pt x="5949" y="57"/>
                  <a:pt x="5986" y="59"/>
                  <a:pt x="6010" y="35"/>
                </a:cubicBezTo>
                <a:lnTo>
                  <a:pt x="5987" y="2954"/>
                </a:lnTo>
                <a:lnTo>
                  <a:pt x="0" y="2908"/>
                </a:lnTo>
                <a:lnTo>
                  <a:pt x="86" y="629"/>
                </a:lnTo>
                <a:close/>
              </a:path>
            </a:pathLst>
          </a:custGeom>
          <a:gradFill rotWithShape="0">
            <a:gsLst>
              <a:gs pos="0">
                <a:srgbClr val="e5e5e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189000"/>
            <a:ext cx="1438200" cy="1584360"/>
          </a:xfrm>
          <a:prstGeom prst="ellipse">
            <a:avLst/>
          </a:prstGeom>
          <a:gradFill rotWithShape="0">
            <a:gsLst>
              <a:gs pos="0">
                <a:srgbClr val="ffc489"/>
              </a:gs>
              <a:gs pos="100000">
                <a:srgbClr val="eef7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flipH="1">
            <a:off x="826560" y="3500280"/>
            <a:ext cx="1157400" cy="113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322E-006 C 0.05399 0.02017 0.10816 0.04056 0.14757 0.0438 C 0.18698 0.04705 0.20382 0.00812 0.23611 0.0197 C 0.2684 0.03129 0.30382 0.0832 0.34097 0.11379 C 0.37812 0.14438 0.42274 0.20163 0.45903 0.20348 C 0.49531 0.20533 0.52378 0.13349 0.55903 0.12469 C 0.59427 0.11588 0.63246 0.1226 0.67048 0.1511 C 0.7085 0.17961 0.76736 0.27185 0.7868 0.29548 E">
                                      <p:cBhvr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1450800"/>
            <a:ext cx="9648720" cy="3130560"/>
          </a:xfrm>
          <a:custGeom>
            <a:avLst/>
            <a:gdLst/>
            <a:ahLst/>
            <a:rect l="l" t="t" r="r" b="b"/>
            <a:pathLst>
              <a:path w="6078" h="1972">
                <a:moveTo>
                  <a:pt x="86" y="777"/>
                </a:moveTo>
                <a:cubicBezTo>
                  <a:pt x="144" y="754"/>
                  <a:pt x="185" y="723"/>
                  <a:pt x="232" y="686"/>
                </a:cubicBezTo>
                <a:cubicBezTo>
                  <a:pt x="249" y="672"/>
                  <a:pt x="287" y="649"/>
                  <a:pt x="287" y="649"/>
                </a:cubicBezTo>
                <a:cubicBezTo>
                  <a:pt x="293" y="640"/>
                  <a:pt x="300" y="632"/>
                  <a:pt x="305" y="622"/>
                </a:cubicBezTo>
                <a:cubicBezTo>
                  <a:pt x="309" y="614"/>
                  <a:pt x="309" y="603"/>
                  <a:pt x="314" y="595"/>
                </a:cubicBezTo>
                <a:cubicBezTo>
                  <a:pt x="329" y="570"/>
                  <a:pt x="358" y="542"/>
                  <a:pt x="378" y="521"/>
                </a:cubicBezTo>
                <a:cubicBezTo>
                  <a:pt x="391" y="485"/>
                  <a:pt x="403" y="448"/>
                  <a:pt x="415" y="412"/>
                </a:cubicBezTo>
                <a:cubicBezTo>
                  <a:pt x="418" y="404"/>
                  <a:pt x="428" y="400"/>
                  <a:pt x="433" y="393"/>
                </a:cubicBezTo>
                <a:cubicBezTo>
                  <a:pt x="475" y="331"/>
                  <a:pt x="435" y="382"/>
                  <a:pt x="461" y="329"/>
                </a:cubicBezTo>
                <a:cubicBezTo>
                  <a:pt x="461" y="328"/>
                  <a:pt x="487" y="278"/>
                  <a:pt x="488" y="275"/>
                </a:cubicBezTo>
                <a:cubicBezTo>
                  <a:pt x="493" y="265"/>
                  <a:pt x="506" y="247"/>
                  <a:pt x="506" y="247"/>
                </a:cubicBezTo>
                <a:cubicBezTo>
                  <a:pt x="519" y="247"/>
                  <a:pt x="534" y="240"/>
                  <a:pt x="544" y="248"/>
                </a:cubicBezTo>
                <a:cubicBezTo>
                  <a:pt x="551" y="253"/>
                  <a:pt x="542" y="266"/>
                  <a:pt x="543" y="275"/>
                </a:cubicBezTo>
                <a:cubicBezTo>
                  <a:pt x="548" y="311"/>
                  <a:pt x="552" y="311"/>
                  <a:pt x="570" y="339"/>
                </a:cubicBezTo>
                <a:cubicBezTo>
                  <a:pt x="586" y="397"/>
                  <a:pt x="621" y="501"/>
                  <a:pt x="680" y="521"/>
                </a:cubicBezTo>
                <a:cubicBezTo>
                  <a:pt x="696" y="572"/>
                  <a:pt x="715" y="581"/>
                  <a:pt x="762" y="613"/>
                </a:cubicBezTo>
                <a:cubicBezTo>
                  <a:pt x="771" y="619"/>
                  <a:pt x="790" y="631"/>
                  <a:pt x="790" y="631"/>
                </a:cubicBezTo>
                <a:cubicBezTo>
                  <a:pt x="813" y="666"/>
                  <a:pt x="823" y="672"/>
                  <a:pt x="863" y="659"/>
                </a:cubicBezTo>
                <a:cubicBezTo>
                  <a:pt x="872" y="624"/>
                  <a:pt x="888" y="601"/>
                  <a:pt x="900" y="567"/>
                </a:cubicBezTo>
                <a:cubicBezTo>
                  <a:pt x="905" y="439"/>
                  <a:pt x="902" y="301"/>
                  <a:pt x="927" y="174"/>
                </a:cubicBezTo>
                <a:cubicBezTo>
                  <a:pt x="1007" y="194"/>
                  <a:pt x="1039" y="284"/>
                  <a:pt x="1119" y="311"/>
                </a:cubicBezTo>
                <a:cubicBezTo>
                  <a:pt x="1156" y="349"/>
                  <a:pt x="1197" y="376"/>
                  <a:pt x="1247" y="393"/>
                </a:cubicBezTo>
                <a:cubicBezTo>
                  <a:pt x="1256" y="399"/>
                  <a:pt x="1264" y="407"/>
                  <a:pt x="1274" y="412"/>
                </a:cubicBezTo>
                <a:cubicBezTo>
                  <a:pt x="1283" y="416"/>
                  <a:pt x="1294" y="415"/>
                  <a:pt x="1302" y="421"/>
                </a:cubicBezTo>
                <a:cubicBezTo>
                  <a:pt x="1365" y="471"/>
                  <a:pt x="1273" y="432"/>
                  <a:pt x="1348" y="457"/>
                </a:cubicBezTo>
                <a:cubicBezTo>
                  <a:pt x="1366" y="463"/>
                  <a:pt x="1402" y="476"/>
                  <a:pt x="1402" y="476"/>
                </a:cubicBezTo>
                <a:cubicBezTo>
                  <a:pt x="1454" y="471"/>
                  <a:pt x="1512" y="482"/>
                  <a:pt x="1558" y="457"/>
                </a:cubicBezTo>
                <a:cubicBezTo>
                  <a:pt x="1606" y="431"/>
                  <a:pt x="1648" y="360"/>
                  <a:pt x="1686" y="320"/>
                </a:cubicBezTo>
                <a:cubicBezTo>
                  <a:pt x="1836" y="341"/>
                  <a:pt x="1789" y="339"/>
                  <a:pt x="2024" y="329"/>
                </a:cubicBezTo>
                <a:cubicBezTo>
                  <a:pt x="2047" y="322"/>
                  <a:pt x="2061" y="320"/>
                  <a:pt x="2079" y="302"/>
                </a:cubicBezTo>
                <a:cubicBezTo>
                  <a:pt x="2087" y="294"/>
                  <a:pt x="2087" y="279"/>
                  <a:pt x="2097" y="275"/>
                </a:cubicBezTo>
                <a:cubicBezTo>
                  <a:pt x="2129" y="263"/>
                  <a:pt x="2166" y="268"/>
                  <a:pt x="2198" y="256"/>
                </a:cubicBezTo>
                <a:cubicBezTo>
                  <a:pt x="2213" y="250"/>
                  <a:pt x="2229" y="244"/>
                  <a:pt x="2244" y="238"/>
                </a:cubicBezTo>
                <a:cubicBezTo>
                  <a:pt x="2297" y="184"/>
                  <a:pt x="2271" y="204"/>
                  <a:pt x="2317" y="174"/>
                </a:cubicBezTo>
                <a:cubicBezTo>
                  <a:pt x="2323" y="162"/>
                  <a:pt x="2327" y="148"/>
                  <a:pt x="2335" y="137"/>
                </a:cubicBezTo>
                <a:cubicBezTo>
                  <a:pt x="2352" y="112"/>
                  <a:pt x="2374" y="90"/>
                  <a:pt x="2390" y="64"/>
                </a:cubicBezTo>
                <a:cubicBezTo>
                  <a:pt x="2399" y="49"/>
                  <a:pt x="2403" y="30"/>
                  <a:pt x="2417" y="19"/>
                </a:cubicBezTo>
                <a:cubicBezTo>
                  <a:pt x="2432" y="7"/>
                  <a:pt x="2472" y="0"/>
                  <a:pt x="2472" y="0"/>
                </a:cubicBezTo>
                <a:cubicBezTo>
                  <a:pt x="2481" y="9"/>
                  <a:pt x="2489" y="21"/>
                  <a:pt x="2500" y="28"/>
                </a:cubicBezTo>
                <a:cubicBezTo>
                  <a:pt x="2508" y="33"/>
                  <a:pt x="2520" y="31"/>
                  <a:pt x="2527" y="37"/>
                </a:cubicBezTo>
                <a:cubicBezTo>
                  <a:pt x="2535" y="44"/>
                  <a:pt x="2536" y="58"/>
                  <a:pt x="2545" y="64"/>
                </a:cubicBezTo>
                <a:cubicBezTo>
                  <a:pt x="2567" y="80"/>
                  <a:pt x="2595" y="86"/>
                  <a:pt x="2618" y="101"/>
                </a:cubicBezTo>
                <a:cubicBezTo>
                  <a:pt x="2633" y="140"/>
                  <a:pt x="2669" y="166"/>
                  <a:pt x="2701" y="192"/>
                </a:cubicBezTo>
                <a:cubicBezTo>
                  <a:pt x="2752" y="233"/>
                  <a:pt x="2797" y="281"/>
                  <a:pt x="2856" y="311"/>
                </a:cubicBezTo>
                <a:cubicBezTo>
                  <a:pt x="2875" y="371"/>
                  <a:pt x="2848" y="313"/>
                  <a:pt x="2893" y="348"/>
                </a:cubicBezTo>
                <a:cubicBezTo>
                  <a:pt x="2902" y="355"/>
                  <a:pt x="2903" y="368"/>
                  <a:pt x="2911" y="375"/>
                </a:cubicBezTo>
                <a:cubicBezTo>
                  <a:pt x="2921" y="383"/>
                  <a:pt x="2982" y="393"/>
                  <a:pt x="2984" y="393"/>
                </a:cubicBezTo>
                <a:cubicBezTo>
                  <a:pt x="3061" y="377"/>
                  <a:pt x="3129" y="351"/>
                  <a:pt x="3204" y="339"/>
                </a:cubicBezTo>
                <a:cubicBezTo>
                  <a:pt x="3267" y="317"/>
                  <a:pt x="3331" y="300"/>
                  <a:pt x="3396" y="284"/>
                </a:cubicBezTo>
                <a:cubicBezTo>
                  <a:pt x="3443" y="319"/>
                  <a:pt x="3471" y="331"/>
                  <a:pt x="3514" y="375"/>
                </a:cubicBezTo>
                <a:cubicBezTo>
                  <a:pt x="3527" y="389"/>
                  <a:pt x="3569" y="393"/>
                  <a:pt x="3569" y="393"/>
                </a:cubicBezTo>
                <a:cubicBezTo>
                  <a:pt x="3625" y="436"/>
                  <a:pt x="3685" y="448"/>
                  <a:pt x="3752" y="467"/>
                </a:cubicBezTo>
                <a:cubicBezTo>
                  <a:pt x="3800" y="498"/>
                  <a:pt x="3759" y="476"/>
                  <a:pt x="3825" y="494"/>
                </a:cubicBezTo>
                <a:cubicBezTo>
                  <a:pt x="3844" y="499"/>
                  <a:pt x="3880" y="512"/>
                  <a:pt x="3880" y="512"/>
                </a:cubicBezTo>
                <a:cubicBezTo>
                  <a:pt x="3900" y="526"/>
                  <a:pt x="3924" y="535"/>
                  <a:pt x="3944" y="549"/>
                </a:cubicBezTo>
                <a:cubicBezTo>
                  <a:pt x="4003" y="591"/>
                  <a:pt x="3942" y="566"/>
                  <a:pt x="3999" y="585"/>
                </a:cubicBezTo>
                <a:cubicBezTo>
                  <a:pt x="4008" y="591"/>
                  <a:pt x="4017" y="597"/>
                  <a:pt x="4026" y="604"/>
                </a:cubicBezTo>
                <a:cubicBezTo>
                  <a:pt x="4033" y="609"/>
                  <a:pt x="4036" y="622"/>
                  <a:pt x="4045" y="622"/>
                </a:cubicBezTo>
                <a:cubicBezTo>
                  <a:pt x="4082" y="622"/>
                  <a:pt x="4117" y="602"/>
                  <a:pt x="4154" y="595"/>
                </a:cubicBezTo>
                <a:cubicBezTo>
                  <a:pt x="4210" y="539"/>
                  <a:pt x="4120" y="622"/>
                  <a:pt x="4218" y="567"/>
                </a:cubicBezTo>
                <a:cubicBezTo>
                  <a:pt x="4228" y="562"/>
                  <a:pt x="4228" y="547"/>
                  <a:pt x="4237" y="540"/>
                </a:cubicBezTo>
                <a:cubicBezTo>
                  <a:pt x="4244" y="534"/>
                  <a:pt x="4255" y="534"/>
                  <a:pt x="4264" y="531"/>
                </a:cubicBezTo>
                <a:cubicBezTo>
                  <a:pt x="4321" y="456"/>
                  <a:pt x="4409" y="371"/>
                  <a:pt x="4502" y="348"/>
                </a:cubicBezTo>
                <a:cubicBezTo>
                  <a:pt x="4557" y="289"/>
                  <a:pt x="4627" y="356"/>
                  <a:pt x="4685" y="375"/>
                </a:cubicBezTo>
                <a:cubicBezTo>
                  <a:pt x="4718" y="409"/>
                  <a:pt x="4746" y="411"/>
                  <a:pt x="4785" y="439"/>
                </a:cubicBezTo>
                <a:cubicBezTo>
                  <a:pt x="4865" y="495"/>
                  <a:pt x="4953" y="509"/>
                  <a:pt x="5050" y="521"/>
                </a:cubicBezTo>
                <a:cubicBezTo>
                  <a:pt x="5093" y="518"/>
                  <a:pt x="5136" y="520"/>
                  <a:pt x="5178" y="512"/>
                </a:cubicBezTo>
                <a:cubicBezTo>
                  <a:pt x="5206" y="507"/>
                  <a:pt x="5193" y="464"/>
                  <a:pt x="5242" y="448"/>
                </a:cubicBezTo>
                <a:cubicBezTo>
                  <a:pt x="5304" y="389"/>
                  <a:pt x="5210" y="485"/>
                  <a:pt x="5270" y="393"/>
                </a:cubicBezTo>
                <a:cubicBezTo>
                  <a:pt x="5276" y="384"/>
                  <a:pt x="5289" y="382"/>
                  <a:pt x="5297" y="375"/>
                </a:cubicBezTo>
                <a:cubicBezTo>
                  <a:pt x="5316" y="358"/>
                  <a:pt x="5334" y="338"/>
                  <a:pt x="5352" y="320"/>
                </a:cubicBezTo>
                <a:cubicBezTo>
                  <a:pt x="5438" y="234"/>
                  <a:pt x="5310" y="349"/>
                  <a:pt x="5380" y="265"/>
                </a:cubicBezTo>
                <a:cubicBezTo>
                  <a:pt x="5389" y="255"/>
                  <a:pt x="5430" y="229"/>
                  <a:pt x="5444" y="220"/>
                </a:cubicBezTo>
                <a:cubicBezTo>
                  <a:pt x="5500" y="239"/>
                  <a:pt x="5546" y="262"/>
                  <a:pt x="5590" y="302"/>
                </a:cubicBezTo>
                <a:cubicBezTo>
                  <a:pt x="5621" y="330"/>
                  <a:pt x="5659" y="388"/>
                  <a:pt x="5700" y="403"/>
                </a:cubicBezTo>
                <a:cubicBezTo>
                  <a:pt x="5709" y="412"/>
                  <a:pt x="5714" y="428"/>
                  <a:pt x="5727" y="430"/>
                </a:cubicBezTo>
                <a:cubicBezTo>
                  <a:pt x="5753" y="434"/>
                  <a:pt x="5766" y="406"/>
                  <a:pt x="5782" y="393"/>
                </a:cubicBezTo>
                <a:cubicBezTo>
                  <a:pt x="5806" y="373"/>
                  <a:pt x="5809" y="375"/>
                  <a:pt x="5837" y="366"/>
                </a:cubicBezTo>
                <a:cubicBezTo>
                  <a:pt x="5910" y="374"/>
                  <a:pt x="5939" y="381"/>
                  <a:pt x="6001" y="412"/>
                </a:cubicBezTo>
                <a:lnTo>
                  <a:pt x="6078" y="1881"/>
                </a:lnTo>
                <a:lnTo>
                  <a:pt x="0" y="1972"/>
                </a:lnTo>
                <a:lnTo>
                  <a:pt x="86" y="77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52360" y="2484360"/>
            <a:ext cx="9540720" cy="4689720"/>
          </a:xfrm>
          <a:custGeom>
            <a:avLst/>
            <a:gdLst/>
            <a:ahLst/>
            <a:rect l="l" t="t" r="r" b="b"/>
            <a:pathLst>
              <a:path w="6010" h="2954">
                <a:moveTo>
                  <a:pt x="86" y="629"/>
                </a:moveTo>
                <a:cubicBezTo>
                  <a:pt x="214" y="621"/>
                  <a:pt x="348" y="618"/>
                  <a:pt x="470" y="574"/>
                </a:cubicBezTo>
                <a:cubicBezTo>
                  <a:pt x="476" y="565"/>
                  <a:pt x="479" y="553"/>
                  <a:pt x="488" y="547"/>
                </a:cubicBezTo>
                <a:cubicBezTo>
                  <a:pt x="504" y="537"/>
                  <a:pt x="543" y="529"/>
                  <a:pt x="543" y="529"/>
                </a:cubicBezTo>
                <a:cubicBezTo>
                  <a:pt x="561" y="517"/>
                  <a:pt x="582" y="508"/>
                  <a:pt x="598" y="492"/>
                </a:cubicBezTo>
                <a:cubicBezTo>
                  <a:pt x="607" y="483"/>
                  <a:pt x="615" y="472"/>
                  <a:pt x="625" y="465"/>
                </a:cubicBezTo>
                <a:cubicBezTo>
                  <a:pt x="732" y="388"/>
                  <a:pt x="604" y="495"/>
                  <a:pt x="689" y="428"/>
                </a:cubicBezTo>
                <a:cubicBezTo>
                  <a:pt x="717" y="406"/>
                  <a:pt x="718" y="387"/>
                  <a:pt x="762" y="373"/>
                </a:cubicBezTo>
                <a:cubicBezTo>
                  <a:pt x="803" y="360"/>
                  <a:pt x="781" y="368"/>
                  <a:pt x="826" y="346"/>
                </a:cubicBezTo>
                <a:cubicBezTo>
                  <a:pt x="853" y="306"/>
                  <a:pt x="865" y="314"/>
                  <a:pt x="909" y="300"/>
                </a:cubicBezTo>
                <a:cubicBezTo>
                  <a:pt x="947" y="275"/>
                  <a:pt x="986" y="278"/>
                  <a:pt x="1028" y="264"/>
                </a:cubicBezTo>
                <a:cubicBezTo>
                  <a:pt x="1131" y="229"/>
                  <a:pt x="1021" y="258"/>
                  <a:pt x="1110" y="236"/>
                </a:cubicBezTo>
                <a:cubicBezTo>
                  <a:pt x="1144" y="238"/>
                  <a:pt x="1249" y="235"/>
                  <a:pt x="1293" y="264"/>
                </a:cubicBezTo>
                <a:cubicBezTo>
                  <a:pt x="1343" y="297"/>
                  <a:pt x="1403" y="304"/>
                  <a:pt x="1457" y="328"/>
                </a:cubicBezTo>
                <a:cubicBezTo>
                  <a:pt x="1470" y="334"/>
                  <a:pt x="1504" y="353"/>
                  <a:pt x="1521" y="355"/>
                </a:cubicBezTo>
                <a:cubicBezTo>
                  <a:pt x="1566" y="360"/>
                  <a:pt x="1612" y="361"/>
                  <a:pt x="1658" y="364"/>
                </a:cubicBezTo>
                <a:cubicBezTo>
                  <a:pt x="1716" y="361"/>
                  <a:pt x="1774" y="363"/>
                  <a:pt x="1832" y="355"/>
                </a:cubicBezTo>
                <a:cubicBezTo>
                  <a:pt x="1852" y="352"/>
                  <a:pt x="1864" y="329"/>
                  <a:pt x="1878" y="318"/>
                </a:cubicBezTo>
                <a:cubicBezTo>
                  <a:pt x="1905" y="295"/>
                  <a:pt x="1906" y="300"/>
                  <a:pt x="1942" y="291"/>
                </a:cubicBezTo>
                <a:cubicBezTo>
                  <a:pt x="1989" y="264"/>
                  <a:pt x="2017" y="231"/>
                  <a:pt x="2070" y="218"/>
                </a:cubicBezTo>
                <a:cubicBezTo>
                  <a:pt x="2115" y="188"/>
                  <a:pt x="2112" y="183"/>
                  <a:pt x="2152" y="172"/>
                </a:cubicBezTo>
                <a:cubicBezTo>
                  <a:pt x="2176" y="165"/>
                  <a:pt x="2225" y="154"/>
                  <a:pt x="2225" y="154"/>
                </a:cubicBezTo>
                <a:cubicBezTo>
                  <a:pt x="2282" y="111"/>
                  <a:pt x="2347" y="108"/>
                  <a:pt x="2417" y="99"/>
                </a:cubicBezTo>
                <a:cubicBezTo>
                  <a:pt x="2571" y="0"/>
                  <a:pt x="2738" y="104"/>
                  <a:pt x="2893" y="126"/>
                </a:cubicBezTo>
                <a:cubicBezTo>
                  <a:pt x="2923" y="137"/>
                  <a:pt x="2953" y="146"/>
                  <a:pt x="2984" y="154"/>
                </a:cubicBezTo>
                <a:cubicBezTo>
                  <a:pt x="3020" y="177"/>
                  <a:pt x="3062" y="195"/>
                  <a:pt x="3103" y="209"/>
                </a:cubicBezTo>
                <a:cubicBezTo>
                  <a:pt x="3133" y="239"/>
                  <a:pt x="3172" y="260"/>
                  <a:pt x="3213" y="273"/>
                </a:cubicBezTo>
                <a:cubicBezTo>
                  <a:pt x="3241" y="291"/>
                  <a:pt x="3264" y="318"/>
                  <a:pt x="3295" y="328"/>
                </a:cubicBezTo>
                <a:cubicBezTo>
                  <a:pt x="3342" y="344"/>
                  <a:pt x="3385" y="366"/>
                  <a:pt x="3432" y="382"/>
                </a:cubicBezTo>
                <a:cubicBezTo>
                  <a:pt x="3540" y="419"/>
                  <a:pt x="3659" y="431"/>
                  <a:pt x="3770" y="456"/>
                </a:cubicBezTo>
                <a:cubicBezTo>
                  <a:pt x="3889" y="453"/>
                  <a:pt x="4009" y="461"/>
                  <a:pt x="4127" y="446"/>
                </a:cubicBezTo>
                <a:cubicBezTo>
                  <a:pt x="4162" y="441"/>
                  <a:pt x="4185" y="403"/>
                  <a:pt x="4218" y="392"/>
                </a:cubicBezTo>
                <a:cubicBezTo>
                  <a:pt x="4259" y="365"/>
                  <a:pt x="4300" y="324"/>
                  <a:pt x="4346" y="309"/>
                </a:cubicBezTo>
                <a:cubicBezTo>
                  <a:pt x="4387" y="271"/>
                  <a:pt x="4514" y="273"/>
                  <a:pt x="4566" y="264"/>
                </a:cubicBezTo>
                <a:cubicBezTo>
                  <a:pt x="4624" y="270"/>
                  <a:pt x="4682" y="273"/>
                  <a:pt x="4740" y="282"/>
                </a:cubicBezTo>
                <a:cubicBezTo>
                  <a:pt x="4759" y="285"/>
                  <a:pt x="4776" y="294"/>
                  <a:pt x="4794" y="300"/>
                </a:cubicBezTo>
                <a:cubicBezTo>
                  <a:pt x="4803" y="303"/>
                  <a:pt x="4822" y="309"/>
                  <a:pt x="4822" y="309"/>
                </a:cubicBezTo>
                <a:cubicBezTo>
                  <a:pt x="4850" y="338"/>
                  <a:pt x="4885" y="343"/>
                  <a:pt x="4922" y="355"/>
                </a:cubicBezTo>
                <a:cubicBezTo>
                  <a:pt x="5010" y="384"/>
                  <a:pt x="5097" y="397"/>
                  <a:pt x="5188" y="410"/>
                </a:cubicBezTo>
                <a:cubicBezTo>
                  <a:pt x="5563" y="397"/>
                  <a:pt x="5365" y="436"/>
                  <a:pt x="5544" y="346"/>
                </a:cubicBezTo>
                <a:cubicBezTo>
                  <a:pt x="5583" y="285"/>
                  <a:pt x="5537" y="344"/>
                  <a:pt x="5590" y="309"/>
                </a:cubicBezTo>
                <a:cubicBezTo>
                  <a:pt x="5642" y="275"/>
                  <a:pt x="5666" y="220"/>
                  <a:pt x="5727" y="200"/>
                </a:cubicBezTo>
                <a:cubicBezTo>
                  <a:pt x="5756" y="179"/>
                  <a:pt x="5791" y="168"/>
                  <a:pt x="5818" y="145"/>
                </a:cubicBezTo>
                <a:cubicBezTo>
                  <a:pt x="5864" y="107"/>
                  <a:pt x="5825" y="124"/>
                  <a:pt x="5873" y="108"/>
                </a:cubicBezTo>
                <a:cubicBezTo>
                  <a:pt x="5890" y="92"/>
                  <a:pt x="5897" y="84"/>
                  <a:pt x="5919" y="72"/>
                </a:cubicBezTo>
                <a:cubicBezTo>
                  <a:pt x="5949" y="57"/>
                  <a:pt x="5986" y="59"/>
                  <a:pt x="6010" y="35"/>
                </a:cubicBezTo>
                <a:lnTo>
                  <a:pt x="5987" y="2954"/>
                </a:lnTo>
                <a:lnTo>
                  <a:pt x="0" y="2908"/>
                </a:lnTo>
                <a:lnTo>
                  <a:pt x="86" y="629"/>
                </a:lnTo>
                <a:close/>
              </a:path>
            </a:pathLst>
          </a:custGeom>
          <a:gradFill rotWithShape="0">
            <a:gsLst>
              <a:gs pos="0">
                <a:srgbClr val="e5e5e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189000"/>
            <a:ext cx="1438200" cy="1584360"/>
          </a:xfrm>
          <a:prstGeom prst="ellipse">
            <a:avLst/>
          </a:prstGeom>
          <a:gradFill rotWithShape="0">
            <a:gsLst>
              <a:gs pos="0">
                <a:srgbClr val="ffc489"/>
              </a:gs>
              <a:gs pos="100000">
                <a:srgbClr val="eef7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17269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33333E-006 C 0.06111 -0.01504 0.12222 -0.02986 0.16007 -0.01574 C 0.19792 -0.00162 0.18837 0.04862 0.22674 0.08426 C 0.26511 0.11991 0.33698 0.18426 0.39011 0.19769 C 0.44323 0.21112 0.49636 0.15649 0.54497 0.16436 C 0.59358 0.17223 0.63143 0.23519 0.68177 0.24445 C 0.73212 0.25371 0.81945 0.22477 0.8467 0.21991 E">
                                      <p:cBhvr>
                                        <p:cTn id="3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31:00Z</dcterms:created>
  <dc:creator>Derek P Robertson</dc:creator>
  <dc:description/>
  <dc:language>en-US</dc:language>
  <cp:lastModifiedBy>Derek P Robertson</cp:lastModifiedBy>
  <dcterms:modified xsi:type="dcterms:W3CDTF">2003-03-21T12:38:40Z</dcterms:modified>
  <cp:revision>7</cp:revision>
  <dc:subject/>
  <dc:title>Slide 1</dc:title>
</cp:coreProperties>
</file>