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B71-5083-4ED7-B72F-2ED8F152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342-728A-4579-B915-0AD49791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2F1-33B4-46D2-AD9D-946A5171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D42-1C77-4461-AACE-DF999792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56F-E89E-4C38-A9E3-5265E94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F76-BB25-47CE-955F-C7367EA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4ED-EE9C-47CD-9AD6-627A2EE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C45-E0A6-4C28-9278-2403B36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407-718D-499A-B477-21F9F9B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8F1-C638-4970-9A3E-EB1F5BD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CDF-7EC6-499D-8167-0D8F276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7E4-FDEE-4B3A-A2D7-4544D53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90B4-59D2-4350-815E-CD467416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 Rounded MT Bold"/>
              </a:rPr>
              <a:t>Castle </a:t>
            </a:r>
            <a:r>
              <a:rPr b="0" lang="en-US" sz="4800" spc="-1" strike="noStrike">
                <a:solidFill>
                  <a:srgbClr val="ff9933"/>
                </a:solidFill>
                <a:latin typeface="Arial Rounded MT Bold"/>
              </a:rPr>
              <a:t>Def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atherine Fl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2305080" cy="173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5013360"/>
            <a:ext cx="2448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836720" y="1413000"/>
            <a:ext cx="12434760" cy="7210440"/>
          </a:xfrm>
          <a:custGeom>
            <a:avLst/>
            <a:gdLst/>
            <a:ahLst/>
            <a:rect l="l" t="t" r="r" b="b"/>
            <a:pathLst>
              <a:path w="7833" h="4542">
                <a:moveTo>
                  <a:pt x="412" y="2688"/>
                </a:moveTo>
                <a:cubicBezTo>
                  <a:pt x="764" y="2723"/>
                  <a:pt x="572" y="2709"/>
                  <a:pt x="988" y="2724"/>
                </a:cubicBezTo>
                <a:cubicBezTo>
                  <a:pt x="1121" y="2746"/>
                  <a:pt x="1171" y="2759"/>
                  <a:pt x="1348" y="2724"/>
                </a:cubicBezTo>
                <a:cubicBezTo>
                  <a:pt x="1364" y="2721"/>
                  <a:pt x="1352" y="2690"/>
                  <a:pt x="1360" y="2676"/>
                </a:cubicBezTo>
                <a:cubicBezTo>
                  <a:pt x="1368" y="2661"/>
                  <a:pt x="1381" y="2648"/>
                  <a:pt x="1396" y="2640"/>
                </a:cubicBezTo>
                <a:cubicBezTo>
                  <a:pt x="1653" y="2497"/>
                  <a:pt x="1349" y="2695"/>
                  <a:pt x="1504" y="2592"/>
                </a:cubicBezTo>
                <a:cubicBezTo>
                  <a:pt x="1533" y="2548"/>
                  <a:pt x="1529" y="2549"/>
                  <a:pt x="1576" y="2508"/>
                </a:cubicBezTo>
                <a:cubicBezTo>
                  <a:pt x="1591" y="2495"/>
                  <a:pt x="1611" y="2487"/>
                  <a:pt x="1624" y="2472"/>
                </a:cubicBezTo>
                <a:cubicBezTo>
                  <a:pt x="1685" y="2403"/>
                  <a:pt x="1693" y="2348"/>
                  <a:pt x="1768" y="2292"/>
                </a:cubicBezTo>
                <a:cubicBezTo>
                  <a:pt x="1807" y="2214"/>
                  <a:pt x="1779" y="2257"/>
                  <a:pt x="1864" y="2172"/>
                </a:cubicBezTo>
                <a:cubicBezTo>
                  <a:pt x="1920" y="2116"/>
                  <a:pt x="1966" y="2050"/>
                  <a:pt x="2020" y="1992"/>
                </a:cubicBezTo>
                <a:cubicBezTo>
                  <a:pt x="2194" y="1804"/>
                  <a:pt x="2092" y="1936"/>
                  <a:pt x="2176" y="1824"/>
                </a:cubicBezTo>
                <a:cubicBezTo>
                  <a:pt x="2200" y="1727"/>
                  <a:pt x="2246" y="1658"/>
                  <a:pt x="2284" y="1572"/>
                </a:cubicBezTo>
                <a:cubicBezTo>
                  <a:pt x="2314" y="1504"/>
                  <a:pt x="2316" y="1480"/>
                  <a:pt x="2368" y="1428"/>
                </a:cubicBezTo>
                <a:cubicBezTo>
                  <a:pt x="2396" y="1343"/>
                  <a:pt x="2425" y="1286"/>
                  <a:pt x="2500" y="1236"/>
                </a:cubicBezTo>
                <a:cubicBezTo>
                  <a:pt x="2696" y="1256"/>
                  <a:pt x="2891" y="1274"/>
                  <a:pt x="3088" y="1284"/>
                </a:cubicBezTo>
                <a:cubicBezTo>
                  <a:pt x="4155" y="1271"/>
                  <a:pt x="3783" y="1350"/>
                  <a:pt x="4192" y="1248"/>
                </a:cubicBezTo>
                <a:cubicBezTo>
                  <a:pt x="4277" y="1185"/>
                  <a:pt x="4378" y="1142"/>
                  <a:pt x="4480" y="1116"/>
                </a:cubicBezTo>
                <a:cubicBezTo>
                  <a:pt x="4526" y="1085"/>
                  <a:pt x="4573" y="1085"/>
                  <a:pt x="4624" y="1068"/>
                </a:cubicBezTo>
                <a:cubicBezTo>
                  <a:pt x="4748" y="1086"/>
                  <a:pt x="4688" y="1068"/>
                  <a:pt x="4744" y="1152"/>
                </a:cubicBezTo>
                <a:cubicBezTo>
                  <a:pt x="4748" y="1176"/>
                  <a:pt x="4744" y="1203"/>
                  <a:pt x="4756" y="1224"/>
                </a:cubicBezTo>
                <a:cubicBezTo>
                  <a:pt x="4773" y="1253"/>
                  <a:pt x="4813" y="1266"/>
                  <a:pt x="4828" y="1296"/>
                </a:cubicBezTo>
                <a:cubicBezTo>
                  <a:pt x="4861" y="1362"/>
                  <a:pt x="4838" y="1333"/>
                  <a:pt x="4900" y="1380"/>
                </a:cubicBezTo>
                <a:cubicBezTo>
                  <a:pt x="4932" y="1493"/>
                  <a:pt x="4933" y="1499"/>
                  <a:pt x="5044" y="1536"/>
                </a:cubicBezTo>
                <a:cubicBezTo>
                  <a:pt x="5083" y="1615"/>
                  <a:pt x="5062" y="1549"/>
                  <a:pt x="5104" y="1632"/>
                </a:cubicBezTo>
                <a:cubicBezTo>
                  <a:pt x="5143" y="1709"/>
                  <a:pt x="5112" y="1713"/>
                  <a:pt x="5188" y="1764"/>
                </a:cubicBezTo>
                <a:cubicBezTo>
                  <a:pt x="5268" y="1760"/>
                  <a:pt x="5350" y="1770"/>
                  <a:pt x="5428" y="1752"/>
                </a:cubicBezTo>
                <a:cubicBezTo>
                  <a:pt x="5445" y="1748"/>
                  <a:pt x="5443" y="1719"/>
                  <a:pt x="5452" y="1704"/>
                </a:cubicBezTo>
                <a:cubicBezTo>
                  <a:pt x="5467" y="1679"/>
                  <a:pt x="5500" y="1632"/>
                  <a:pt x="5500" y="1632"/>
                </a:cubicBezTo>
                <a:cubicBezTo>
                  <a:pt x="5527" y="1443"/>
                  <a:pt x="5560" y="1249"/>
                  <a:pt x="5620" y="1068"/>
                </a:cubicBezTo>
                <a:cubicBezTo>
                  <a:pt x="5624" y="1100"/>
                  <a:pt x="5600" y="1164"/>
                  <a:pt x="5632" y="1164"/>
                </a:cubicBezTo>
                <a:cubicBezTo>
                  <a:pt x="5645" y="1164"/>
                  <a:pt x="5744" y="1064"/>
                  <a:pt x="5776" y="1032"/>
                </a:cubicBezTo>
                <a:cubicBezTo>
                  <a:pt x="5885" y="1059"/>
                  <a:pt x="5878" y="1055"/>
                  <a:pt x="6028" y="1044"/>
                </a:cubicBezTo>
                <a:cubicBezTo>
                  <a:pt x="6052" y="1036"/>
                  <a:pt x="6085" y="1040"/>
                  <a:pt x="6100" y="1020"/>
                </a:cubicBezTo>
                <a:cubicBezTo>
                  <a:pt x="6158" y="942"/>
                  <a:pt x="6130" y="817"/>
                  <a:pt x="6172" y="732"/>
                </a:cubicBezTo>
                <a:cubicBezTo>
                  <a:pt x="6198" y="680"/>
                  <a:pt x="6242" y="640"/>
                  <a:pt x="6268" y="588"/>
                </a:cubicBezTo>
                <a:cubicBezTo>
                  <a:pt x="6277" y="511"/>
                  <a:pt x="6277" y="407"/>
                  <a:pt x="6316" y="336"/>
                </a:cubicBezTo>
                <a:cubicBezTo>
                  <a:pt x="6341" y="290"/>
                  <a:pt x="6406" y="277"/>
                  <a:pt x="6448" y="264"/>
                </a:cubicBezTo>
                <a:cubicBezTo>
                  <a:pt x="6557" y="230"/>
                  <a:pt x="6671" y="225"/>
                  <a:pt x="6784" y="216"/>
                </a:cubicBezTo>
                <a:cubicBezTo>
                  <a:pt x="6792" y="204"/>
                  <a:pt x="6803" y="194"/>
                  <a:pt x="6808" y="180"/>
                </a:cubicBezTo>
                <a:cubicBezTo>
                  <a:pt x="6824" y="133"/>
                  <a:pt x="6817" y="77"/>
                  <a:pt x="6844" y="36"/>
                </a:cubicBezTo>
                <a:cubicBezTo>
                  <a:pt x="6852" y="24"/>
                  <a:pt x="6868" y="0"/>
                  <a:pt x="6868" y="0"/>
                </a:cubicBezTo>
                <a:cubicBezTo>
                  <a:pt x="7750" y="2329"/>
                  <a:pt x="7653" y="1598"/>
                  <a:pt x="7804" y="2808"/>
                </a:cubicBezTo>
                <a:cubicBezTo>
                  <a:pt x="7823" y="3220"/>
                  <a:pt x="7833" y="3541"/>
                  <a:pt x="7816" y="3984"/>
                </a:cubicBezTo>
                <a:cubicBezTo>
                  <a:pt x="7812" y="4089"/>
                  <a:pt x="7789" y="4124"/>
                  <a:pt x="7720" y="4200"/>
                </a:cubicBezTo>
                <a:cubicBezTo>
                  <a:pt x="7659" y="4267"/>
                  <a:pt x="7528" y="4392"/>
                  <a:pt x="7528" y="4392"/>
                </a:cubicBezTo>
                <a:cubicBezTo>
                  <a:pt x="7518" y="4454"/>
                  <a:pt x="7537" y="4476"/>
                  <a:pt x="7468" y="4476"/>
                </a:cubicBezTo>
                <a:cubicBezTo>
                  <a:pt x="7104" y="4476"/>
                  <a:pt x="6740" y="4468"/>
                  <a:pt x="6376" y="4464"/>
                </a:cubicBezTo>
                <a:cubicBezTo>
                  <a:pt x="5756" y="4430"/>
                  <a:pt x="5135" y="4468"/>
                  <a:pt x="4516" y="4416"/>
                </a:cubicBezTo>
                <a:cubicBezTo>
                  <a:pt x="3508" y="4439"/>
                  <a:pt x="2501" y="4492"/>
                  <a:pt x="1492" y="4512"/>
                </a:cubicBezTo>
                <a:cubicBezTo>
                  <a:pt x="1195" y="4542"/>
                  <a:pt x="899" y="4513"/>
                  <a:pt x="604" y="4476"/>
                </a:cubicBezTo>
                <a:cubicBezTo>
                  <a:pt x="419" y="4414"/>
                  <a:pt x="244" y="4361"/>
                  <a:pt x="76" y="4260"/>
                </a:cubicBezTo>
                <a:cubicBezTo>
                  <a:pt x="0" y="3956"/>
                  <a:pt x="49" y="3632"/>
                  <a:pt x="88" y="3324"/>
                </a:cubicBezTo>
                <a:cubicBezTo>
                  <a:pt x="100" y="3228"/>
                  <a:pt x="111" y="3132"/>
                  <a:pt x="124" y="3036"/>
                </a:cubicBezTo>
                <a:cubicBezTo>
                  <a:pt x="131" y="2988"/>
                  <a:pt x="148" y="2892"/>
                  <a:pt x="148" y="2892"/>
                </a:cubicBezTo>
                <a:cubicBezTo>
                  <a:pt x="152" y="2820"/>
                  <a:pt x="152" y="2748"/>
                  <a:pt x="160" y="2676"/>
                </a:cubicBezTo>
                <a:cubicBezTo>
                  <a:pt x="164" y="2643"/>
                  <a:pt x="163" y="2605"/>
                  <a:pt x="184" y="2580"/>
                </a:cubicBezTo>
                <a:cubicBezTo>
                  <a:pt x="222" y="2534"/>
                  <a:pt x="299" y="2529"/>
                  <a:pt x="352" y="2520"/>
                </a:cubicBezTo>
                <a:cubicBezTo>
                  <a:pt x="363" y="2586"/>
                  <a:pt x="349" y="2619"/>
                  <a:pt x="412" y="2640"/>
                </a:cubicBezTo>
                <a:cubicBezTo>
                  <a:pt x="426" y="2681"/>
                  <a:pt x="433" y="2667"/>
                  <a:pt x="412" y="2688"/>
                </a:cubicBez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79640" y="549360"/>
            <a:ext cx="3887640" cy="292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774720" cy="54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8000" y="6308640"/>
            <a:ext cx="863640" cy="150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51280" y="522936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stles were built on hills to make it more difficult for enemies to reac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164360" y="1916280"/>
            <a:ext cx="1236600" cy="150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317080" y="1893960"/>
            <a:ext cx="1236600" cy="150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631280" y="1303200"/>
            <a:ext cx="1236600" cy="1508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7907400" y="2781360"/>
            <a:ext cx="12366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84360" y="270828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286080" y="50796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093080" y="40464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940360" y="292428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-36360" y="4221000"/>
            <a:ext cx="10094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39 -0.00741 C 0.04809 -0.01018 0.04826 -0.01319 0.04948 -0.01574 C 0.05312 -0.02361 0.05937 -0.0294 0.06198 -0.03796 C 0.06962 -0.06319 0.06024 -0.09097 0.07864 -0.10741 C 0.08732 -0.08426 0.08854 -0.0713 0.09114 -0.0463 C 0.09201 -0.03889 0.09236 -0.03148 0.09323 -0.02407 C 0.09375 -0.01852 0.09201 -0.01088 0.09531 -0.00741 C 0.10225 -0.00023 0.11198 -7.40741000000017E-007 0.12031 0.0037 C 0.1309 0.00833 0.15364 0.00926 0.15364 0.00926 C 0.16389 0.00764 0.17934 0.00741 0.18698 -0.00463 C 0.19132 -0.01134 0.19323 -0.02963 0.19323 -0.02963 C 0.19253 -0.04815 0.19878 -0.06968 0.19114 -0.08518 C 0.18611 -0.09514 0.16944 -0.07824 0.16406 -0.08796 C 0.15191 -0.10949 0.16094 -0.12755 0.17239 -0.13518 C 0.18923 -0.1463 0.20989 -0.13958 0.22864 -0.14074 C 0.2335 -0.15046 0.23507 -0.15208 0.23698 -0.16574 C 0.23906 -0.18032 0.24114 -0.21018 0.24114 -0.21018 C 0.24045 -0.21667 0.24097 -0.22361 0.23906 -0.22963 C 0.23802 -0.23333 0.23576 -0.23866 0.23281 -0.23796 C 0.22969 -0.23704 0.23003 -0.23055 0.22864 -0.22685 C 0.22795 -0.23055 0.22743 -0.23426 0.22656 -0.23796 C 0.22604 -0.24074 0.22673 -0.24676 0.22448 -0.2463 C 0.21944 -0.24537 0.21684 -0.2368 0.21198 -0.23518 C 0.2092 -0.23426 0.20642 -0.23333 0.20364 -0.23241 C 0.20243 -0.24768 0.1993 -0.27268 0.20364 -0.28796 C 0.2059 -0.2956 0.22083 -0.30023 0.22448 -0.30185 C 0.22656 -0.30278 0.23073 -0.30463 0.23073 -0.30463 C 0.23229 -0.30787 0.24045 -0.33171 0.24114 -0.33241 C 0.246 -0.33634 0.25225 -0.33611 0.25781 -0.33796 C 0.26337 -0.33704 0.26944 -0.33819 0.27448 -0.33518 C 0.28194 -0.33079 0.28038 -0.3206 0.28281 -0.31296 C 0.28385 -0.30995 0.28594 -0.30764 0.28698 -0.30463 C 0.28871 -0.2993 0.28975 -0.29352 0.29114 -0.28796 C 0.29184 -0.28518 0.29323 -0.27963 0.29323 -0.27963 C 0.29392 -0.26018 0.29253 -0.24028 0.29531 -0.2213 C 0.29566 -0.21852 0.29965 -0.22268 0.30156 -0.22407 C 0.33941 -0.25301 0.28264 -0.21412 0.31823 -0.23796 C 0.321 -0.24352 0.32378 -0.24907 0.32656 -0.25463 C 0.33073 -0.26273 0.34323 -0.26574 0.34948 -0.27407 E">
                                      <p:cBhvr>
                                        <p:cTn id="21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C 0.00069 0.01945 -0.00226 0.03982 0.00208 0.05834 C 0.0033 0.06366 0.01041 0.06065 0.01458 0.06112 C 0.02569 0.0625 0.0368 0.06297 0.04791 0.06389 C 0.05555 0.06204 0.06475 0.06459 0.07083 0.05834 C 0.07534 0.05371 0.07343 0.04352 0.075 0.03612 C 0.07795 0.02223 0.08333 -0.01527 0.09166 -0.02222 C 0.10156 -0.03055 0.13316 -0.03888 0.14583 -0.04166 C 0.16041 -0.05463 0.15659 -0.06203 0.15833 -0.08888 C 0.15764 -0.1074 0.1585 -0.12615 0.15625 -0.14444 C 0.15468 -0.15763 0.13576 -0.17106 0.13125 -0.18888 C 0.13333 -0.23194 0.12604 -0.23564 0.15208 -0.24722 C 0.15902 -0.25648 0.1585 -0.25879 0.1625 -0.26944 E">
                                      <p:cBhvr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692280" y="3738600"/>
            <a:ext cx="10711080" cy="4300560"/>
          </a:xfrm>
          <a:custGeom>
            <a:avLst/>
            <a:gdLst/>
            <a:ahLst/>
            <a:rect l="l" t="t" r="r" b="b"/>
            <a:pathLst>
              <a:path w="6747" h="2709">
                <a:moveTo>
                  <a:pt x="436" y="237"/>
                </a:moveTo>
                <a:cubicBezTo>
                  <a:pt x="532" y="245"/>
                  <a:pt x="628" y="250"/>
                  <a:pt x="724" y="261"/>
                </a:cubicBezTo>
                <a:cubicBezTo>
                  <a:pt x="737" y="262"/>
                  <a:pt x="753" y="263"/>
                  <a:pt x="760" y="273"/>
                </a:cubicBezTo>
                <a:cubicBezTo>
                  <a:pt x="907" y="479"/>
                  <a:pt x="687" y="248"/>
                  <a:pt x="820" y="381"/>
                </a:cubicBezTo>
                <a:cubicBezTo>
                  <a:pt x="824" y="405"/>
                  <a:pt x="820" y="432"/>
                  <a:pt x="832" y="453"/>
                </a:cubicBezTo>
                <a:cubicBezTo>
                  <a:pt x="838" y="464"/>
                  <a:pt x="924" y="473"/>
                  <a:pt x="940" y="477"/>
                </a:cubicBezTo>
                <a:cubicBezTo>
                  <a:pt x="999" y="492"/>
                  <a:pt x="1010" y="500"/>
                  <a:pt x="1060" y="525"/>
                </a:cubicBezTo>
                <a:cubicBezTo>
                  <a:pt x="1092" y="521"/>
                  <a:pt x="1125" y="521"/>
                  <a:pt x="1156" y="513"/>
                </a:cubicBezTo>
                <a:cubicBezTo>
                  <a:pt x="1182" y="506"/>
                  <a:pt x="1203" y="485"/>
                  <a:pt x="1228" y="477"/>
                </a:cubicBezTo>
                <a:cubicBezTo>
                  <a:pt x="1272" y="486"/>
                  <a:pt x="1319" y="493"/>
                  <a:pt x="1360" y="513"/>
                </a:cubicBezTo>
                <a:cubicBezTo>
                  <a:pt x="1378" y="522"/>
                  <a:pt x="1389" y="543"/>
                  <a:pt x="1408" y="549"/>
                </a:cubicBezTo>
                <a:cubicBezTo>
                  <a:pt x="1470" y="568"/>
                  <a:pt x="1537" y="569"/>
                  <a:pt x="1600" y="585"/>
                </a:cubicBezTo>
                <a:cubicBezTo>
                  <a:pt x="1672" y="581"/>
                  <a:pt x="1745" y="584"/>
                  <a:pt x="1816" y="573"/>
                </a:cubicBezTo>
                <a:cubicBezTo>
                  <a:pt x="1854" y="567"/>
                  <a:pt x="1924" y="537"/>
                  <a:pt x="1924" y="537"/>
                </a:cubicBezTo>
                <a:cubicBezTo>
                  <a:pt x="1992" y="545"/>
                  <a:pt x="2062" y="542"/>
                  <a:pt x="2128" y="561"/>
                </a:cubicBezTo>
                <a:cubicBezTo>
                  <a:pt x="2674" y="717"/>
                  <a:pt x="2044" y="619"/>
                  <a:pt x="2536" y="681"/>
                </a:cubicBezTo>
                <a:cubicBezTo>
                  <a:pt x="2625" y="711"/>
                  <a:pt x="2703" y="710"/>
                  <a:pt x="2800" y="717"/>
                </a:cubicBezTo>
                <a:cubicBezTo>
                  <a:pt x="2896" y="749"/>
                  <a:pt x="2988" y="795"/>
                  <a:pt x="3088" y="813"/>
                </a:cubicBezTo>
                <a:cubicBezTo>
                  <a:pt x="3217" y="836"/>
                  <a:pt x="3334" y="770"/>
                  <a:pt x="3460" y="765"/>
                </a:cubicBezTo>
                <a:cubicBezTo>
                  <a:pt x="3616" y="758"/>
                  <a:pt x="3772" y="757"/>
                  <a:pt x="3928" y="753"/>
                </a:cubicBezTo>
                <a:cubicBezTo>
                  <a:pt x="4034" y="735"/>
                  <a:pt x="4134" y="695"/>
                  <a:pt x="4240" y="681"/>
                </a:cubicBezTo>
                <a:cubicBezTo>
                  <a:pt x="4440" y="654"/>
                  <a:pt x="4641" y="642"/>
                  <a:pt x="4840" y="609"/>
                </a:cubicBezTo>
                <a:cubicBezTo>
                  <a:pt x="4874" y="584"/>
                  <a:pt x="4895" y="576"/>
                  <a:pt x="4912" y="537"/>
                </a:cubicBezTo>
                <a:cubicBezTo>
                  <a:pt x="4928" y="501"/>
                  <a:pt x="4913" y="472"/>
                  <a:pt x="4960" y="453"/>
                </a:cubicBezTo>
                <a:cubicBezTo>
                  <a:pt x="5040" y="421"/>
                  <a:pt x="5117" y="415"/>
                  <a:pt x="5200" y="405"/>
                </a:cubicBezTo>
                <a:cubicBezTo>
                  <a:pt x="5307" y="351"/>
                  <a:pt x="5262" y="368"/>
                  <a:pt x="5332" y="345"/>
                </a:cubicBezTo>
                <a:cubicBezTo>
                  <a:pt x="5348" y="333"/>
                  <a:pt x="5363" y="319"/>
                  <a:pt x="5380" y="309"/>
                </a:cubicBezTo>
                <a:cubicBezTo>
                  <a:pt x="5391" y="303"/>
                  <a:pt x="5405" y="304"/>
                  <a:pt x="5416" y="297"/>
                </a:cubicBezTo>
                <a:cubicBezTo>
                  <a:pt x="5430" y="288"/>
                  <a:pt x="5436" y="266"/>
                  <a:pt x="5452" y="261"/>
                </a:cubicBezTo>
                <a:cubicBezTo>
                  <a:pt x="5520" y="238"/>
                  <a:pt x="5619" y="239"/>
                  <a:pt x="5692" y="225"/>
                </a:cubicBezTo>
                <a:cubicBezTo>
                  <a:pt x="5833" y="198"/>
                  <a:pt x="5969" y="157"/>
                  <a:pt x="6112" y="141"/>
                </a:cubicBezTo>
                <a:cubicBezTo>
                  <a:pt x="6136" y="133"/>
                  <a:pt x="6160" y="125"/>
                  <a:pt x="6184" y="117"/>
                </a:cubicBezTo>
                <a:cubicBezTo>
                  <a:pt x="6196" y="113"/>
                  <a:pt x="6220" y="105"/>
                  <a:pt x="6220" y="105"/>
                </a:cubicBezTo>
                <a:cubicBezTo>
                  <a:pt x="6276" y="109"/>
                  <a:pt x="6333" y="107"/>
                  <a:pt x="6388" y="117"/>
                </a:cubicBezTo>
                <a:cubicBezTo>
                  <a:pt x="6458" y="129"/>
                  <a:pt x="6458" y="314"/>
                  <a:pt x="6484" y="369"/>
                </a:cubicBezTo>
                <a:cubicBezTo>
                  <a:pt x="6530" y="467"/>
                  <a:pt x="6596" y="512"/>
                  <a:pt x="6652" y="597"/>
                </a:cubicBezTo>
                <a:cubicBezTo>
                  <a:pt x="6656" y="621"/>
                  <a:pt x="6655" y="646"/>
                  <a:pt x="6664" y="669"/>
                </a:cubicBezTo>
                <a:cubicBezTo>
                  <a:pt x="6671" y="688"/>
                  <a:pt x="6695" y="698"/>
                  <a:pt x="6700" y="717"/>
                </a:cubicBezTo>
                <a:cubicBezTo>
                  <a:pt x="6716" y="780"/>
                  <a:pt x="6724" y="909"/>
                  <a:pt x="6724" y="909"/>
                </a:cubicBezTo>
                <a:cubicBezTo>
                  <a:pt x="6720" y="1345"/>
                  <a:pt x="6747" y="1782"/>
                  <a:pt x="6712" y="2217"/>
                </a:cubicBezTo>
                <a:cubicBezTo>
                  <a:pt x="6709" y="2250"/>
                  <a:pt x="6647" y="2229"/>
                  <a:pt x="6616" y="2241"/>
                </a:cubicBezTo>
                <a:cubicBezTo>
                  <a:pt x="6542" y="2269"/>
                  <a:pt x="6470" y="2302"/>
                  <a:pt x="6400" y="2337"/>
                </a:cubicBezTo>
                <a:cubicBezTo>
                  <a:pt x="5962" y="2556"/>
                  <a:pt x="6516" y="2424"/>
                  <a:pt x="5500" y="2457"/>
                </a:cubicBezTo>
                <a:cubicBezTo>
                  <a:pt x="5420" y="2465"/>
                  <a:pt x="5337" y="2457"/>
                  <a:pt x="5260" y="2481"/>
                </a:cubicBezTo>
                <a:cubicBezTo>
                  <a:pt x="5102" y="2530"/>
                  <a:pt x="4969" y="2667"/>
                  <a:pt x="4804" y="2673"/>
                </a:cubicBezTo>
                <a:cubicBezTo>
                  <a:pt x="4464" y="2685"/>
                  <a:pt x="4124" y="2698"/>
                  <a:pt x="3784" y="2709"/>
                </a:cubicBezTo>
                <a:cubicBezTo>
                  <a:pt x="3290" y="2694"/>
                  <a:pt x="2800" y="2672"/>
                  <a:pt x="2308" y="2637"/>
                </a:cubicBezTo>
                <a:cubicBezTo>
                  <a:pt x="2197" y="2609"/>
                  <a:pt x="2081" y="2611"/>
                  <a:pt x="1972" y="2577"/>
                </a:cubicBezTo>
                <a:cubicBezTo>
                  <a:pt x="1907" y="2557"/>
                  <a:pt x="1847" y="2518"/>
                  <a:pt x="1780" y="2505"/>
                </a:cubicBezTo>
                <a:cubicBezTo>
                  <a:pt x="1686" y="2486"/>
                  <a:pt x="1588" y="2492"/>
                  <a:pt x="1492" y="2481"/>
                </a:cubicBezTo>
                <a:cubicBezTo>
                  <a:pt x="1364" y="2467"/>
                  <a:pt x="1236" y="2449"/>
                  <a:pt x="1108" y="2433"/>
                </a:cubicBezTo>
                <a:cubicBezTo>
                  <a:pt x="1002" y="2398"/>
                  <a:pt x="902" y="2347"/>
                  <a:pt x="796" y="2313"/>
                </a:cubicBezTo>
                <a:cubicBezTo>
                  <a:pt x="678" y="2275"/>
                  <a:pt x="555" y="2253"/>
                  <a:pt x="436" y="2217"/>
                </a:cubicBezTo>
                <a:cubicBezTo>
                  <a:pt x="315" y="2181"/>
                  <a:pt x="76" y="2097"/>
                  <a:pt x="76" y="2097"/>
                </a:cubicBezTo>
                <a:cubicBezTo>
                  <a:pt x="17" y="1949"/>
                  <a:pt x="14" y="1852"/>
                  <a:pt x="4" y="1689"/>
                </a:cubicBezTo>
                <a:cubicBezTo>
                  <a:pt x="8" y="1337"/>
                  <a:pt x="9" y="985"/>
                  <a:pt x="16" y="633"/>
                </a:cubicBezTo>
                <a:cubicBezTo>
                  <a:pt x="19" y="485"/>
                  <a:pt x="0" y="163"/>
                  <a:pt x="148" y="57"/>
                </a:cubicBezTo>
                <a:cubicBezTo>
                  <a:pt x="175" y="38"/>
                  <a:pt x="212" y="41"/>
                  <a:pt x="244" y="33"/>
                </a:cubicBezTo>
                <a:cubicBezTo>
                  <a:pt x="256" y="25"/>
                  <a:pt x="269" y="0"/>
                  <a:pt x="280" y="9"/>
                </a:cubicBezTo>
                <a:cubicBezTo>
                  <a:pt x="308" y="31"/>
                  <a:pt x="369" y="146"/>
                  <a:pt x="412" y="189"/>
                </a:cubicBezTo>
                <a:cubicBezTo>
                  <a:pt x="413" y="194"/>
                  <a:pt x="427" y="273"/>
                  <a:pt x="448" y="273"/>
                </a:cubicBezTo>
                <a:cubicBezTo>
                  <a:pt x="461" y="273"/>
                  <a:pt x="464" y="249"/>
                  <a:pt x="460" y="237"/>
                </a:cubicBezTo>
                <a:cubicBezTo>
                  <a:pt x="457" y="229"/>
                  <a:pt x="444" y="237"/>
                  <a:pt x="436" y="237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3888000" cy="292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4292640"/>
            <a:ext cx="6566040" cy="2292480"/>
          </a:xfrm>
          <a:custGeom>
            <a:avLst/>
            <a:gdLst/>
            <a:ahLst/>
            <a:rect l="l" t="t" r="r" b="b"/>
            <a:pathLst>
              <a:path w="4136" h="1444">
                <a:moveTo>
                  <a:pt x="530" y="184"/>
                </a:moveTo>
                <a:cubicBezTo>
                  <a:pt x="426" y="460"/>
                  <a:pt x="590" y="55"/>
                  <a:pt x="398" y="400"/>
                </a:cubicBezTo>
                <a:cubicBezTo>
                  <a:pt x="357" y="473"/>
                  <a:pt x="389" y="542"/>
                  <a:pt x="314" y="592"/>
                </a:cubicBezTo>
                <a:cubicBezTo>
                  <a:pt x="322" y="628"/>
                  <a:pt x="323" y="667"/>
                  <a:pt x="338" y="700"/>
                </a:cubicBezTo>
                <a:cubicBezTo>
                  <a:pt x="390" y="813"/>
                  <a:pt x="611" y="781"/>
                  <a:pt x="674" y="784"/>
                </a:cubicBezTo>
                <a:cubicBezTo>
                  <a:pt x="841" y="773"/>
                  <a:pt x="975" y="762"/>
                  <a:pt x="1142" y="772"/>
                </a:cubicBezTo>
                <a:cubicBezTo>
                  <a:pt x="1250" y="808"/>
                  <a:pt x="1365" y="813"/>
                  <a:pt x="1478" y="832"/>
                </a:cubicBezTo>
                <a:cubicBezTo>
                  <a:pt x="1570" y="824"/>
                  <a:pt x="1653" y="818"/>
                  <a:pt x="1742" y="796"/>
                </a:cubicBezTo>
                <a:cubicBezTo>
                  <a:pt x="1947" y="955"/>
                  <a:pt x="2063" y="972"/>
                  <a:pt x="2306" y="1012"/>
                </a:cubicBezTo>
                <a:cubicBezTo>
                  <a:pt x="2560" y="961"/>
                  <a:pt x="2803" y="891"/>
                  <a:pt x="3062" y="868"/>
                </a:cubicBezTo>
                <a:cubicBezTo>
                  <a:pt x="3154" y="860"/>
                  <a:pt x="3338" y="844"/>
                  <a:pt x="3338" y="844"/>
                </a:cubicBezTo>
                <a:cubicBezTo>
                  <a:pt x="3354" y="820"/>
                  <a:pt x="3381" y="800"/>
                  <a:pt x="3386" y="772"/>
                </a:cubicBezTo>
                <a:cubicBezTo>
                  <a:pt x="3399" y="696"/>
                  <a:pt x="3415" y="644"/>
                  <a:pt x="3458" y="580"/>
                </a:cubicBezTo>
                <a:cubicBezTo>
                  <a:pt x="3484" y="474"/>
                  <a:pt x="3520" y="371"/>
                  <a:pt x="3554" y="268"/>
                </a:cubicBezTo>
                <a:cubicBezTo>
                  <a:pt x="3559" y="254"/>
                  <a:pt x="3719" y="234"/>
                  <a:pt x="3734" y="232"/>
                </a:cubicBezTo>
                <a:cubicBezTo>
                  <a:pt x="3738" y="220"/>
                  <a:pt x="3736" y="203"/>
                  <a:pt x="3746" y="196"/>
                </a:cubicBezTo>
                <a:cubicBezTo>
                  <a:pt x="3767" y="181"/>
                  <a:pt x="3818" y="172"/>
                  <a:pt x="3818" y="172"/>
                </a:cubicBezTo>
                <a:cubicBezTo>
                  <a:pt x="3840" y="150"/>
                  <a:pt x="3868" y="134"/>
                  <a:pt x="3890" y="112"/>
                </a:cubicBezTo>
                <a:cubicBezTo>
                  <a:pt x="3970" y="32"/>
                  <a:pt x="3854" y="116"/>
                  <a:pt x="3950" y="52"/>
                </a:cubicBezTo>
                <a:cubicBezTo>
                  <a:pt x="3958" y="40"/>
                  <a:pt x="3960" y="21"/>
                  <a:pt x="3974" y="16"/>
                </a:cubicBezTo>
                <a:cubicBezTo>
                  <a:pt x="4023" y="0"/>
                  <a:pt x="4024" y="42"/>
                  <a:pt x="4046" y="64"/>
                </a:cubicBezTo>
                <a:cubicBezTo>
                  <a:pt x="4056" y="74"/>
                  <a:pt x="4070" y="80"/>
                  <a:pt x="4082" y="88"/>
                </a:cubicBezTo>
                <a:cubicBezTo>
                  <a:pt x="4130" y="159"/>
                  <a:pt x="4136" y="202"/>
                  <a:pt x="4070" y="268"/>
                </a:cubicBezTo>
                <a:cubicBezTo>
                  <a:pt x="4040" y="358"/>
                  <a:pt x="4052" y="454"/>
                  <a:pt x="4022" y="544"/>
                </a:cubicBezTo>
                <a:cubicBezTo>
                  <a:pt x="4013" y="634"/>
                  <a:pt x="4012" y="684"/>
                  <a:pt x="3974" y="760"/>
                </a:cubicBezTo>
                <a:cubicBezTo>
                  <a:pt x="3973" y="769"/>
                  <a:pt x="3967" y="930"/>
                  <a:pt x="3950" y="976"/>
                </a:cubicBezTo>
                <a:cubicBezTo>
                  <a:pt x="3889" y="1139"/>
                  <a:pt x="3601" y="1128"/>
                  <a:pt x="3470" y="1144"/>
                </a:cubicBezTo>
                <a:cubicBezTo>
                  <a:pt x="3310" y="1192"/>
                  <a:pt x="3146" y="1229"/>
                  <a:pt x="2990" y="1288"/>
                </a:cubicBezTo>
                <a:cubicBezTo>
                  <a:pt x="2926" y="1312"/>
                  <a:pt x="2865" y="1347"/>
                  <a:pt x="2798" y="1360"/>
                </a:cubicBezTo>
                <a:cubicBezTo>
                  <a:pt x="2715" y="1376"/>
                  <a:pt x="2630" y="1368"/>
                  <a:pt x="2546" y="1372"/>
                </a:cubicBezTo>
                <a:cubicBezTo>
                  <a:pt x="2204" y="1406"/>
                  <a:pt x="1843" y="1388"/>
                  <a:pt x="1550" y="1192"/>
                </a:cubicBezTo>
                <a:cubicBezTo>
                  <a:pt x="1546" y="1224"/>
                  <a:pt x="1542" y="1256"/>
                  <a:pt x="1538" y="1288"/>
                </a:cubicBezTo>
                <a:cubicBezTo>
                  <a:pt x="1534" y="1328"/>
                  <a:pt x="1554" y="1380"/>
                  <a:pt x="1526" y="1408"/>
                </a:cubicBezTo>
                <a:cubicBezTo>
                  <a:pt x="1491" y="1443"/>
                  <a:pt x="1430" y="1432"/>
                  <a:pt x="1382" y="1444"/>
                </a:cubicBezTo>
                <a:cubicBezTo>
                  <a:pt x="1286" y="1404"/>
                  <a:pt x="1194" y="1351"/>
                  <a:pt x="1094" y="1324"/>
                </a:cubicBezTo>
                <a:cubicBezTo>
                  <a:pt x="1001" y="1299"/>
                  <a:pt x="902" y="1300"/>
                  <a:pt x="806" y="1288"/>
                </a:cubicBezTo>
                <a:cubicBezTo>
                  <a:pt x="774" y="1284"/>
                  <a:pt x="710" y="1276"/>
                  <a:pt x="710" y="1276"/>
                </a:cubicBezTo>
                <a:cubicBezTo>
                  <a:pt x="632" y="1250"/>
                  <a:pt x="705" y="1261"/>
                  <a:pt x="650" y="1360"/>
                </a:cubicBezTo>
                <a:cubicBezTo>
                  <a:pt x="644" y="1371"/>
                  <a:pt x="626" y="1368"/>
                  <a:pt x="614" y="1372"/>
                </a:cubicBezTo>
                <a:cubicBezTo>
                  <a:pt x="470" y="1340"/>
                  <a:pt x="322" y="1323"/>
                  <a:pt x="182" y="1276"/>
                </a:cubicBezTo>
                <a:cubicBezTo>
                  <a:pt x="150" y="1265"/>
                  <a:pt x="118" y="1237"/>
                  <a:pt x="110" y="1204"/>
                </a:cubicBezTo>
                <a:cubicBezTo>
                  <a:pt x="88" y="1110"/>
                  <a:pt x="117" y="1010"/>
                  <a:pt x="98" y="916"/>
                </a:cubicBezTo>
                <a:cubicBezTo>
                  <a:pt x="89" y="870"/>
                  <a:pt x="50" y="836"/>
                  <a:pt x="26" y="796"/>
                </a:cubicBezTo>
                <a:cubicBezTo>
                  <a:pt x="0" y="642"/>
                  <a:pt x="0" y="481"/>
                  <a:pt x="38" y="328"/>
                </a:cubicBezTo>
                <a:cubicBezTo>
                  <a:pt x="59" y="244"/>
                  <a:pt x="134" y="166"/>
                  <a:pt x="134" y="76"/>
                </a:cubicBezTo>
                <a:lnTo>
                  <a:pt x="530" y="18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33336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stles were built with a river or a moat surrounding them so that it was difficult for enemies to ge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576360" y="5373720"/>
            <a:ext cx="852480" cy="148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403280" y="119700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843280" y="47628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042920" y="270828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067280" y="213372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877080" y="3284640"/>
            <a:ext cx="10098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0.00208 0.00556 0.00486 0.01088 0.00625 0.01667 C 0.01441 0.04954 0.00173 0.08866 0.02708 0.11111 C 0.03264 0.11598 0.05746 0.12153 0.06041 0.12223 C 0.0743 0.1213 0.08889 0.12523 0.10208 0.11945 C 0.11736 0.11273 0.12777 0.08959 0.14375 0.08611 C 0.14774 0.08519 0.15208 0.08426 0.15625 0.08334 C 0.18142 0.1 0.20312 0.12246 0.22708 0.14167 C 0.23107 0.14074 0.24878 0.13773 0.25208 0.13334 C 0.25521 0.12917 0.25416 0.12176 0.25607 0.11667 C 0.25764 0.1132 0.26041 0.11111 0.2625 0.10834 C 0.26753 0.08125 0.26753 0.05348 0.27708 0.02778 E">
                                      <p:cBhvr>
                                        <p:cTn id="3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981080" y="1341360"/>
            <a:ext cx="12434760" cy="7210440"/>
          </a:xfrm>
          <a:custGeom>
            <a:avLst/>
            <a:gdLst/>
            <a:ahLst/>
            <a:rect l="l" t="t" r="r" b="b"/>
            <a:pathLst>
              <a:path w="7833" h="4542">
                <a:moveTo>
                  <a:pt x="412" y="2688"/>
                </a:moveTo>
                <a:cubicBezTo>
                  <a:pt x="764" y="2723"/>
                  <a:pt x="572" y="2709"/>
                  <a:pt x="988" y="2724"/>
                </a:cubicBezTo>
                <a:cubicBezTo>
                  <a:pt x="1121" y="2746"/>
                  <a:pt x="1171" y="2759"/>
                  <a:pt x="1348" y="2724"/>
                </a:cubicBezTo>
                <a:cubicBezTo>
                  <a:pt x="1364" y="2721"/>
                  <a:pt x="1352" y="2690"/>
                  <a:pt x="1360" y="2676"/>
                </a:cubicBezTo>
                <a:cubicBezTo>
                  <a:pt x="1368" y="2661"/>
                  <a:pt x="1381" y="2648"/>
                  <a:pt x="1396" y="2640"/>
                </a:cubicBezTo>
                <a:cubicBezTo>
                  <a:pt x="1653" y="2497"/>
                  <a:pt x="1349" y="2695"/>
                  <a:pt x="1504" y="2592"/>
                </a:cubicBezTo>
                <a:cubicBezTo>
                  <a:pt x="1533" y="2548"/>
                  <a:pt x="1529" y="2549"/>
                  <a:pt x="1576" y="2508"/>
                </a:cubicBezTo>
                <a:cubicBezTo>
                  <a:pt x="1591" y="2495"/>
                  <a:pt x="1611" y="2487"/>
                  <a:pt x="1624" y="2472"/>
                </a:cubicBezTo>
                <a:cubicBezTo>
                  <a:pt x="1685" y="2403"/>
                  <a:pt x="1693" y="2348"/>
                  <a:pt x="1768" y="2292"/>
                </a:cubicBezTo>
                <a:cubicBezTo>
                  <a:pt x="1807" y="2214"/>
                  <a:pt x="1779" y="2257"/>
                  <a:pt x="1864" y="2172"/>
                </a:cubicBezTo>
                <a:cubicBezTo>
                  <a:pt x="1920" y="2116"/>
                  <a:pt x="1966" y="2050"/>
                  <a:pt x="2020" y="1992"/>
                </a:cubicBezTo>
                <a:cubicBezTo>
                  <a:pt x="2194" y="1804"/>
                  <a:pt x="2092" y="1936"/>
                  <a:pt x="2176" y="1824"/>
                </a:cubicBezTo>
                <a:cubicBezTo>
                  <a:pt x="2200" y="1727"/>
                  <a:pt x="2246" y="1658"/>
                  <a:pt x="2284" y="1572"/>
                </a:cubicBezTo>
                <a:cubicBezTo>
                  <a:pt x="2314" y="1504"/>
                  <a:pt x="2316" y="1480"/>
                  <a:pt x="2368" y="1428"/>
                </a:cubicBezTo>
                <a:cubicBezTo>
                  <a:pt x="2396" y="1343"/>
                  <a:pt x="2425" y="1286"/>
                  <a:pt x="2500" y="1236"/>
                </a:cubicBezTo>
                <a:cubicBezTo>
                  <a:pt x="2696" y="1256"/>
                  <a:pt x="2891" y="1274"/>
                  <a:pt x="3088" y="1284"/>
                </a:cubicBezTo>
                <a:cubicBezTo>
                  <a:pt x="4155" y="1271"/>
                  <a:pt x="3783" y="1350"/>
                  <a:pt x="4192" y="1248"/>
                </a:cubicBezTo>
                <a:cubicBezTo>
                  <a:pt x="4277" y="1185"/>
                  <a:pt x="4378" y="1142"/>
                  <a:pt x="4480" y="1116"/>
                </a:cubicBezTo>
                <a:cubicBezTo>
                  <a:pt x="4526" y="1085"/>
                  <a:pt x="4573" y="1085"/>
                  <a:pt x="4624" y="1068"/>
                </a:cubicBezTo>
                <a:cubicBezTo>
                  <a:pt x="4748" y="1086"/>
                  <a:pt x="4688" y="1068"/>
                  <a:pt x="4744" y="1152"/>
                </a:cubicBezTo>
                <a:cubicBezTo>
                  <a:pt x="4748" y="1176"/>
                  <a:pt x="4744" y="1203"/>
                  <a:pt x="4756" y="1224"/>
                </a:cubicBezTo>
                <a:cubicBezTo>
                  <a:pt x="4773" y="1253"/>
                  <a:pt x="4813" y="1266"/>
                  <a:pt x="4828" y="1296"/>
                </a:cubicBezTo>
                <a:cubicBezTo>
                  <a:pt x="4861" y="1362"/>
                  <a:pt x="4838" y="1333"/>
                  <a:pt x="4900" y="1380"/>
                </a:cubicBezTo>
                <a:cubicBezTo>
                  <a:pt x="4932" y="1493"/>
                  <a:pt x="4933" y="1499"/>
                  <a:pt x="5044" y="1536"/>
                </a:cubicBezTo>
                <a:cubicBezTo>
                  <a:pt x="5083" y="1615"/>
                  <a:pt x="5062" y="1549"/>
                  <a:pt x="5104" y="1632"/>
                </a:cubicBezTo>
                <a:cubicBezTo>
                  <a:pt x="5143" y="1709"/>
                  <a:pt x="5112" y="1713"/>
                  <a:pt x="5188" y="1764"/>
                </a:cubicBezTo>
                <a:cubicBezTo>
                  <a:pt x="5268" y="1760"/>
                  <a:pt x="5350" y="1770"/>
                  <a:pt x="5428" y="1752"/>
                </a:cubicBezTo>
                <a:cubicBezTo>
                  <a:pt x="5445" y="1748"/>
                  <a:pt x="5443" y="1719"/>
                  <a:pt x="5452" y="1704"/>
                </a:cubicBezTo>
                <a:cubicBezTo>
                  <a:pt x="5467" y="1679"/>
                  <a:pt x="5500" y="1632"/>
                  <a:pt x="5500" y="1632"/>
                </a:cubicBezTo>
                <a:cubicBezTo>
                  <a:pt x="5527" y="1443"/>
                  <a:pt x="5560" y="1249"/>
                  <a:pt x="5620" y="1068"/>
                </a:cubicBezTo>
                <a:cubicBezTo>
                  <a:pt x="5624" y="1100"/>
                  <a:pt x="5600" y="1164"/>
                  <a:pt x="5632" y="1164"/>
                </a:cubicBezTo>
                <a:cubicBezTo>
                  <a:pt x="5645" y="1164"/>
                  <a:pt x="5744" y="1064"/>
                  <a:pt x="5776" y="1032"/>
                </a:cubicBezTo>
                <a:cubicBezTo>
                  <a:pt x="5885" y="1059"/>
                  <a:pt x="5878" y="1055"/>
                  <a:pt x="6028" y="1044"/>
                </a:cubicBezTo>
                <a:cubicBezTo>
                  <a:pt x="6052" y="1036"/>
                  <a:pt x="6085" y="1040"/>
                  <a:pt x="6100" y="1020"/>
                </a:cubicBezTo>
                <a:cubicBezTo>
                  <a:pt x="6158" y="942"/>
                  <a:pt x="6130" y="817"/>
                  <a:pt x="6172" y="732"/>
                </a:cubicBezTo>
                <a:cubicBezTo>
                  <a:pt x="6198" y="680"/>
                  <a:pt x="6242" y="640"/>
                  <a:pt x="6268" y="588"/>
                </a:cubicBezTo>
                <a:cubicBezTo>
                  <a:pt x="6277" y="511"/>
                  <a:pt x="6277" y="407"/>
                  <a:pt x="6316" y="336"/>
                </a:cubicBezTo>
                <a:cubicBezTo>
                  <a:pt x="6341" y="290"/>
                  <a:pt x="6406" y="277"/>
                  <a:pt x="6448" y="264"/>
                </a:cubicBezTo>
                <a:cubicBezTo>
                  <a:pt x="6557" y="230"/>
                  <a:pt x="6671" y="225"/>
                  <a:pt x="6784" y="216"/>
                </a:cubicBezTo>
                <a:cubicBezTo>
                  <a:pt x="6792" y="204"/>
                  <a:pt x="6803" y="194"/>
                  <a:pt x="6808" y="180"/>
                </a:cubicBezTo>
                <a:cubicBezTo>
                  <a:pt x="6824" y="133"/>
                  <a:pt x="6817" y="77"/>
                  <a:pt x="6844" y="36"/>
                </a:cubicBezTo>
                <a:cubicBezTo>
                  <a:pt x="6852" y="24"/>
                  <a:pt x="6868" y="0"/>
                  <a:pt x="6868" y="0"/>
                </a:cubicBezTo>
                <a:cubicBezTo>
                  <a:pt x="7750" y="2329"/>
                  <a:pt x="7653" y="1598"/>
                  <a:pt x="7804" y="2808"/>
                </a:cubicBezTo>
                <a:cubicBezTo>
                  <a:pt x="7823" y="3220"/>
                  <a:pt x="7833" y="3541"/>
                  <a:pt x="7816" y="3984"/>
                </a:cubicBezTo>
                <a:cubicBezTo>
                  <a:pt x="7812" y="4089"/>
                  <a:pt x="7789" y="4124"/>
                  <a:pt x="7720" y="4200"/>
                </a:cubicBezTo>
                <a:cubicBezTo>
                  <a:pt x="7659" y="4267"/>
                  <a:pt x="7528" y="4392"/>
                  <a:pt x="7528" y="4392"/>
                </a:cubicBezTo>
                <a:cubicBezTo>
                  <a:pt x="7518" y="4454"/>
                  <a:pt x="7537" y="4476"/>
                  <a:pt x="7468" y="4476"/>
                </a:cubicBezTo>
                <a:cubicBezTo>
                  <a:pt x="7104" y="4476"/>
                  <a:pt x="6740" y="4468"/>
                  <a:pt x="6376" y="4464"/>
                </a:cubicBezTo>
                <a:cubicBezTo>
                  <a:pt x="5756" y="4430"/>
                  <a:pt x="5135" y="4468"/>
                  <a:pt x="4516" y="4416"/>
                </a:cubicBezTo>
                <a:cubicBezTo>
                  <a:pt x="3508" y="4439"/>
                  <a:pt x="2501" y="4492"/>
                  <a:pt x="1492" y="4512"/>
                </a:cubicBezTo>
                <a:cubicBezTo>
                  <a:pt x="1195" y="4542"/>
                  <a:pt x="899" y="4513"/>
                  <a:pt x="604" y="4476"/>
                </a:cubicBezTo>
                <a:cubicBezTo>
                  <a:pt x="419" y="4414"/>
                  <a:pt x="244" y="4361"/>
                  <a:pt x="76" y="4260"/>
                </a:cubicBezTo>
                <a:cubicBezTo>
                  <a:pt x="0" y="3956"/>
                  <a:pt x="49" y="3632"/>
                  <a:pt x="88" y="3324"/>
                </a:cubicBezTo>
                <a:cubicBezTo>
                  <a:pt x="100" y="3228"/>
                  <a:pt x="111" y="3132"/>
                  <a:pt x="124" y="3036"/>
                </a:cubicBezTo>
                <a:cubicBezTo>
                  <a:pt x="131" y="2988"/>
                  <a:pt x="148" y="2892"/>
                  <a:pt x="148" y="2892"/>
                </a:cubicBezTo>
                <a:cubicBezTo>
                  <a:pt x="152" y="2820"/>
                  <a:pt x="152" y="2748"/>
                  <a:pt x="160" y="2676"/>
                </a:cubicBezTo>
                <a:cubicBezTo>
                  <a:pt x="164" y="2643"/>
                  <a:pt x="163" y="2605"/>
                  <a:pt x="184" y="2580"/>
                </a:cubicBezTo>
                <a:cubicBezTo>
                  <a:pt x="222" y="2534"/>
                  <a:pt x="299" y="2529"/>
                  <a:pt x="352" y="2520"/>
                </a:cubicBezTo>
                <a:cubicBezTo>
                  <a:pt x="363" y="2586"/>
                  <a:pt x="349" y="2619"/>
                  <a:pt x="412" y="2640"/>
                </a:cubicBezTo>
                <a:cubicBezTo>
                  <a:pt x="426" y="2681"/>
                  <a:pt x="433" y="2667"/>
                  <a:pt x="412" y="2688"/>
                </a:cubicBez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3887640" cy="2925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-1549440" y="3068640"/>
            <a:ext cx="1162080" cy="13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3600" y="4121280"/>
            <a:ext cx="5861160" cy="1798560"/>
          </a:xfrm>
          <a:custGeom>
            <a:avLst/>
            <a:gdLst/>
            <a:ahLst/>
            <a:rect l="l" t="t" r="r" b="b"/>
            <a:pathLst>
              <a:path w="3692" h="1133">
                <a:moveTo>
                  <a:pt x="190" y="176"/>
                </a:moveTo>
                <a:cubicBezTo>
                  <a:pt x="211" y="217"/>
                  <a:pt x="245" y="334"/>
                  <a:pt x="274" y="356"/>
                </a:cubicBezTo>
                <a:cubicBezTo>
                  <a:pt x="341" y="407"/>
                  <a:pt x="410" y="425"/>
                  <a:pt x="490" y="452"/>
                </a:cubicBezTo>
                <a:cubicBezTo>
                  <a:pt x="767" y="544"/>
                  <a:pt x="944" y="538"/>
                  <a:pt x="1258" y="548"/>
                </a:cubicBezTo>
                <a:cubicBezTo>
                  <a:pt x="1546" y="557"/>
                  <a:pt x="1532" y="558"/>
                  <a:pt x="1786" y="572"/>
                </a:cubicBezTo>
                <a:cubicBezTo>
                  <a:pt x="3692" y="552"/>
                  <a:pt x="2515" y="617"/>
                  <a:pt x="3070" y="524"/>
                </a:cubicBezTo>
                <a:cubicBezTo>
                  <a:pt x="3094" y="500"/>
                  <a:pt x="3114" y="471"/>
                  <a:pt x="3142" y="452"/>
                </a:cubicBezTo>
                <a:cubicBezTo>
                  <a:pt x="3163" y="438"/>
                  <a:pt x="3191" y="439"/>
                  <a:pt x="3214" y="428"/>
                </a:cubicBezTo>
                <a:cubicBezTo>
                  <a:pt x="3259" y="406"/>
                  <a:pt x="3269" y="382"/>
                  <a:pt x="3298" y="344"/>
                </a:cubicBezTo>
                <a:cubicBezTo>
                  <a:pt x="3328" y="253"/>
                  <a:pt x="3327" y="297"/>
                  <a:pt x="3310" y="212"/>
                </a:cubicBezTo>
                <a:cubicBezTo>
                  <a:pt x="3390" y="0"/>
                  <a:pt x="3321" y="8"/>
                  <a:pt x="3526" y="8"/>
                </a:cubicBezTo>
                <a:cubicBezTo>
                  <a:pt x="3539" y="8"/>
                  <a:pt x="3550" y="16"/>
                  <a:pt x="3562" y="20"/>
                </a:cubicBezTo>
                <a:cubicBezTo>
                  <a:pt x="3594" y="115"/>
                  <a:pt x="3582" y="67"/>
                  <a:pt x="3598" y="164"/>
                </a:cubicBezTo>
                <a:cubicBezTo>
                  <a:pt x="3603" y="283"/>
                  <a:pt x="3622" y="467"/>
                  <a:pt x="3598" y="596"/>
                </a:cubicBezTo>
                <a:cubicBezTo>
                  <a:pt x="3587" y="656"/>
                  <a:pt x="3490" y="781"/>
                  <a:pt x="3454" y="836"/>
                </a:cubicBezTo>
                <a:cubicBezTo>
                  <a:pt x="3444" y="851"/>
                  <a:pt x="3436" y="867"/>
                  <a:pt x="3430" y="884"/>
                </a:cubicBezTo>
                <a:cubicBezTo>
                  <a:pt x="3424" y="899"/>
                  <a:pt x="3434" y="929"/>
                  <a:pt x="3418" y="932"/>
                </a:cubicBezTo>
                <a:cubicBezTo>
                  <a:pt x="3272" y="955"/>
                  <a:pt x="3122" y="948"/>
                  <a:pt x="2974" y="956"/>
                </a:cubicBezTo>
                <a:cubicBezTo>
                  <a:pt x="2637" y="1040"/>
                  <a:pt x="2276" y="1041"/>
                  <a:pt x="1930" y="1076"/>
                </a:cubicBezTo>
                <a:cubicBezTo>
                  <a:pt x="1759" y="1133"/>
                  <a:pt x="1565" y="1070"/>
                  <a:pt x="1390" y="1052"/>
                </a:cubicBezTo>
                <a:cubicBezTo>
                  <a:pt x="1326" y="1028"/>
                  <a:pt x="1264" y="999"/>
                  <a:pt x="1198" y="980"/>
                </a:cubicBezTo>
                <a:cubicBezTo>
                  <a:pt x="1167" y="971"/>
                  <a:pt x="1133" y="978"/>
                  <a:pt x="1102" y="968"/>
                </a:cubicBezTo>
                <a:cubicBezTo>
                  <a:pt x="1083" y="962"/>
                  <a:pt x="1073" y="938"/>
                  <a:pt x="1054" y="932"/>
                </a:cubicBezTo>
                <a:cubicBezTo>
                  <a:pt x="948" y="899"/>
                  <a:pt x="826" y="899"/>
                  <a:pt x="718" y="872"/>
                </a:cubicBezTo>
                <a:cubicBezTo>
                  <a:pt x="587" y="794"/>
                  <a:pt x="458" y="712"/>
                  <a:pt x="322" y="644"/>
                </a:cubicBezTo>
                <a:cubicBezTo>
                  <a:pt x="250" y="536"/>
                  <a:pt x="173" y="485"/>
                  <a:pt x="46" y="464"/>
                </a:cubicBezTo>
                <a:cubicBezTo>
                  <a:pt x="0" y="433"/>
                  <a:pt x="10" y="454"/>
                  <a:pt x="10" y="404"/>
                </a:cubicBezTo>
                <a:lnTo>
                  <a:pt x="190" y="17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-1332000" y="6597720"/>
            <a:ext cx="863640" cy="150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292720" y="472428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hink that the best defended castle would be one on a hill with a river or a moat roun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95280" y="177336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843280" y="33336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11280" y="3500280"/>
            <a:ext cx="1009440" cy="54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6443640" y="18900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6227640" y="2349360"/>
            <a:ext cx="1009800" cy="546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7812000" y="476280"/>
            <a:ext cx="10098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06412 C 0.06962 -0.06273 0.07274 -0.06227 0.07569 -0.06018 C 0.07899 -0.05741 0.0809 -0.05116 0.08507 -0.05046 C 0.09444 -0.04884 0.10434 -0.05208 0.11406 -0.05301 C 0.12291 -0.05879 0.12274 -0.06203 0.12448 -0.07453 C 0.1243 -0.1 0.12361 -0.125 0.11493 -0.14838 C 0.11545 -0.18495 0.11232 -0.22199 0.11649 -0.2581 C 0.11701 -0.26366 0.12413 -0.26389 0.1283 -0.26574 C 0.13489 -0.26852 0.14184 -0.2706 0.14861 -0.27268 C 0.16771 -0.27708 0.18698 -0.28102 0.20607 -0.28541 C 0.2158 -0.29676 0.2151 -0.29282 0.21319 -0.32037 C 0.20937 -0.36736 0.21649 -0.38032 0.19166 -0.38657 C 0.16371 -0.37384 0.12587 -0.35532 0.10087 -0.37014 C 0.0868 -0.3787 0.0993 -0.41088 0.09878 -0.43148 C 0.09878 -0.43703 0.09652 -0.44421 0.0993 -0.44838 C 0.10243 -0.45347 0.10868 -0.45231 0.11337 -0.4537 C 0.1243 -0.45694 0.13524 -0.45949 0.14618 -0.46227 C 0.15503 -0.47037 0.16423 -0.47685 0.17343 -0.48403 C 0.1809 -0.49745 0.19028 -0.50787 0.19913 -0.51991 C 0.20486 -0.52708 0.20868 -0.53634 0.21354 -0.54467 C 0.22014 -0.55602 0.23923 -0.55972 0.2493 -0.56528 C 0.27916 -0.56389 0.30677 -0.58541 0.33403 -0.60023 C 0.3434 -0.60486 0.35278 -0.60856 0.36215 -0.61342 C 0.37552 -0.6294 0.38576 -0.64815 0.39653 -0.66713 E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1 0.03102 C 0.05469 0.03935 0.054 0.05 0.05886 0.05602 C 0.06302 0.06111 0.06997 0.05741 0.07552 0.0588 C 0.08108 0.06018 0.08663 0.0625 0.09219 0.06435 C 0.11667 0.06227 0.12969 0.0669 0.14636 0.04491 C 0.14879 0.02546 0.15087 0.02014 0.14844 0.00046 C 0.14913 -0.01991 0.14948 -0.04028 0.15052 -0.06065 C 0.15295 -0.10486 0.18924 -0.10417 0.21493 -0.10787 C 0.23125 -0.10255 0.23368 -0.10255 0.24219 -0.08565 C 0.27344 -0.08982 0.30174 -0.0838 0.31719 -0.12454 C 0.32032 -0.15833 0.31632 -0.16713 0.30677 -0.19676 C 0.30972 -0.22801 0.30608 -0.23472 0.31927 -0.25232 E">
                                      <p:cBhvr>
                                        <p:cTn id="4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113440" cy="360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4640" y="54756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les were an important part of society in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medieval times. Lots of people lived in &amp; a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les and they all needed protecting if the cas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e being attacked . This is why it is so importa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castles in as safe a plac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1:39:29Z</dcterms:created>
  <dc:creator>ESW Lab PC</dc:creator>
  <dc:description/>
  <dc:language>en-US</dc:language>
  <cp:lastModifiedBy>ESW Lab PC</cp:lastModifiedBy>
  <dcterms:modified xsi:type="dcterms:W3CDTF">2004-03-17T12:24:38Z</dcterms:modified>
  <cp:revision>9</cp:revision>
  <dc:subject/>
  <dc:title>Castle Defence</dc:title>
</cp:coreProperties>
</file>